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F036-457C-46E1-8042-86F6F80B5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C3DC-D043-413A-ABAC-F096E90DA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A863-6644-49AF-8F81-746DA26D7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8946-5FED-40AA-B6E0-C8BA02225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53C7-F27E-49F1-BE81-59B5DD511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208E-F4D9-4295-97A5-6A703E9B4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6F4E-BE99-4507-B888-31C19B3AF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646D-C016-43A1-992F-FE6D22CDF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A716-AFD3-4AD4-9A98-3DF9265AA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CD13-BE18-44B7-9DBD-98EA22CB7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1C86-DCAF-4021-A960-0DB83A7A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48D4-AA21-45F9-97B3-E5E136BC0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6DC5F-A89E-4E53-A0C1-2531AA4683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joe@mistachkin.co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ssil: Reloa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Tcl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I use T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since Fossil does not currently service the Tcl Event Loop, us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wa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ll almost certainly be requi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Tcl from Foss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cl integration has been enabled at compile-time and runtime (via the “tcl” setting), it can be used anywhere it is legal to use TH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ccomplished using several new TH1 commands, namel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ll defined in the source fil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_tcl.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cl brid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H1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can be used anywhere TH1 is leg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cl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xp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for accessing Fossil / TH1-specific functionality from a Tcl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“Enhanced Default” sk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TclVersion {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[catch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Eval info patch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tclVersion] == 0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"&lt;a href=\"http://www.tcl.tk/\"&gt;Tcl&lt;/a&gt; version $tclVersion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tclVersion [getTclVersio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vanced” Exampl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from the test suit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: This may be unsafe due to the possibility of multiple copies of the SQLite library in the process (e.g. on Linux).  Also, please do NOT write to the Fossi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clInvoke set repository_name [repository 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userCount [tclEval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ckage require sqlit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qlite3 db $repository_name -readonly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x [db eval {SELECT COUNT(*) FROM user;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 cl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$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 Dangerous Enoug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Hooks: Enables a TH1 (optionally with Tcl) script to be evaluated just prior to [and/or just after] any Fossil command or web p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efine or log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pre-processing and/or post-processing for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 line arguments to the command can be seen by the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Ho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hook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Hook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inside “.fossil-settings/th1-setup” file inside of a test reposi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 command_hook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{$::cmd_name eq "timeline"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$::cmd_args\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"Tcl [tclEval {info patchlevel}]\n\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ill Need More Dang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Docs: Enables TH1 scripts to be evaluated when a “th1” file is viewed as embedded docum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bled by default at compile-time and run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RNING: This option should only be enabled on a repository where all users with check-in privileges are “implicitly trusted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Do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100% sure that you want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do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provides built-in scripting capabilities for Fossil; however, it is a small subset of “full”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as a significant demand for advanced features that could be easily scripted if full Tcl was available (e.g. email notifications for check-i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Doc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is is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.th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in the root of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sitory checkout, it could be vie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 UR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://localhost:8080/doc/ckout/example.t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initialize 5; # enable Tcl, if configu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 "Tcl 2 ** 2 == [tclEval {expr 2 ** 2}]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/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w “fileStat.th1”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more complete example of how to make use of TH1 Docs and Tcl integ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e Mistachkin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oe@mistachkin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lace TH1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.  It was decided very early on that replacing TH1 would be too much of a break with backwards compati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, a dual-language solution was developed that involves seamless bi-directional “bridging” of TH1 and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with Tcl 8.4 or higher.  Supported on all platforms where dynamic loading is avail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, the new “private stubs” mechanism should be used (created by Jan Nijtma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Linux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a Fossil source check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utomatic detection of Tcl library wor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stub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wise, something like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vate Stub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llow Fossil to be compiled with Tcl integration support without needing to locate an actual Tcl (or stubs) library at compile-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ommended Compile O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ill configure Fossil to use the in-tree zlib, enable OpenSSL and JSON, and enable Tcl integr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zlib=compat/zlib --with-openssl=auto --json=1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Window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MSVC is recommen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“buildmsvc.bat” tool from a Fossil source checkout is recommended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d w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uildmsvc.bat fossil.exe FOSSIL_ENABLE_TCL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at, it built, now wh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have a Fossil binary with Tcl integration enabled, there is [at least] one more step to be able to evaluate Tcl from within Fossil, which is to enable the “tcl” setting using a command similar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ssil settings tc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an be set per-repository or globally.  It is disabled by defa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1T22:16:42Z</dcterms:created>
  <dc:creator>Joe Mistachkin</dc:creator>
  <dc:description/>
  <dc:language>en-US</dc:language>
  <cp:lastModifiedBy>Joe Mistachkin</cp:lastModifiedBy>
  <dcterms:modified xsi:type="dcterms:W3CDTF">2014-10-11T23:33:53Z</dcterms:modified>
  <cp:revision>74</cp:revision>
  <dc:subject/>
  <dc:title>Fossil</dc:title>
</cp:coreProperties>
</file>