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71855-EB01-426C-A21A-434240D903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9BB19-1600-4351-A884-8B7E3EF793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917B6-E615-47E2-8E06-D686231E7E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75D51-97D3-4C14-9486-BE05F7A4EC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B0947-7E96-4DA6-8096-1B7EC658C1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A8875-1156-4142-A7DF-C9BAA70464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9DBFB-D89D-4ECD-9422-08BE05673C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4D63F-3BC6-4D3B-AC4B-1837BE7C05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F7EB0-BDD7-41E2-8B3A-421EC4FEE8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299F9-ED4A-4CB4-A61F-44D43123F3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51350-8044-458F-AF63-550D8E2DBB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35451-83CC-428B-BCA3-07340350E5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256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00360" y="6549840"/>
            <a:ext cx="4176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30840" y="6289200"/>
            <a:ext cx="514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800" spc="-1" strike="noStrike">
                <a:solidFill>
                  <a:srgbClr val="0a256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3F70-8FA3-4D58-91B2-F0D31434D17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397E-BFC7-4FD6-833F-AFF2E4F8753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a2565"/>
                </a:solidFill>
                <a:latin typeface="Arial"/>
              </a:rPr>
              <a:t>Cook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a2565"/>
                </a:solidFill>
                <a:latin typeface="Arial"/>
              </a:rPr>
              <a:t>Wojciech Kocjan, 2010-10-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ED4F-DE59-4792-A0B0-468DFBE3CAF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eeps structure of an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stores a tree of all files and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tains information such as mtime for all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ll information read when VFS is mounted and kept entirely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events illegal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t possible to create a file/directory as child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eration such as changing a file to a directory are also blocked by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0538-6FCB-43FC-BA83-004E209E641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tores mapping of pages to fil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formation on each file has references to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list of pages – page number, offset in page and data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files can reuse same page(s) if their contents is the same – automatically detected by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1765-BE75-4C8A-A0D8-C7DB6B29CF9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pages and index to provide complete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handlers for VFS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index used for file information operations such asl isting files, getting and setting file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ovides channels for reading mechan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ndles seek and read operations – data retrieved directly from pages, not read entirely to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 creat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ha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or channel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EDCA-0101-499C-B529-26E1A90D6A1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memchan for writing to cookfs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itiated as empty or containing previous content of a file, depending on how file was o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en memchan is closed closed, its contents is added to archive or queued for ad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Files above specified size are added right a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mall files added in batches and grouped by file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VFS layer is currently implemented in Tcl; 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clvf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package for providing Tcl virtual file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8F21-2292-4558-A2AC-D17B8FBF837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A48E-8971-4CCE-A4A8-231C9AB6EE1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Mk4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offers multiple compression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bzip2 also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ZMA support planned for future rel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838F-D5F2-4A71-807D-309468DB2C4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 – continu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k4 VFS and cookfs implemented in C+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uses Mk4tcl for underlying sto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tcl written in C++ - requires additional libraries (libstdc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uses C code for storage; pure Tcl version work in progress – C version will provide better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Both technologies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3C3D-ECBC-4AB0-8093-CA47D4A7CAA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IP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ZIP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IP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provides other compressiona algorith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IP VFS uses a known standard for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tools for managing ZIP archive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be created from various tools such a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EC93-6A29-42DF-83B3-797B0EB6B89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ther related projects and/or alterna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o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ure C solution for single file archives; designed for Tcl modules in m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, simply concatenates file contents and metadata on stored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ar V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tar archive format for storing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 by defa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AEEA-BF80-4FE3-9900-2C0D8A37D87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D02E-3EB2-420C-B05A-FF91DA981C6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1089-38F2-4906-BC79-F4ED8FC972B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related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httpd 3.5.1 – embedded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ly small packag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often used in Tcl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460k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llib 1.11.1 – set of commonly used Tcl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12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ctiveTcl 8.4 – sample of Tcl binaries and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stallation of ActiveTcl 8.4.19.0 for Lin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71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D:\My Dropbox\TclConf2010\Images\sample_activetcl84_linux_1.png"/>
          <p:cNvPicPr/>
          <p:nvPr/>
        </p:nvPicPr>
        <p:blipFill>
          <a:blip r:embed="rId1"/>
          <a:stretch/>
        </p:blipFill>
        <p:spPr>
          <a:xfrm>
            <a:off x="6100920" y="4508640"/>
            <a:ext cx="2863800" cy="162072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504A-0FA2-4C4C-B1ED-6DD4E7F53CC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02" name="Picture 3" descr="D:\My Dropbox\TclConf2010\Images\sample_tcllib_size.png"/>
          <p:cNvPicPr/>
          <p:nvPr/>
        </p:nvPicPr>
        <p:blipFill>
          <a:blip r:embed="rId2"/>
          <a:stretch/>
        </p:blipFill>
        <p:spPr>
          <a:xfrm>
            <a:off x="233280" y="27813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:\My Dropbox\TclConf2010\Images\sample_tclhttpd_size.png"/>
          <p:cNvPicPr/>
          <p:nvPr/>
        </p:nvPicPr>
        <p:blipFill>
          <a:blip r:embed="rId3"/>
          <a:stretch/>
        </p:blipFill>
        <p:spPr>
          <a:xfrm>
            <a:off x="233280" y="1052640"/>
            <a:ext cx="5684760" cy="162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:\My Dropbox\TclConf2010\Images\sample_tcllib_linux_1.png"/>
          <p:cNvPicPr/>
          <p:nvPr/>
        </p:nvPicPr>
        <p:blipFill>
          <a:blip r:embed="rId4"/>
          <a:stretch/>
        </p:blipFill>
        <p:spPr>
          <a:xfrm>
            <a:off x="6100920" y="2781360"/>
            <a:ext cx="2863800" cy="1619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:\My Dropbox\TclConf2010\Images\sample_tclhttpd_linux_1.png"/>
          <p:cNvPicPr/>
          <p:nvPr/>
        </p:nvPicPr>
        <p:blipFill>
          <a:blip r:embed="rId5"/>
          <a:stretch/>
        </p:blipFill>
        <p:spPr>
          <a:xfrm>
            <a:off x="6100920" y="1052640"/>
            <a:ext cx="2863800" cy="16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D:\My Dropbox\TclConf2010\Images\sample_activetcl84_size.png"/>
          <p:cNvPicPr/>
          <p:nvPr/>
        </p:nvPicPr>
        <p:blipFill>
          <a:blip r:embed="rId6"/>
          <a:stretch/>
        </p:blipFill>
        <p:spPr>
          <a:xfrm>
            <a:off x="233280" y="4508640"/>
            <a:ext cx="56847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5691-A29B-41FA-90B9-C05DA0ABE7A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on-tcl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Joomla and LAMP – BitNami Joomla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of packaging non-Tcl content into an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omla stack  for Linux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ache, MySQL and PH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224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Redmine – BitNami Redmin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dmine application with Ruby and all other artif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535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194C-82C4-4656-8BF2-6D7722CF8EB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12" name="Picture 2" descr="D:\My Dropbox\TclConf2010\Images\sample_joomla_lamp_size.png"/>
          <p:cNvPicPr/>
          <p:nvPr/>
        </p:nvPicPr>
        <p:blipFill>
          <a:blip r:embed="rId1"/>
          <a:stretch/>
        </p:blipFill>
        <p:spPr>
          <a:xfrm>
            <a:off x="233280" y="18795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D:\My Dropbox\TclConf2010\Images\sample_joomla_lamp_linux_1.png"/>
          <p:cNvPicPr/>
          <p:nvPr/>
        </p:nvPicPr>
        <p:blipFill>
          <a:blip r:embed="rId2"/>
          <a:stretch/>
        </p:blipFill>
        <p:spPr>
          <a:xfrm>
            <a:off x="6102360" y="1879560"/>
            <a:ext cx="286236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D:\My Dropbox\TclConf2010\Images\sample_redmine_rubystack_size.png"/>
          <p:cNvPicPr/>
          <p:nvPr/>
        </p:nvPicPr>
        <p:blipFill>
          <a:blip r:embed="rId3"/>
          <a:stretch/>
        </p:blipFill>
        <p:spPr>
          <a:xfrm>
            <a:off x="233280" y="361008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D:\My Dropbox\TclConf2010\Images\sample_redmine_rubystack_linux_1.png"/>
          <p:cNvPicPr/>
          <p:nvPr/>
        </p:nvPicPr>
        <p:blipFill>
          <a:blip r:embed="rId4"/>
          <a:stretch/>
        </p:blipFill>
        <p:spPr>
          <a:xfrm>
            <a:off x="6102360" y="3610080"/>
            <a:ext cx="28623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A0ACD-7423-445E-8369-2495CD4644B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80E3-F493-472F-8848-36EB0A1C9EB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is a tclkit-like binary that has Tcl, core libraries and VFS included in a singl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cludes Tcl (optionally Tk) and cookfs linked 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an be used in same ways as tclk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running other scripts – Tcl scripts, cookfs and zip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building standalone applications – by adding files to cookfs archive, including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s interactive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hell in a singl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9216-1A19-4451-A771-5A045BA8D4A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and Tcl 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Main()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as custom application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ads initialization Tcl code from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itializes tclvfs and Tcl libraries after mounting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ile is present in cookfs archive, cookit sourc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orks as standalone 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ther packages can be placed in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b/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directory; they can be loaded using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E9F4-C2C6-48F1-8E54-353FC9D93C5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build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ngine for building packages and linking 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s logic to handle dependencies, comparing ver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commands to build entire cookit or just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s definitions for cookit parts – i.e. tcl, tk, vfs,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Each part defines how it is configured and bui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isting files to add to cookit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reate additional scripts for cookit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 adding static packages to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1C66-AD4E-4928-9C8C-87A4E4EDB4C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Building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wnload cookit build system from SourceForge:</a:t>
            </a:r>
            <a:br>
              <a:rPr sz="2400"/>
            </a:b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http://sourceforge.net/projects/cookit/files/cooki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trieve Tcl, Tk, tclvfs and cookfs sources: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retrievesource tcl tk vfs cook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ing default cookit (without Tk)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 with Tk embedded statically (i.e. for MS Windows)</a:t>
            </a:r>
            <a:r>
              <a:rPr b="0" lang="pl-PL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6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–tk latest 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B0B3-838D-444E-A784-31B68B91247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uns in command prom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cludes Tk and only provides UI m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tforms currently bui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latforms can be built from sourc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C523-6EB4-428A-8975-83870DBCCA4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one of first languages to ship applications as single execu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wrap – first Tcl solution for putting multiple files in single executable; uses ZIP based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eeWrap – one of first freely available solutions; uses 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Kit – one of most popular solutions for bundling applications; uses Mk4-based VFS and uses Tcl 8.4 VF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23B1-50A0-4496-8D53-23A5CBAC5A0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7085-1047-46A5-96D3-B5255913368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f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 format stabilized – will no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partially C and T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clvfs to provide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only implementation – remov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ure Tcl version for easier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grouping and duplication detection – currently not detected well for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A49A-4E7F-4241-AE39-9574B167E42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i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zed build system, support for multiple platforms (tested on 4 platforms, regularly built on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ies work fine – no majo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hreaded Tcl not yet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r platforms builds to be performed period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for building and managing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279A-655D-48F2-837F-E6F2FD94A35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ant to hel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docu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test suite and/or add more test cove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with implementing new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support – build and submit bin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mit bugs/problems on less common plat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96A8-B2DC-41C3-9A57-52C23A52FE2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2469-E217-488B-B82D-1FABD24D565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itRock, especially Daniel Lopez and Juan José Medina Godoy – for providing feedback to cookfs and paper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iotr Beltowski – for reviews and comments on cookfs, cookit and documents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a2565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C8EC-03C2-4161-9191-344AB2A1254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pl-P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924B-D5B1-4FD1-B07D-D845DE6B6DF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9B6F-C1F3-4F8B-B5BA-CB94D51A034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y cookf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timized for Tcl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Groups small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ptimized for Tcl files such as pkgIndex.t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com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zlib, bz2 – plans for including LZMA as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use multiple compressions in one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signed for shipping all types of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arge number of small files and very large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vides efficient memory management – VFS operations consume very littl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EB65-E85C-4566-880D-1493DE0D511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 cook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taining and building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vailable from SourceForge - source code on SVN; cookfs source and cookit binaries as file downlo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ing TEA; uses standard configure &amp; make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ing cookfs from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imilar to any VFS –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cookfs::Moun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mmands (i.e.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work same as for any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irect write command for faster addition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312C-4FC9-4A0F-B2FE-1B757E11408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F033-1628-4135-987E-1EAECA2D3A6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fs major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torage of parts of files, entire files or group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ferenced by integer indexes, starting from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and directory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eeps information on files and directories in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aps hierarchy to cookfs p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pages and index elements to provide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ffers access to archive from Tcl and Tcl C A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F202-FD85-46C2-926A-96D3A46F6A8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Generic solution for storing content of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ach page can store arbitrary amount of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referenced by integer indexes, starting a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ages can only be added and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immutable – update or delet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reading uses LRU cache; this speeds up retrieval of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cache is configurable – faster reads at a cost of larger memor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EC24-BA9E-4D20-8071-AE2100E4022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etadata keeps track of page siz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information on all pages’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space for storing cookfs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ffer write-aside fe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ring changes to cookfs archive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ful for read-only media (CD, DVD) or for storing updates to application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7:34:50Z</dcterms:created>
  <dc:creator>Bitrock SL</dc:creator>
  <dc:description/>
  <dc:language>en-US</dc:language>
  <cp:lastModifiedBy> </cp:lastModifiedBy>
  <dcterms:modified xsi:type="dcterms:W3CDTF">2010-10-13T17:45:02Z</dcterms:modified>
  <cp:revision>56</cp:revision>
  <dc:subject/>
  <dc:title>Diapositiva 1</dc:title>
</cp:coreProperties>
</file>