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C2B3-9DBE-4A40-A673-1A3CE2F768D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FD35-5285-42EB-9F29-F1BA71FED2A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5D93-0432-4FD9-9879-AB00C675F11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F20F-8FBC-4A67-817A-3D92F1B4EE4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7DB0-58DF-4B1D-9ACE-BA552666124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8311-9292-4CA9-A212-5C16050ECD6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9C45-12E2-4626-9692-769624C485A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2C84-057B-4DE3-8C10-0627C0E409C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4737-22FD-492F-807C-61C05250946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22A6-BD83-4DF1-9A99-E97BC9F53CC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79A6-BCCC-44B5-8E70-4BD26E71202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9DCF-3A40-454A-A101-E6465DD23EF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2BED-5E7E-49E4-854B-5BB335F0D29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44DE-87EB-41EB-995E-667A376AB24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06CB-B84D-40E1-ACFA-A71240657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C403-FCEB-49AC-90DF-567B32F0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D53A-7F89-4338-90A9-6C3DA72FC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12AA-EA93-4630-A306-0B5E879EE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2737-DD5C-4844-A86A-F367525F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105B-459C-467E-A52E-4CA5A565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A487-C6A8-4182-BEE4-13F3A92E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38D3-457E-43B0-91A9-5D299C2C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CCD3-BA18-4572-9D50-50C998D8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35DD-E431-45BE-A3AE-654B87B1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F4C3-7FC6-4DEA-AAE6-27C8D25A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FB19-E9EB-49A6-B30C-CDB03AD2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D014-A51C-4499-A72F-D8E8300FC06E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6:07Z</dcterms:modified>
  <cp:revision>19</cp:revision>
  <dc:subject/>
  <dc:title>Tcl/Tk Mature but Evolving Dynamic Language</dc:title>
</cp:coreProperties>
</file>