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44F5-17A7-432F-9C7A-538589EE3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D25B-EF40-48F1-9C20-687FEC41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9BC2-C1F0-45CB-A946-46CE54A1E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D383-B759-4E03-B1B1-7E96444BE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525D-ACC6-473F-887F-1263FA63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2DA3-6109-4108-9F71-20B18039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2C8E-2549-4298-8274-2046CE5E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071D-ED32-4DCB-BD6B-EBA650E5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A9B9-4DA2-46DF-92F9-0B694021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7E4E-8163-49FD-BA1F-5688B17F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2566-449C-47E5-AD80-DB7768F5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AADF-BD11-4ED9-A5DF-7EFF8DF9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7A63-8289-4A99-B935-00601FE6E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, Past – Present - 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/Paul Oberme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bui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support Tcl &lt;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test 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Obermeij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                     ’94-’97     http://hwr.nici.kun.nl/~miami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G, JPEG, T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interface/stu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iami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19540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: P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code borrowed (stolen) from:             Joel Cr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reading/writing from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support for PNG user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: JP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itial implementation, using Tomas Lane’s JPEG library (version 6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replaced with Tomas Lane’s ve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both libjpeg 6a and 6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: TI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libtiff library (Sam Leffn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 and libj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09680"/>
            <a:ext cx="761976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ary dependency (Img 1.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514600"/>
            <a:ext cx="21333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514600"/>
            <a:ext cx="19051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6280" y="2691000"/>
            <a:ext cx="1347120" cy="48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572000"/>
            <a:ext cx="17524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541008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65760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419720"/>
            <a:ext cx="19051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553080" y="3276720"/>
            <a:ext cx="152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257800" y="5029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2767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33526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76720" y="42670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1523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ted G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script (idea stolen from X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(8.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i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14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f (using ghostscri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Tcl_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release: 1.2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1295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’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.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 1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: re-organisation of bu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o sourcefo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: xbm, xpm, ico, pcx, sgi, sun, t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Img 1.3.1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5T14:41:55Z</dcterms:modified>
  <cp:revision>6</cp:revision>
  <dc:subject/>
  <dc:title>PowerPoint Presentation</dc:title>
</cp:coreProperties>
</file>