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00AD-B98B-440E-91F9-8C48D8210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08D1-9FD7-41F5-BD6D-A7CE27B86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0504-C15C-4777-95B8-C93A33694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5C15-8556-453A-A934-27F5A488B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B206C6-807A-43D7-AA71-0C9BA022C61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E6F3B1-E5DE-4FB4-B3F8-CBA0D1D40E9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8205E0-D89E-40B5-84F9-C7B9280697E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07DD66-DAA1-472D-AE68-3E5B0B23BA9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A6BC8B-5006-4350-8F29-396A0F64095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323859-A678-4BB4-8693-F6C2D38F32D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6B2D44-5A7D-4844-8C94-7B084916DBA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0C84-EFDE-483C-BB4F-C03078402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C05B40-C89A-413F-BC13-4BB2C7AAC9F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4C9E26-20CC-415F-97D2-6E9E708B07B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ACCA4A-71B2-4E49-9133-58906D87EAE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A5E8EB-5F2F-4136-BB30-BE182B87274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0122FF-EEC2-40FD-9953-9602289ACD5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ECBC-C9B3-4122-AE62-03E9EE0F0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646B-2F68-457E-A206-DECBBF1A0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4F3A-F247-4D67-A152-882DD0EE6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E266-687A-470D-9627-8E022638A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D736-757B-417A-9E7F-3623AEC2F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EE43-38BF-4CB5-B6AB-ED3EA7C0E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8393-E784-450E-AB0D-D5FF19F31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5C620-A2D2-4E4C-9D0A-E6961A7A0F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059680" y="76320"/>
            <a:ext cx="998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BECA6-ED16-448C-B987-BF3A53EE2A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145360" y="2209680"/>
            <a:ext cx="998640" cy="129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tcl.sf.net/" TargetMode="External"/><Relationship Id="rId2" Type="http://schemas.openxmlformats.org/officeDocument/2006/relationships/hyperlink" Target="http://tcl.sf.net/" TargetMode="External"/><Relationship Id="rId3" Type="http://schemas.openxmlformats.org/officeDocument/2006/relationships/hyperlink" Target="http://tcl.sf.net/" TargetMode="External"/><Relationship Id="rId4" Type="http://schemas.openxmlformats.org/officeDocument/2006/relationships/hyperlink" Target="http://tcl.sf.net/" TargetMode="External"/><Relationship Id="rId5" Type="http://schemas.openxmlformats.org/officeDocument/2006/relationships/hyperlink" Target="http://tcl.sf.net/" TargetMode="External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cove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52280" y="624852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(Active) State of T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ed in August 2000 with 14 charter members based on community voting to collectively manage development of the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Core Tea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2133720" y="3032280"/>
          <a:ext cx="5105160" cy="2766960"/>
        </p:xfrm>
        <a:graphic>
          <a:graphicData uri="http://schemas.openxmlformats.org/drawingml/2006/table">
            <a:tbl>
              <a:tblPr/>
              <a:tblGrid>
                <a:gridCol w="2552760"/>
                <a:gridCol w="2552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arl Lehenbau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k Harri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chael McLenn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. Richard Hip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rey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Ousterh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Howlet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ent Wel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1" name=""/>
          <p:cNvGraphicFramePr/>
          <p:nvPr/>
        </p:nvGraphicFramePr>
        <p:xfrm>
          <a:off x="3753000" y="5799240"/>
          <a:ext cx="1866600" cy="431640"/>
        </p:xfrm>
        <a:graphic>
          <a:graphicData uri="http://schemas.openxmlformats.org/drawingml/2006/table">
            <a:tbl>
              <a:tblPr/>
              <a:tblGrid>
                <a:gridCol w="18666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T: TIP Initiativ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 page for Tc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http://www.tcl.tk/cgi-bin/tct/tip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focus i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urrently over 100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Divided into process, informational &amp; project T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T discussion is open on the public mailing list: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CA" sz="2000" spc="-1" strike="noStrike">
                <a:solidFill>
                  <a:srgbClr val="000000"/>
                </a:solidFill>
                <a:latin typeface="Lucida Console"/>
              </a:rPr>
              <a:t>tcl-core@lists.sourceforge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Maintain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/Tk maintainers are separate from the T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intainers oversee a specific area of the core, as defined in TIP #16 for Tcl and TIP #23 for T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y assist, but are not solely responsible for, fixing  bugs and adding documentation in their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y are responsible for reviewing code and approving code changes to their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pen to anyone willing to lear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New volunteers always welc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he Maintainers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cl (TIP #24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(TIP #30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ther contributors as w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1371600" y="3814920"/>
          <a:ext cx="7315200" cy="161604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len Fli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ter Spju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dd Helf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Smi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édéric Bonn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Griff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ngye Ma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e Engli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1371600" y="2057400"/>
          <a:ext cx="7315200" cy="121932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niel Steff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guel Sof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lf Schroed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Scriptics/Ajuba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criptics became Ajuba Solutions in May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terwoven: content management company in need of B2B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sf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.net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6705720" y="439560"/>
            <a:ext cx="433440" cy="417600"/>
            <a:chOff x="6705720" y="439560"/>
            <a:chExt cx="433440" cy="417600"/>
          </a:xfrm>
        </p:grpSpPr>
        <p:sp>
          <p:nvSpPr>
            <p:cNvPr id="223" name=""/>
            <p:cNvSpPr/>
            <p:nvPr/>
          </p:nvSpPr>
          <p:spPr>
            <a:xfrm>
              <a:off x="693108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81012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680976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75828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67575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75756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70572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at SourceFor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urceForge provides a wealth of services for open source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ug and patch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VS reposito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ile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b p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naged by TCT and Tcl/Tk maintain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ot the Tcl Developer X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@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eState established 199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ing for the Peopl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eff Hobbs hired in Feb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reas Kupries follows soon af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alth of scripting knowledge at Active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State and Tcl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provides the Tcl community with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Enterprise/TclDirect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essional services for Tcl (TclDire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eT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aspn.ActiveState.com/ASPN/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PN Tcl (TclPro + Komodo ID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ASPN_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Tcl 8.3.4.3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sed on the 8.3.4 Tcl co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hanced with several popular extens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incr Tcl], TclX, expect, tcllib, Bwidgets, iwidgets, tktable, tkc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standard batteries-included distribution for Tcl us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de repository (still) in the 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Developer Xchan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devxchange" descr=""/>
          <p:cNvPicPr/>
          <p:nvPr/>
        </p:nvPicPr>
        <p:blipFill>
          <a:blip r:embed="rId1"/>
          <a:stretch/>
        </p:blipFill>
        <p:spPr>
          <a:xfrm>
            <a:off x="1014480" y="1143000"/>
            <a:ext cx="7115040" cy="5529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eff Hob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Cookbook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tclcookbook" descr=""/>
          <p:cNvPicPr/>
          <p:nvPr/>
        </p:nvPicPr>
        <p:blipFill>
          <a:blip r:embed="rId1"/>
          <a:stretch/>
        </p:blipFill>
        <p:spPr>
          <a:xfrm>
            <a:off x="1014480" y="1143000"/>
            <a:ext cx="711504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TclPro + Mo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roduced December 200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uscitated TclPro as a commercial quality development environ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bugger: source-level debugger with nice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er: find errors without running 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apper: create self-contained applications for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: protect your source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5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6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47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Komodo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 IDE for scripting languag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zilla framework b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oss-platform (Windows &amp; Linu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rn IDE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ral unique Tcl editing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ght integration of TclPro tools with Komo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odo 2.0 in develo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1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2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53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Komodo 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komodo" descr=""/>
          <p:cNvPicPr/>
          <p:nvPr/>
        </p:nvPicPr>
        <p:blipFill>
          <a:blip r:embed="rId1"/>
          <a:stretch/>
        </p:blipFill>
        <p:spPr>
          <a:xfrm>
            <a:off x="638280" y="1030320"/>
            <a:ext cx="7819920" cy="572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Futu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inuing development of Tc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Pro 2.0 now in be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hanced debugger with integrated che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coverage and hot-spot analysis 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user-friendly GUIs to Wrapper and 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er updated for 8.4 (and corrected for 8.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UI Builder in develo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d loosely on SpecT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 be integrated with other to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6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6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In the Community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Tcl’ers Wiki has increased in activ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iki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Tcl Developer Xchange official UR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www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tcl.ActiveState.com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-URL! continues to provide weekly new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www.ddj.com/topics/tclur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r subscribe to </a:t>
            </a: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tcl-announce@listserv.activestate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ots of extension upd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698080" y="2022480"/>
            <a:ext cx="259632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out the wik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/Tk Toda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7239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wnload rate stead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: 5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: 4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patch releases since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le release now at 8.3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ly new I/O core (added in 8.3.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degree of st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d locale support in 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rts now exist for Windows/CE and Pal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649120" y="1641600"/>
            <a:ext cx="279900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eTcl downl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649120" y="2403360"/>
            <a:ext cx="3024360" cy="119124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poi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2x ActivePython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1/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ctivePerl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8.4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ment release, now at 8.4b1-r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 just been feature-froz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spinbox, labelframe, panedwindo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dg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core feature enhanc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FS, 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ls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command tra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 work on 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 or better than 8.0, with unicode and thread safe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clusion of numerous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ore later in 8.4 over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User Poll: Vers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sions in 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-8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esponse (out of 6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ser Poll: Platform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/Deplo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intosh OS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intosh OS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a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P-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unix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ponse (out of 6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%/3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%/5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3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has happened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s in the Tcl commun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s of the Tcl/Tk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dir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’Europe 2001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Hamburg, June 8-9,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14 Original papers and tutori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rom using Tcl with Cobo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  to Tcl on the Web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  to Tcl on a PDA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hanks to Carsten Zerbst</a:t>
            </a:r>
            <a:br>
              <a:rPr sz="3200"/>
            </a:br>
            <a:br>
              <a:rPr sz="3200"/>
            </a:br>
            <a:r>
              <a:rPr b="0" lang="en-CA" sz="2400" spc="-1" strike="noStrike">
                <a:solidFill>
                  <a:srgbClr val="000000"/>
                </a:solidFill>
                <a:latin typeface="Lucida Console"/>
              </a:rPr>
              <a:t>http://www.tu-harburg.de/skf/tcltk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re is guided by community in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one can write a T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one can be a core maintai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sues are most press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will continue to work with the Tcl community and build more Tcl related produ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mos to fol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deas in the Pipelin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803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More) improved Tcl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chive file support (.jar/.zi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rger source / binar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l Insta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-alone executable support in core (*wra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4-bit overha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54440" y="1447560"/>
            <a:ext cx="3803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maller, modular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 &amp; Dr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ndows Tk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ting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k abstraction layer (TkG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gawidgets (roll your ow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 core is robust, feature-ri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still pushing the bound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emphasis on packages and modula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is the key to an even more successful fu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&amp;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ur 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839080" y="257184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9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8656560" y="257184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 flipV="1">
            <a:off x="6883560" y="328284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3193920" y="3276360"/>
            <a:ext cx="0" cy="191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1828800" y="3276360"/>
            <a:ext cx="0" cy="86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6386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60020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000240" y="5189400"/>
            <a:ext cx="299088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96396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48240" y="105732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2443320" y="3265200"/>
            <a:ext cx="0" cy="193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5392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60036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6232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39680" y="3524400"/>
            <a:ext cx="9288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9068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95264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308240" y="3648240"/>
            <a:ext cx="98568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949480" y="3648240"/>
            <a:ext cx="100980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0328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714840" y="4019400"/>
            <a:ext cx="192384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514836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57880" y="18194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419880" y="480060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. ActiveTcl 8.3.4.3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77724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7848720" y="3276360"/>
            <a:ext cx="0" cy="618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035920" y="2052720"/>
            <a:ext cx="91440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 8.4.0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4452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454560" y="4782960"/>
            <a:ext cx="433080" cy="417600"/>
            <a:chOff x="3454560" y="4782960"/>
            <a:chExt cx="433080" cy="417600"/>
          </a:xfrm>
        </p:grpSpPr>
        <p:sp>
          <p:nvSpPr>
            <p:cNvPr id="183" name=""/>
            <p:cNvSpPr/>
            <p:nvPr/>
          </p:nvSpPr>
          <p:spPr>
            <a:xfrm>
              <a:off x="3679560" y="49046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5896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55824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50676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350640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506400" y="4974480"/>
              <a:ext cx="31176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454560" y="4902840"/>
              <a:ext cx="433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7772400" y="283860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92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5357880" y="340056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962760" y="2971800"/>
            <a:ext cx="1886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96080" y="3886200"/>
            <a:ext cx="91440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1320" y="259092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305920" y="24861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143760" y="3733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824440" y="414324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. ActiveState TclPro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691320" y="5505480"/>
            <a:ext cx="221148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. ActiveState TclPro 2.0 beta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Usa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cl usage is still grow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extensively for mission-critical 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sco, Motorola, Lucent, Nortel, etc.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omated hardware te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different pieces of test equi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cl soon to be standard on all Cisco rou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OL Digital City, Travelocit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ynamic Web cont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e information from different 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ent developers are not programm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Usage, Cont’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mission-critical 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B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gital broadcast control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x programming content, control transmission through satellites to local s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x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in animation tools (RenderMan softwar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ical directors write Tcl scripts to animate charac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ell O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l-time control for offshore oil platfo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, manage various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atus As of 8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Tcl Conferen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O’Reilly Open Source Convention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n Diego, July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/Tk 8.3.3 was the stable version (8.3.x now standard in Linux distributio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.4a3 was just rele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was just establishing with Tcl expert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ll User</cp:lastModifiedBy>
  <cp:lastPrinted>1999-01-02T23:07:33Z</cp:lastPrinted>
  <dcterms:modified xsi:type="dcterms:W3CDTF">2002-07-04T19:26:31Z</dcterms:modified>
  <cp:revision>405</cp:revision>
  <dc:subject/>
  <dc:title>Tcl'Europe 2002 State of Tcl</dc:title>
</cp:coreProperties>
</file>