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8E5D-6381-408C-9A2A-4804CC1D4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BE009-074A-47BC-A364-EC73C2E4F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973A-E9A6-4847-B957-C8BC33460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3560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737680" y="144792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3352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3560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737680" y="3756240"/>
            <a:ext cx="24778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158FD-603E-4A31-91DF-9DDBE9E34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1B9-E7B4-46BA-8E70-2C079766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B7C3-9552-4237-AD51-4F637E903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3791-A2F6-4055-9336-9E8286811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8987-B7AF-40A1-9D5D-B9F991A2E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52480" y="38160"/>
            <a:ext cx="64008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4FD3-721D-4636-8F79-FDB3407B6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E108-E7DE-4B4C-AC64-275027998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77320" y="375624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C25AC-6340-40E0-AB02-53ACBEDB3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77320" y="1447920"/>
            <a:ext cx="375552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33520" y="3756240"/>
            <a:ext cx="7696080" cy="210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BBB3D-7335-4D78-A3BA-584B117B5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, slide </a:t>
            </a:r>
            <a:fld id="{1434205D-8654-41D8-A990-86DAD4EEA6C8}" type="slidenum"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16564-197F-4CEE-B27B-20CE453EFD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age" descr=""/>
          <p:cNvPicPr/>
          <p:nvPr/>
        </p:nvPicPr>
        <p:blipFill>
          <a:blip r:embed="rId2"/>
          <a:stretch/>
        </p:blipFill>
        <p:spPr>
          <a:xfrm>
            <a:off x="152280" y="195120"/>
            <a:ext cx="8763120" cy="65217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14400" y="6172200"/>
            <a:ext cx="26668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hyperlink" Target="http://tclpro.sf.net/" TargetMode="External"/><Relationship Id="rId7" Type="http://schemas.openxmlformats.org/officeDocument/2006/relationships/hyperlink" Target="http://tclpro.sf.net/" TargetMode="External"/><Relationship Id="rId8" Type="http://schemas.openxmlformats.org/officeDocument/2006/relationships/hyperlink" Target="http://tclpro.sf.net/" TargetMode="External"/><Relationship Id="rId9" Type="http://schemas.openxmlformats.org/officeDocument/2006/relationships/hyperlink" Target="http://tclpro.sf.net/" TargetMode="External"/><Relationship Id="rId10" Type="http://schemas.openxmlformats.org/officeDocument/2006/relationships/hyperlink" Target="http://tclpro.sf.net/" TargetMode="External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url.org/tcl/wiki" TargetMode="External"/><Relationship Id="rId2" Type="http://schemas.openxmlformats.org/officeDocument/2006/relationships/hyperlink" Target="http://www.purl.org/tcl/wiki" TargetMode="External"/><Relationship Id="rId3" Type="http://schemas.openxmlformats.org/officeDocument/2006/relationships/hyperlink" Target="http://www.purl.org/tcl/wiki" TargetMode="External"/><Relationship Id="rId4" Type="http://schemas.openxmlformats.org/officeDocument/2006/relationships/hyperlink" Target="http://www.purl.org/tcl/wiki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cs.man.ac.uk/fellowsd-bin/TIP/" TargetMode="External"/><Relationship Id="rId2" Type="http://schemas.openxmlformats.org/officeDocument/2006/relationships/hyperlink" Target="http://www.cs.man.ac.uk/fellowsd-bin/TIP/" TargetMode="External"/><Relationship Id="rId3" Type="http://schemas.openxmlformats.org/officeDocument/2006/relationships/hyperlink" Target="http://www.cs.man.ac.uk/fellowsd-bin/TIP/" TargetMode="External"/><Relationship Id="rId4" Type="http://schemas.openxmlformats.org/officeDocument/2006/relationships/hyperlink" Target="http://www.cs.man.ac.uk/fellowsd-bin/TIP/" TargetMode="External"/><Relationship Id="rId5" Type="http://schemas.openxmlformats.org/officeDocument/2006/relationships/hyperlink" Target="http://www.cs.man.ac.uk/fellowsd-bin/TIP/" TargetMode="External"/><Relationship Id="rId6" Type="http://schemas.openxmlformats.org/officeDocument/2006/relationships/hyperlink" Target="http://www.cs.man.ac.uk/fellowsd-bin/TIP/" TargetMode="External"/><Relationship Id="rId7" Type="http://schemas.openxmlformats.org/officeDocument/2006/relationships/hyperlink" Target="http://www.cs.man.ac.uk/fellowsd-bin/TIP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cove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276720" y="62485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(Active) State of T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274320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1371600" y="3814920"/>
          <a:ext cx="6172200" cy="121428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371600" y="1981080"/>
          <a:ext cx="6172200" cy="121932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676520"/>
                <a:gridCol w="137160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Pro open sourced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http://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tclpro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8"/>
              </a:rPr>
              <a:t>.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9"/>
              </a:rPr>
              <a:t>sf</a:t>
            </a:r>
            <a:r>
              <a:rPr b="0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0"/>
              </a:rPr>
              <a:t>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5565600" y="439560"/>
            <a:ext cx="433440" cy="417600"/>
            <a:chOff x="5565600" y="439560"/>
            <a:chExt cx="433440" cy="417600"/>
          </a:xfrm>
        </p:grpSpPr>
        <p:sp>
          <p:nvSpPr>
            <p:cNvPr id="163" name=""/>
            <p:cNvSpPr/>
            <p:nvPr/>
          </p:nvSpPr>
          <p:spPr>
            <a:xfrm>
              <a:off x="579096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67000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566964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6181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561744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61744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56560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fc0128"/>
                </a:solidFill>
                <a:latin typeface="Times New Roman"/>
              </a:rPr>
              <a:t>Not</a:t>
            </a: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 the Tcl Developer Xchang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ctiveState and Tcl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omodo 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Downloads/Komodo/M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/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: training and consul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1"/>
              </a:rPr>
              <a:t>http://www.purl.org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2"/>
              </a:rPr>
              <a:t>tcl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3"/>
              </a:rPr>
              <a:t>/</a:t>
            </a:r>
            <a:r>
              <a:rPr b="0" lang="en-CA" sz="2400" spc="-1" strike="noStrike" u="sng">
                <a:solidFill>
                  <a:srgbClr val="007c71"/>
                </a:solidFill>
                <a:uFillTx/>
                <a:latin typeface="Times New Roman"/>
                <a:hlinkClick r:id="rId4"/>
              </a:rPr>
              <a:t>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 Tcl Developer Xchange has moved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purl.org/net/tcl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http://tcl.ActiveState.com/tclur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ownload rate steady (~30,000 / month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6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ly patch releases since last year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able release now at 8.3.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letely new I/O core (for 8.3.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degree of st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al release, now at 8.4a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till in feature-add mod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ew ‘spinbox’ widge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everal minor core feature enhancement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everal TIPs in the pipelin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set’ comm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EA 2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pen discus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cl Roadmap Pol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rove Tcl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chive file support (.jar/.zi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source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arger binary distribution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cl Installer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nd-alone executable support in core (*wrap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462560" y="1447920"/>
            <a:ext cx="376704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maller, more modular co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g &amp; Drop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ndows Tk Performanc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nting support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k abstraction layer (TkGS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egawidgets (roll your own)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1371600"/>
            <a:ext cx="8610480" cy="25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13096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hat has happened since Tcl’Europ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60009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760009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344080" y="259092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03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 flipV="1">
            <a:off x="388620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209680" y="3257640"/>
            <a:ext cx="0" cy="885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924600" y="2157480"/>
            <a:ext cx="0" cy="804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90512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419640" y="5025960"/>
            <a:ext cx="299052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952880" y="1952640"/>
            <a:ext cx="0" cy="100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781440" y="134316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3124080" y="3276720"/>
            <a:ext cx="0" cy="1923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31904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2971800"/>
            <a:ext cx="4267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2971800"/>
            <a:ext cx="42292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05520" y="2590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38240" y="3772080"/>
            <a:ext cx="928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644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80980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42880" y="3648240"/>
            <a:ext cx="9860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3648240"/>
            <a:ext cx="100944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3972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4019400"/>
            <a:ext cx="1924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86728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705720" y="15098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105520" y="3524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55308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 ASPN/Tcl Launch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8580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48720" y="3276360"/>
            <a:ext cx="0" cy="618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543800" y="3895560"/>
            <a:ext cx="74304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3024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3992400" y="4608360"/>
            <a:ext cx="433440" cy="417600"/>
            <a:chOff x="3992400" y="4608360"/>
            <a:chExt cx="433440" cy="417600"/>
          </a:xfrm>
        </p:grpSpPr>
        <p:sp>
          <p:nvSpPr>
            <p:cNvPr id="136" name=""/>
            <p:cNvSpPr/>
            <p:nvPr/>
          </p:nvSpPr>
          <p:spPr>
            <a:xfrm>
              <a:off x="4217760" y="47300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09680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4096440" y="46083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04496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4044240" y="46429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044240" y="47998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92400" y="47282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6886440" y="2895480"/>
            <a:ext cx="76320" cy="15264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tatus as of Tcl’Europe 2000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une 2000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4a1 recently release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cl/Tk 8.3.1 was the stable version (now part of Red Hat and SuSE standard distribution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criptics (now Ajuba) was focusing on B2B applications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: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ormed to collectively manage development of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w… Tcl Core Team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1" name=""/>
          <p:cNvGraphicFramePr/>
          <p:nvPr/>
        </p:nvGraphicFramePr>
        <p:xfrm>
          <a:off x="1752480" y="2392200"/>
          <a:ext cx="4648320" cy="2556000"/>
        </p:xfrm>
        <a:graphic>
          <a:graphicData uri="http://schemas.openxmlformats.org/drawingml/2006/table">
            <a:tbl>
              <a:tblPr/>
              <a:tblGrid>
                <a:gridCol w="2324160"/>
                <a:gridCol w="2324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6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Started TIP process for Tcl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2"/>
              </a:rPr>
              <a:t>cs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3"/>
              </a:rPr>
              <a:t>.man.ac.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4"/>
              </a:rPr>
              <a:t>uk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5"/>
              </a:rPr>
              <a:t>/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6"/>
              </a:rPr>
              <a:t>fellowsd</a:t>
            </a:r>
            <a:r>
              <a:rPr b="1" lang="en-CA" sz="1800" spc="-1" strike="noStrike" u="sng">
                <a:solidFill>
                  <a:srgbClr val="007c71"/>
                </a:solidFill>
                <a:uFillTx/>
                <a:latin typeface="Lucida Console"/>
                <a:hlinkClick r:id="rId7"/>
              </a:rPr>
              <a:t>-bin/TIP/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Currently 34 TIPs (9 active project TIPs)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l/Tk maintainers are a separate group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6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400"/>
            </a:b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8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52480" y="38160"/>
            <a:ext cx="6400800" cy="952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ffffff"/>
                </a:solidFill>
                <a:latin typeface="Times New Roman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7696080" cy="44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June 2001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1-06-01T10:19:00Z</dcterms:modified>
  <cp:revision>388</cp:revision>
  <dc:subject/>
  <dc:title>The (Active) State of Tcl, 2001</dc:title>
</cp:coreProperties>
</file>