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54495"/>
        <c:axId val="94280062"/>
      </c:barChart>
      <c:catAx>
        <c:axId val="32554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80062"/>
        <c:crosses val="autoZero"/>
        <c:auto val="1"/>
        <c:lblAlgn val="ctr"/>
        <c:lblOffset val="100"/>
        <c:noMultiLvlLbl val="0"/>
      </c:catAx>
      <c:valAx>
        <c:axId val="942800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54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EDF-9ABA-4D28-AD4E-90D8C579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B4C-252A-4B6D-A248-22AE1BB0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0A79-ED93-4CB4-B8D4-8B28ACA0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CA1-6123-4239-BA1A-0A7020D0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CD8-EF22-4BCC-A1F0-5971311F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1F9-613C-40BD-93CF-42A31525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A3CD-5C48-495F-9628-855BE538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9D6B-0F3E-4ACB-9679-BBE47FA3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1FC1-AE17-4413-8253-4A4EE0BE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5EA5-711B-414D-B8C3-C8B762E0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2458-D7C8-4796-8B7C-F3D75883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E3B2-6B89-48B5-AC85-2A029C2E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C8F75-F398-46A2-A881-82BA717662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