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598654"/>
        <c:axId val="63810573"/>
      </c:barChart>
      <c:catAx>
        <c:axId val="515986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10573"/>
        <c:crosses val="autoZero"/>
        <c:auto val="1"/>
        <c:lblAlgn val="ctr"/>
        <c:lblOffset val="100"/>
        <c:noMultiLvlLbl val="0"/>
      </c:catAx>
      <c:valAx>
        <c:axId val="638105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986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4BEE-5D18-43F0-838C-C84944878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7194-59FE-4E7E-9E6E-E50FB03B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6FE5-C023-4B12-9FEF-C4A6EC463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9FE6-347A-4EA2-A277-19B84099D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54B0-3601-4029-A42B-60F3B96A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9865-B51D-4997-B567-87AC9D8D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4247-045A-42E1-8230-EDEEC201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B22D-5465-497E-A82E-90D87F17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D1C0-2DE9-42D2-9CDB-BF4C7FE5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6DBD-CC42-4A14-B1D1-D60160F3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7D22-F571-445E-856D-83931A04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04AE-1222-487D-9227-6EE7DB8E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D4E01-0250-4B70-B289-7B2789E963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