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88288"/>
        <c:axId val="36116025"/>
      </c:barChart>
      <c:catAx>
        <c:axId val="50088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6025"/>
        <c:crosses val="autoZero"/>
        <c:auto val="1"/>
        <c:lblAlgn val="ctr"/>
        <c:lblOffset val="100"/>
        <c:noMultiLvlLbl val="0"/>
      </c:catAx>
      <c:valAx>
        <c:axId val="36116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88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D31-88B4-4D4E-BCF4-11F867D5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298-E39B-413D-BF6B-A39120D9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D15-99EC-4542-BDA9-074CEF74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1DE-EBA1-4C30-915D-41859E3C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308-545A-4253-9E4B-061A2F5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BBD-D217-4CFD-83D6-B1C77E9D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573-B87E-48B4-867A-A81A386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08F-2E21-4D52-8731-BD47496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DAF-8FCC-4806-B3E5-04D4C968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4CB-B9B2-4E71-8A9F-63E0E49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C3-90EA-40C1-AC0C-1B895D7B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9B8-1EB8-480E-9FAF-F665E53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EBA7-B9DC-43FB-BCDC-DB09FAE2C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