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63671"/>
        <c:axId val="23438421"/>
      </c:barChart>
      <c:catAx>
        <c:axId val="32963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8421"/>
        <c:crosses val="autoZero"/>
        <c:auto val="1"/>
        <c:lblAlgn val="ctr"/>
        <c:lblOffset val="100"/>
        <c:noMultiLvlLbl val="0"/>
      </c:catAx>
      <c:valAx>
        <c:axId val="23438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3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7F2-8E50-4CE1-94BF-B33642BB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C11-2002-4610-BA17-D4757D5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1AD-9D06-4B66-8368-F857AF0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F8F-5CEE-44E5-BFD1-26BDD0A5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D50-F3AB-4F44-8CB0-34C26F6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E69-AACB-4CC2-B7B6-DF00E41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D9D-60E0-4467-B7E2-A8C2343D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DA6-7932-4E8D-A2FB-2DD82C24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D34-3FC1-46D4-A8DB-85297EE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396-EF97-44D9-AB79-EBDACC8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304-0575-496A-B968-3BABD9F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D95-25D8-4971-8C07-78048AC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96A0-A9CD-4F45-92A9-7C519ED603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