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04700"/>
        <c:axId val="67724268"/>
      </c:barChart>
      <c:catAx>
        <c:axId val="78404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24268"/>
        <c:crosses val="autoZero"/>
        <c:auto val="1"/>
        <c:lblAlgn val="ctr"/>
        <c:lblOffset val="100"/>
        <c:noMultiLvlLbl val="0"/>
      </c:catAx>
      <c:valAx>
        <c:axId val="677242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04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A149-71FB-4FB0-AC8D-4DE5DE10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C00B-4F80-46F7-8694-5C0C6F79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5162-CCC5-4AD9-8B67-39A913F2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D29F-2040-43FB-A5A1-A92A968D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85E4-C044-4B4C-B56F-20D7FF3E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815F-F1EA-43AB-9F59-1C149A53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8F3-8054-438A-819E-2727AE95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9B56-2C63-4356-91C9-D5A72B4C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46DF-9578-4260-96E1-71E80538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9C1B-19C6-40E0-9FFC-525F7F4B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9FAB-8583-4D7B-87ED-9C9B02D3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EC18-6217-4E63-AA5C-FAE69345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64CC1-D987-4023-9B43-1A087FBA82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