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0A801B-2522-4EC1-935F-8D546B34DE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4DE3BB-F5B0-4C49-B312-DA5F22D6D5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13EC47-1EA0-45BB-B008-370477CACE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E8947B-BCD1-4E28-87CA-E7F72128865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6B11C6-E379-4603-A015-5DA55DCA8B5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E3AC86-EB70-43A8-8B3F-5DFE25028B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181FC0-C01E-48AC-8C74-80D1FC4341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228C1C-C0E1-40FD-90BD-E61506780D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55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91309E-320D-4956-9353-9D77A65B23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98177F-CD1E-4E9F-ACD2-11B9948CE3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7D29B6-5B85-4A97-BB84-ED6159A9D8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4203D-A45E-424A-BEF4-DBA88584AE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a2565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700360" y="6549840"/>
            <a:ext cx="4176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430840" y="6289200"/>
            <a:ext cx="514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800" spc="-1" strike="noStrike">
                <a:solidFill>
                  <a:srgbClr val="0a2565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E51AB-7D15-4E3D-83F9-2392B18F4255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68E33-15D2-48FE-8940-B6F9880AFF4C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284640"/>
            <a:ext cx="6400800" cy="19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0a2565"/>
                </a:solidFill>
                <a:latin typeface="Arial"/>
              </a:rPr>
              <a:t>Cookf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a2565"/>
                </a:solidFill>
                <a:latin typeface="Arial"/>
              </a:rPr>
              <a:t>Wojciech Kocjan, 2010-10-1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5664D-1EE1-4972-B1AF-735CF4CAEED6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index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Keeps structure of an archi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ndex stores a tree of all files and direc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ntains information such as mtime for all e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ll information read when VFS is mounted and kept entirely 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Prevents illegal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Not possible to create a file/directory as child of a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peration such as changing a file to a directory are also blocked by ind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D73C8-C895-4383-828D-8EB991C7D2E0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index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Stores mapping of pages to fil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nformation on each file has references to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Keeps list of pages – page number, offset in page and data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ultiple files can reuse same page(s) if their contents is the same – automatically detected by VFS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urrently written in C; work on pure Tcl implementation currently in pro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A0A85-3E29-4FAF-845D-D7E6C7AFE81D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VFS layer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Uses pages and index to provide complete VF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ovides handlers for VFS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okfs index used for file information operations such asl isting files, getting and setting file 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Provides channels for reading mechanis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Handles seek and read operations – data retrieved directly from pages, not read entirely to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ses </a:t>
            </a:r>
            <a:r>
              <a:rPr b="0" lang="pl-P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chan creat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pl-P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han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for channel cre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18BE0-E3A4-416D-A0AD-F69F82C713DB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VFS layer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Uses memchan for writing to cookfs archi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nitiated as empty or containing previous content of a file, depending on how file was op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When memchan is closed closed, its contents is added to archive or queued for addi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Files above specified size are added right a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Small files added in batches and grouped by file nam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VFS layer is currently implemented in Tcl; uses </a:t>
            </a:r>
            <a:r>
              <a:rPr b="0" lang="pl-P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tclvfs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 package for providing Tcl virtual filesyst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A4C11-41A1-4EA3-9413-540C38E4BA61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E1893-9A33-4807-A315-F826C0D84AFE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with existing technologi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Mk4 VF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oth Mk4 VFS and cookfs use zlib com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k4 VFS compresses each file individu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ooks compresses smaller files in grou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okfs offers multiple compression algorith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urrently bzip2 also avail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LZMA support planned for future relea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4BE54-FA67-4907-8D09-780BF8274E5C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with existing technologi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Mk4 VFS – continu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k4 VFS and cookfs implemented in C+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k4 VFS uses Mk4tcl for underlying stor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k4tcl written in C++ - requires additional libraries (libstdc++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ookfs uses C code for storage; pure Tcl version work in progress – C version will provide better perform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Both technologies depend on tcl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C9154-A498-4DFA-9A80-F032837084F0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with existing technologi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ZIP VF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oth ZIP VFS and cookfs use zlib com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ZIP VFS compresses each file individu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ooks compresses smaller files in grou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ookfs provides other compressiona algorith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IP VFS uses a known standard for arch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ultiple tools for managing ZIP archives avail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an be created from various tools such as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85578-2840-4624-B400-049EF909505F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with existing technologi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Other related projects and/or alternativ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ro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Pure C solution for single file archives; designed for Tcl modules in mi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Does not use compression, simply concatenates file contents and metadata on stored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Does not depend on tcl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ar V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ses tar archive format for storing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Does not use compression by defaul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AAD6D-BDBC-44BC-9CDF-A26C54076C86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A2C41-DD86-4FCE-8C16-82B084CEDC2F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98517-2E47-478F-A3D9-7E58AB37CEE6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– sample archive cont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Tcl related samp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clhttpd 3.5.1 – embedded web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latively small package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, often used in Tcl applic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ncompressed size: 460k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clllib 1.11.1 – set of commonly used Tcl pack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ncompressed size: 12M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ctiveTcl 8.4 – sample of Tcl binaries and pack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Installation of ActiveTcl 8.4.19.0 for Linu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ncompressed size: 71M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7" descr="D:\My Dropbox\TclConf2010\Images\sample_activetcl84_linux_1.png"/>
          <p:cNvPicPr/>
          <p:nvPr/>
        </p:nvPicPr>
        <p:blipFill>
          <a:blip r:embed="rId1"/>
          <a:stretch/>
        </p:blipFill>
        <p:spPr>
          <a:xfrm>
            <a:off x="6100920" y="4508640"/>
            <a:ext cx="2863800" cy="1620720"/>
          </a:xfrm>
          <a:prstGeom prst="rect">
            <a:avLst/>
          </a:prstGeom>
          <a:ln w="0">
            <a:noFill/>
          </a:ln>
        </p:spPr>
      </p:pic>
      <p:sp>
        <p:nvSpPr>
          <p:cNvPr id="10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8F7F8-B74B-4A62-BDA2-AE646D8408FF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– sample archive cont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pic>
        <p:nvPicPr>
          <p:cNvPr id="102" name="Picture 3" descr="D:\My Dropbox\TclConf2010\Images\sample_tcllib_size.png"/>
          <p:cNvPicPr/>
          <p:nvPr/>
        </p:nvPicPr>
        <p:blipFill>
          <a:blip r:embed="rId2"/>
          <a:stretch/>
        </p:blipFill>
        <p:spPr>
          <a:xfrm>
            <a:off x="233280" y="2781360"/>
            <a:ext cx="5684760" cy="16192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D:\My Dropbox\TclConf2010\Images\sample_tclhttpd_size.png"/>
          <p:cNvPicPr/>
          <p:nvPr/>
        </p:nvPicPr>
        <p:blipFill>
          <a:blip r:embed="rId3"/>
          <a:stretch/>
        </p:blipFill>
        <p:spPr>
          <a:xfrm>
            <a:off x="233280" y="1052640"/>
            <a:ext cx="5684760" cy="16207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D:\My Dropbox\TclConf2010\Images\sample_tcllib_linux_1.png"/>
          <p:cNvPicPr/>
          <p:nvPr/>
        </p:nvPicPr>
        <p:blipFill>
          <a:blip r:embed="rId4"/>
          <a:stretch/>
        </p:blipFill>
        <p:spPr>
          <a:xfrm>
            <a:off x="6100920" y="2781360"/>
            <a:ext cx="2863800" cy="16192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D:\My Dropbox\TclConf2010\Images\sample_tclhttpd_linux_1.png"/>
          <p:cNvPicPr/>
          <p:nvPr/>
        </p:nvPicPr>
        <p:blipFill>
          <a:blip r:embed="rId5"/>
          <a:stretch/>
        </p:blipFill>
        <p:spPr>
          <a:xfrm>
            <a:off x="6100920" y="1052640"/>
            <a:ext cx="2863800" cy="1620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D:\My Dropbox\TclConf2010\Images\sample_activetcl84_size.png"/>
          <p:cNvPicPr/>
          <p:nvPr/>
        </p:nvPicPr>
        <p:blipFill>
          <a:blip r:embed="rId6"/>
          <a:stretch/>
        </p:blipFill>
        <p:spPr>
          <a:xfrm>
            <a:off x="233280" y="4508640"/>
            <a:ext cx="5684760" cy="16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CC0AB-D272-4CF1-A955-7C50FC2AC378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– sample archive cont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Non-tcl samp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ckaging Joomla and LAMP – BitNami Joomla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 of packaging non-Tcl content into an arch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oomla stack  for Linux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with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ache, MySQL and PH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ncompressed size: 224M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ckaging Redmine – BitNami Redmine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Redmine application with Ruby and all other artifa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ncompressed size: 535M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C574E-A795-42E8-9701-0055938FAC5B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– sample archive cont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pic>
        <p:nvPicPr>
          <p:cNvPr id="112" name="Picture 2" descr="D:\My Dropbox\TclConf2010\Images\sample_joomla_lamp_size.png"/>
          <p:cNvPicPr/>
          <p:nvPr/>
        </p:nvPicPr>
        <p:blipFill>
          <a:blip r:embed="rId1"/>
          <a:stretch/>
        </p:blipFill>
        <p:spPr>
          <a:xfrm>
            <a:off x="233280" y="1879560"/>
            <a:ext cx="5684760" cy="16192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D:\My Dropbox\TclConf2010\Images\sample_joomla_lamp_linux_1.png"/>
          <p:cNvPicPr/>
          <p:nvPr/>
        </p:nvPicPr>
        <p:blipFill>
          <a:blip r:embed="rId2"/>
          <a:stretch/>
        </p:blipFill>
        <p:spPr>
          <a:xfrm>
            <a:off x="6102360" y="1879560"/>
            <a:ext cx="2862360" cy="1619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D:\My Dropbox\TclConf2010\Images\sample_redmine_rubystack_size.png"/>
          <p:cNvPicPr/>
          <p:nvPr/>
        </p:nvPicPr>
        <p:blipFill>
          <a:blip r:embed="rId3"/>
          <a:stretch/>
        </p:blipFill>
        <p:spPr>
          <a:xfrm>
            <a:off x="233280" y="3610080"/>
            <a:ext cx="5684760" cy="16192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D:\My Dropbox\TclConf2010\Images\sample_redmine_rubystack_linux_1.png"/>
          <p:cNvPicPr/>
          <p:nvPr/>
        </p:nvPicPr>
        <p:blipFill>
          <a:blip r:embed="rId4"/>
          <a:stretch/>
        </p:blipFill>
        <p:spPr>
          <a:xfrm>
            <a:off x="6102360" y="3610080"/>
            <a:ext cx="286236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F6AA9-2766-413F-B922-2D60121398F6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0D6CA-43A8-44CF-A8AD-6BA6A4457CE4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okit – standalone Tcl/Tk binary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okit is a tclkit-like binary that has Tcl, core libraries and VFS included in a singl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ncludes Tcl (optionally Tk) and cookfs linked sta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an be used in same ways as tclkit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For running other scripts – Tcl scripts, cookfs and zip arch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For building standalone applications – by adding files to cookfs archive, including </a:t>
            </a:r>
            <a:r>
              <a:rPr b="0" lang="pl-P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.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s interactive </a:t>
            </a:r>
            <a:r>
              <a:rPr b="0" lang="pl-P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lang="pl-P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shell in a singl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D862B-CFCA-4D38-BF70-5F1D18413E67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okit – standalone Tcl/Tk binary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okit and Tcl 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ses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Main()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_AppInit()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as custom application 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Reads initialization Tcl code from cook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Initializes tclvfs and Tcl libraries after mounting cook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pl-P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.tcl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file is present in cookfs archive, cookit sources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Works as standalone appli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Other packages can be placed in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ib/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directory; they can be loaded using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age require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comman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73610-823F-4C17-B734-726FB4AF3801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okit – standalone Tcl/Tk binary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okit build syst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Engine for building packages and linking cook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Has logic to handle dependencies, comparing vers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ultiple commands to build entire cookit or just par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Has definitions for cookit parts – i.e. tcl, tk, vfs, cook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Each part defines how it is configured and buil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Handles listing files to add to cookit 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reate additional scripts for cookit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Handle adding static packages to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_AppInit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049FA-7BBF-4ABB-9DD0-55C3779C1B7B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okit – standalone Tcl/Tk binary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Building cook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ownload cookit build system from SourceForge:</a:t>
            </a:r>
            <a:br>
              <a:rPr sz="2400"/>
            </a:br>
            <a:r>
              <a:rPr b="0" lang="pl-PL" sz="1800" spc="-1" strike="noStrike" u="sng">
                <a:solidFill>
                  <a:srgbClr val="000000"/>
                </a:solidFill>
                <a:uFillTx/>
                <a:latin typeface="Arial"/>
              </a:rPr>
              <a:t>http://sourceforge.net/projects/cookit/files/cooki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Retrieve Tcl, Tk, tclvfs and cookfs sources:</a:t>
            </a:r>
            <a:r>
              <a:rPr b="0" lang="pl-P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sh build.tcl retrievesource tcl tk vfs cook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uilding default cookit (without Tk)</a:t>
            </a:r>
            <a:br>
              <a:rPr sz="2000"/>
            </a:b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sh build.tcl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build-cook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uild with Tk embedded statically (i.e. for MS Windows)</a:t>
            </a:r>
            <a:r>
              <a:rPr b="0" lang="pl-PL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br>
              <a:rPr sz="2600"/>
            </a:b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sh build.tcl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–tk latest build-cook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67B85-32C0-493F-AC0A-825515628214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okit – standalone Tcl/Tk binary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Using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cook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.ex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-ui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0a2565"/>
              </a:buClr>
              <a:buSzPct val="95000"/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.ex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runs in command promp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0a2565"/>
              </a:buClr>
              <a:buSzPct val="95000"/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-ui.ex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ncludes Tk and only provides UI mo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latforms currently buil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x8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 x8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 OS X x8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platforms can be built from sources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EC008-CE74-48B5-9F8B-EAE1990BD9FC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Tcl one of first languages to ship applications as single execut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owrap – first Tcl solution for putting multiple files in single executable; uses ZIP based arch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freeWrap – one of first freely available solutions; uses Z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clKit – one of most popular solutions for bundling applications; uses Mk4-based VFS and uses Tcl 8.4 VFS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3C341-3167-43EB-AE79-9ECE5AC863D8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692EC-AAC8-41B1-AFF5-11EE918DD1F7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urrent status and plans – cookf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ve format stabilized – will not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mplementation partially C and Tc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ends on tclvfs to provide VFS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uture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-only implementation – remove depend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ure Tcl version for easier ado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 grouping and duplication detection – currently not detected well for small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EE6B5-F619-4673-9F7E-7E3390187048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urrent status and plans – cookit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urrent stat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ularized build system, support for multiple platforms (tested on 4 platforms, regularly built on 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naries work fine – no major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for threaded Tcl not yet comple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uture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der platforms builds to be performed period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tform for building and managing pack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E1192-DC2D-47B5-8E50-88743D14D56F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urrent status and plan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Want to help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k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eate document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tter test suite and/or add more test cover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lp with implementing new feat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k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tform support – build and submit bina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bmit bugs/problems on less common platfor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F0E0B-0DF6-44DB-A9C9-1409C27B6B90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303D3-4443-4693-91DC-3D6B91BBA537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itRock, especially Daniel Lopez and Juan José Medina Godoy – for providing feedback to cookfs and paper for this con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iotr Beltowski – for reviews and comments on cookfs, cookit and documents for this con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a2565"/>
                </a:solidFill>
                <a:latin typeface="Arial"/>
              </a:rPr>
              <a:t>Questions?</a:t>
            </a:r>
            <a:endParaRPr b="0" lang="en-US" sz="40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554AD-7DAD-41D5-8E9A-26943B83570D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Thank you!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pl-PL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C7C2E-95B9-4E07-9CE1-E4184C1B9EB7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77BC2-D9D9-404A-9ADE-83D417DEF8BD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Why cookf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ptimized for Tcl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Groups small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Optimized for Tcl files such as pkgIndex.tc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ultiple compre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urrently zlib, bz2 – plans for including LZMA as op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an use multiple compressions in one arch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esigned for shipping all types of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Handles large number of small files and very large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Provides efficient memory management – VFS operations consume very little mem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B0FDD-4868-4D55-AD24-787DF9A9C7B0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Using cookf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btaining and building cook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Available from SourceForge - source code on SVN; cookfs source and cookit binaries as file downloa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sing TEA; uses standard configure &amp; make approa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sing cookfs from 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Similar to any VFS –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fs::cookfs::Mount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fs::unmou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ommands (i.e.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ile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) work same as for any 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Direct write command for faster addition of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EC7D7-69FB-4482-8674-47986EF5C9A8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C5B0E-FF24-48DC-94D6-A20C3C402B1D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okfs major ele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okfs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Storage of parts of files, entire files or group of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Referenced by integer indexes, starting from 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ndex and directory hierarc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Keeps information on files and directories in 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aps hierarchy to cookfs pa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okfs VFS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ses pages and index elements to provide 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Offers access to archive from Tcl and Tcl C AP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FF5A7-E3AE-4288-B146-D314DFB0076F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pag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Generic solution for storing content of fi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Each page can store arbitrary amount of by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ges are referenced by integer indexes, starting at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Pages can only be added and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ges are immutable – update or delete not allow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ge reading uses LRU cache; this speeds up retrieval of small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ge cache is configurable – faster reads at a cost of larger memory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B05DE-635F-44FE-9C9D-39A0BABE14BF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pag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Metadata keeps track of page siz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Keeps information on all pages’ siz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ovides space for storing cookfs index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Offer write-aside fea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toring changes to cookfs archive in a separat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seful for read-only media (CD, DVD) or for storing updates to application in a separat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urrently written in C; work on pure Tcl implementation currently in pro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3T07:34:50Z</dcterms:created>
  <dc:creator>Bitrock SL</dc:creator>
  <dc:description/>
  <dc:language>en-US</dc:language>
  <cp:lastModifiedBy> </cp:lastModifiedBy>
  <dcterms:modified xsi:type="dcterms:W3CDTF">2010-10-13T17:45:02Z</dcterms:modified>
  <cp:revision>56</cp:revision>
  <dc:subject/>
  <dc:title>Diapositiva 1</dc:title>
</cp:coreProperties>
</file>