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BCB3-8CF4-43C5-80BD-35D25412EB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4613C-C769-482F-AD35-F7DAE4E0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EE902-37C2-40BF-993D-F443C5F87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39002-97D2-40F8-B09F-82225D98C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0E1703C-3703-4E21-9085-32F75431D84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DCF5EE-F448-4637-8E55-8F8C7611E12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97B7BD-B115-40F2-8EF0-3CC9A22DBD0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3716CB-1759-4B7F-9D40-BC470FAD8CF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1FBB8-CC7C-484B-81EE-0883B64B1B4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4590C9-FC55-4D54-BB2B-70A80F19986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3933CF-015F-4DE4-9129-D1F81D5F796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8645-8E6B-4B87-AFD5-95AA4959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A73507-B77D-42C9-8F49-FC4FE0F2CE5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7266D-C4F3-49B3-BE79-696AAEA2DC8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53EBA4-1566-4853-9066-96B03AD235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71F1A8-5608-4DF7-B902-8A82D5FF717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754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C8E131-DA16-46CA-8250-673C6967CF6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21D2-6B51-460C-B4C4-7990F3CCF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F0B1-696B-4DBB-BCFF-128CF141B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0CD5-0CEF-445C-ABF8-E710DF4D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-360" y="304560"/>
            <a:ext cx="84582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D0CD-C5F5-43AF-87B3-A0F0C366D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7586-51B0-41BA-8DA9-E851108EF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754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69AB-0B03-49D6-A57B-6CB7DFD40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-360" y="295920"/>
            <a:ext cx="84582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754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15E1-90FB-4699-BE0B-D09FB3A3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0492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6978E-30BB-48AE-A35A-B310E3088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" name="" descr=""/>
          <p:cNvPicPr/>
          <p:nvPr/>
        </p:nvPicPr>
        <p:blipFill>
          <a:blip r:embed="rId3"/>
          <a:stretch/>
        </p:blipFill>
        <p:spPr>
          <a:xfrm>
            <a:off x="8059680" y="76320"/>
            <a:ext cx="998640" cy="12952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ldNum" idx="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E405D-76CB-4C67-A1F3-44C8D74DA1D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8145360" y="2209680"/>
            <a:ext cx="998640" cy="129564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tcl.sf.net/" TargetMode="External"/><Relationship Id="rId2" Type="http://schemas.openxmlformats.org/officeDocument/2006/relationships/hyperlink" Target="http://tcl.sf.net/" TargetMode="External"/><Relationship Id="rId3" Type="http://schemas.openxmlformats.org/officeDocument/2006/relationships/hyperlink" Target="http://tcl.sf.net/" TargetMode="External"/><Relationship Id="rId4" Type="http://schemas.openxmlformats.org/officeDocument/2006/relationships/hyperlink" Target="http://tcl.sf.net/" TargetMode="External"/><Relationship Id="rId5" Type="http://schemas.openxmlformats.org/officeDocument/2006/relationships/hyperlink" Target="http://tcl.sf.net/" TargetMode="External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9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 Black"/>
              </a:rPr>
              <a:t>th</a:t>
            </a: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 Annual Tcl Confer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Jeff Hobb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http://www.tcl.tk/cgi-bin/tct/tip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he focus i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urrently over 100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T discussion is open on the public mailing list: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CA" sz="2000" spc="-1" strike="noStrike">
                <a:solidFill>
                  <a:srgbClr val="000000"/>
                </a:solidFill>
                <a:latin typeface="Lucida Console"/>
              </a:rPr>
              <a:t>tcl-core@lists.sourceforge.n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cl (TIP #24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k (TIP #30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Other contributors as wel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1371600" y="3814920"/>
          <a:ext cx="7315200" cy="161604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llen Flick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er Spju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dd Helf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Smit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rédéric Bonne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Griffi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hengye Ma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e Englis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OU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R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17" name=""/>
          <p:cNvGraphicFramePr/>
          <p:nvPr/>
        </p:nvGraphicFramePr>
        <p:xfrm>
          <a:off x="1371600" y="2057400"/>
          <a:ext cx="7315200" cy="121932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iel Steffe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guel Sof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olf Schroed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nce Darle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1"/>
              </a:rPr>
              <a:t>http://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2"/>
              </a:rPr>
              <a:t>tcl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3"/>
              </a:rPr>
              <a:t>.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4"/>
              </a:rPr>
              <a:t>sf</a:t>
            </a:r>
            <a:r>
              <a:rPr b="0" lang="en-CA" sz="2000" spc="-1" strike="noStrike" u="sng">
                <a:solidFill>
                  <a:srgbClr val="ff0000"/>
                </a:solidFill>
                <a:uFillTx/>
                <a:latin typeface="Lucida Console"/>
                <a:hlinkClick r:id="rId5"/>
              </a:rPr>
              <a:t>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Times New Roman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2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SourceForge provides a wealth of services for open source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Bug and patch data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CVS reposito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File serv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b p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anaged by TCT and Tcl/Tk maintain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ot the Tcl Developer Xchan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gramming for the People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provides the Tcl community with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Enterprise/TclDirect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aspn.ActiveState.com/ASPN/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Lucida Console"/>
              </a:rPr>
              <a:t>http://www.ActiveState.com/Products/ASPN_Tcl/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8.4.0.1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ased on the 8.4.0 Tcl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hanced with several popular exten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vailable for Windows, Linux, Solaris and HP-U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ay come in the fu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ctiveTcl (cont.)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de repository (still) in the wor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ctiveTcl 8.3.4.3 based on the 8.3.4 Tcl c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Provides a basis for the Tcl Dev Ki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onsidering threaded buil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devxchange" descr=""/>
          <p:cNvPicPr/>
          <p:nvPr/>
        </p:nvPicPr>
        <p:blipFill>
          <a:blip r:embed="rId1"/>
          <a:stretch/>
        </p:blipFill>
        <p:spPr>
          <a:xfrm>
            <a:off x="1077840" y="1104840"/>
            <a:ext cx="6953400" cy="5572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 Cookbook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tclcookbook" descr=""/>
          <p:cNvPicPr/>
          <p:nvPr/>
        </p:nvPicPr>
        <p:blipFill>
          <a:blip r:embed="rId1"/>
          <a:stretch/>
        </p:blipFill>
        <p:spPr>
          <a:xfrm>
            <a:off x="1014480" y="1143000"/>
            <a:ext cx="7115040" cy="5486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TclPro + Mo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Introduced December 200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cl Dev Kit: based on TclPro, a commercial quality development environmen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bugger: source-level debugger with nice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: find errors without running ap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rapper: create self-contained applications for distrib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: protect your source c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An IDE for scripting langua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zilla framework b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oss-platform (Windows &amp; Linux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rn IDE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ral unique Tcl editing featur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ght integration of TDK tools with Kom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odo 2.0 in beta (demo la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ActiveState Komodo ID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Dev Kit 2.0 released in Augu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hanced debugger with integrated ch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coverage and hot-spot analysis 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ed user-friendly GUIs to Wrapper and Compi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er updated for 8.4 (and corrected for 8.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UI Builder part of Komodo 2.0 P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X-platform, x-language Tk UI build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ed loosely on SpecTc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ll be integrated with other too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6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6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guibuilder" descr=""/>
          <p:cNvPicPr/>
          <p:nvPr/>
        </p:nvPicPr>
        <p:blipFill>
          <a:blip r:embed="rId1"/>
          <a:stretch/>
        </p:blipFill>
        <p:spPr>
          <a:xfrm>
            <a:off x="419040" y="1104840"/>
            <a:ext cx="8229600" cy="564048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ctiveState GUI Builder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 u="sng">
                <a:solidFill>
                  <a:srgbClr val="ff0000"/>
                </a:solidFill>
                <a:uFillTx/>
                <a:latin typeface="Lucida Console"/>
              </a:rPr>
              <a:t>http://wiki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tcl.t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tcl.ActiveState.com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http://www.ddj.com/topics/tclur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r subscribe to </a:t>
            </a:r>
            <a:r>
              <a:rPr b="1" lang="en-CA" sz="1800" spc="-1" strike="noStrike">
                <a:solidFill>
                  <a:srgbClr val="000000"/>
                </a:solidFill>
                <a:latin typeface="Lucida Console"/>
              </a:rPr>
              <a:t>tcl-announce@listserv.activestate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98080" y="2022480"/>
            <a:ext cx="259632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120" y="1295280"/>
            <a:ext cx="7239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ble release now at 8.4.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e than 2 years in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panning 4 compan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rst release to be governed by the TIP 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untless features and enhanc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vious stable release 8.3 set a new stand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SE 8.1 will include 8.4.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649120" y="1641600"/>
            <a:ext cx="279900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9120" y="2403360"/>
            <a:ext cx="3024360" cy="119124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8.4.0 released September 10</a:t>
            </a:r>
            <a:r>
              <a:rPr b="0" lang="en-CA" sz="28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200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any core feature enhance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w virtual file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Improved 64-bit support on 32-bit O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Extended serial port cont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Lucida Consol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t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lsearch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regsub</a:t>
            </a: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, command trac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Near or better than 8.0, with unicode and thread saf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Inclusion of numerous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/Tk 8.4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New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spinbox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labelframe</a:t>
            </a: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panedwindow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core Tk widge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Unlimited undo/redo in </a:t>
            </a:r>
            <a:r>
              <a:rPr b="0" lang="en-CA" sz="2800" spc="-1" strike="noStrike">
                <a:solidFill>
                  <a:srgbClr val="000000"/>
                </a:solidFill>
                <a:latin typeface="Lucida Console"/>
              </a:rPr>
              <a:t>text</a:t>
            </a: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 widg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Compound buttons and lab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Improved window manager contr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Ports now exist for native OS X/Aqua, Windows CE and Palm 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ore later in 8.4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ActiveState provides multi-language, cross-platform software &amp;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Tcl, Perl, PHP, Python, XSL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Linux, Solaris, Windows, HP-UX, AIX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We make it easy to use new technolog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Web Services and .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Mission: Make Programming Easi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Our 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ctive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Times New Roman"/>
              </a:rPr>
              <a:t>ASP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8.4 Contribu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6" name=""/>
          <p:cNvGraphicFramePr/>
          <p:nvPr/>
        </p:nvGraphicFramePr>
        <p:xfrm>
          <a:off x="1523880" y="1231920"/>
          <a:ext cx="6096240" cy="4987800"/>
        </p:xfrm>
        <a:graphic>
          <a:graphicData uri="http://schemas.openxmlformats.org/drawingml/2006/table">
            <a:tbl>
              <a:tblPr/>
              <a:tblGrid>
                <a:gridCol w="1219320"/>
                <a:gridCol w="1219320"/>
                <a:gridCol w="1218960"/>
                <a:gridCol w="1219320"/>
                <a:gridCol w="1219320"/>
              </a:tblGrid>
              <a:tr h="5010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rnd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k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u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nfiel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oudaill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inkm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un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llewa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vid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u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y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ies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ravereau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llida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arr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ip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h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valenk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rehbie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uzm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ava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overs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elsk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ll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l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hum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berme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lein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etasi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onla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atclif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rupper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c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guc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aha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kesh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chent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er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ri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siljevi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ird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oskui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gn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ts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lt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yamamo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47960" y="144756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sponse (out of x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00000"/>
                </a:solidFill>
                <a:latin typeface="Arial"/>
              </a:rPr>
              <a:t>Tcl’Europe 2002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Munich, June 27-28, 200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15 original tal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included on the Tcl’2002 conference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Times New Roman"/>
              </a:rPr>
              <a:t>Thanks to Michael Hasche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Times New Roman"/>
              </a:rPr>
              <a:t>Talks and pictures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Lucida Console"/>
              </a:rPr>
              <a:t> </a:t>
            </a:r>
            <a:r>
              <a:rPr b="0" lang="en-CA" sz="2400" spc="-1" strike="noStrike">
                <a:solidFill>
                  <a:srgbClr val="000000"/>
                </a:solidFill>
                <a:latin typeface="Lucida Console"/>
              </a:rPr>
              <a:t>http://www.t-ide.com/tcl2002e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re is guided by community inpu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write a T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one can be a core maintain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sues are most press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ill continue to work with the Tcl community and build more Tcl related produ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mos la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chive file support via VFS (.jar/.zi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-alone executable support in core (*wr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54440" y="1447560"/>
            <a:ext cx="38037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 core is robust, feature-ri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still pushing the bound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uture emphasis on packages and modula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munity is the key to an even more successful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63868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22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3716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9810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2004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4197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rot="16200000">
            <a:off x="2019240" y="125712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2400 h 3809880"/>
              <a:gd name="textAreaBottom" fmla="*/ 377748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2133720" y="3352320"/>
            <a:ext cx="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5078160" y="2084040"/>
            <a:ext cx="228600" cy="2155680"/>
          </a:xfrm>
          <a:custGeom>
            <a:avLst/>
            <a:gdLst>
              <a:gd name="textAreaLeft" fmla="*/ 146160 w 228600"/>
              <a:gd name="textAreaRight" fmla="*/ 228960 w 228600"/>
              <a:gd name="textAreaTop" fmla="*/ 18360 h 2155680"/>
              <a:gd name="textAreaBottom" fmla="*/ 2137320 h 2155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4876920" y="3352320"/>
            <a:ext cx="0" cy="1411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29460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41280" y="5846760"/>
            <a:ext cx="892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425680" y="584676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20080" y="5830920"/>
            <a:ext cx="838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M 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036880" y="6006960"/>
            <a:ext cx="35856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263760" y="5999040"/>
            <a:ext cx="4651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38680" y="5999040"/>
            <a:ext cx="45720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76960" y="6006960"/>
            <a:ext cx="38088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1956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1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016080" y="476424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252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645240" y="5846760"/>
            <a:ext cx="1273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9900"/>
                </a:solidFill>
                <a:latin typeface="Arial"/>
              </a:rPr>
              <a:t>500,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772400" y="5999040"/>
            <a:ext cx="304920" cy="0"/>
          </a:xfrm>
          <a:prstGeom prst="line">
            <a:avLst/>
          </a:prstGeom>
          <a:ln w="12600">
            <a:solidFill>
              <a:srgbClr val="0099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098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467480" y="2666880"/>
            <a:ext cx="6098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58080" y="4095720"/>
            <a:ext cx="28191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931160" y="2971440"/>
            <a:ext cx="7920" cy="1066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8077320" y="2666880"/>
            <a:ext cx="6094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19792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5784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749952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75640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95732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56120" y="2400480"/>
            <a:ext cx="642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371840" y="2400480"/>
            <a:ext cx="59544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029200" y="2400480"/>
            <a:ext cx="5475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04000" y="2400480"/>
            <a:ext cx="5716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858000" y="302904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6136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839080" y="257184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4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7" name=""/>
          <p:cNvSpPr/>
          <p:nvPr/>
        </p:nvSpPr>
        <p:spPr>
          <a:xfrm>
            <a:off x="8656560" y="257184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 flipV="1">
            <a:off x="6883560" y="328284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flipV="1">
            <a:off x="3193920" y="3276360"/>
            <a:ext cx="0" cy="191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1828800" y="3276360"/>
            <a:ext cx="0" cy="866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6386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57200" y="1509840"/>
            <a:ext cx="0" cy="1461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2238480"/>
            <a:ext cx="0" cy="733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000240" y="5189400"/>
            <a:ext cx="2990880" cy="10479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; Tcl/Tk core moves to SourceForge; TclPro open sourced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6396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648240" y="1057320"/>
            <a:ext cx="277164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 flipV="1">
            <a:off x="2443320" y="3265200"/>
            <a:ext cx="0" cy="193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53920" y="5200560"/>
            <a:ext cx="194976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600360" y="2971800"/>
            <a:ext cx="33624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416232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39680" y="3524400"/>
            <a:ext cx="9288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0 Fe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90680" y="2467080"/>
            <a:ext cx="952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1 Ap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52640" y="2467080"/>
            <a:ext cx="9716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2 Au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308240" y="3648240"/>
            <a:ext cx="98568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1 Ju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2949480" y="3648240"/>
            <a:ext cx="100980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2 No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39680" y="1176480"/>
            <a:ext cx="2573280" cy="33336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2K in Austin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03280" y="1666800"/>
            <a:ext cx="205128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becomes Ajuba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714840" y="4019400"/>
            <a:ext cx="192384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514836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57880" y="1819440"/>
            <a:ext cx="21240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19880" y="480060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1. ActiveTcl 8.3.4.3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777240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7848720" y="3276720"/>
            <a:ext cx="0" cy="704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899480" y="2052720"/>
            <a:ext cx="1082520" cy="371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44520" y="4143240"/>
            <a:ext cx="194940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0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8" name=""/>
          <p:cNvGrpSpPr/>
          <p:nvPr/>
        </p:nvGrpSpPr>
        <p:grpSpPr>
          <a:xfrm>
            <a:off x="3454560" y="4782960"/>
            <a:ext cx="433080" cy="417600"/>
            <a:chOff x="3454560" y="4782960"/>
            <a:chExt cx="433080" cy="417600"/>
          </a:xfrm>
        </p:grpSpPr>
        <p:sp>
          <p:nvSpPr>
            <p:cNvPr id="179" name=""/>
            <p:cNvSpPr/>
            <p:nvPr/>
          </p:nvSpPr>
          <p:spPr>
            <a:xfrm>
              <a:off x="3679560" y="49046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55896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558240" y="47829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50676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3506400" y="48175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506400" y="4974480"/>
              <a:ext cx="31176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454560" y="4902840"/>
              <a:ext cx="4330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83059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88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0" name=""/>
          <p:cNvSpPr/>
          <p:nvPr/>
        </p:nvSpPr>
        <p:spPr>
          <a:xfrm>
            <a:off x="5357880" y="340056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Ju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962760" y="2971800"/>
            <a:ext cx="1886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696080" y="3981600"/>
            <a:ext cx="762120" cy="320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691320" y="259092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a3 Ma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305920" y="248616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143760" y="373392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24440" y="414324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. ActiveState TclPro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691320" y="5505480"/>
            <a:ext cx="221148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2. 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8153280" y="3276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977240" y="3505320"/>
            <a:ext cx="815760" cy="3492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.4b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cl omnipresent in EDA indus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OL Digital City, Travelocity, MapQues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Status As of 8</a:t>
            </a:r>
            <a:r>
              <a:rPr b="1" lang="en-US" sz="40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Tcl Conferenc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120" y="1371600"/>
            <a:ext cx="7543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 O’Reilly Open Source Convention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an Diego, July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cl/Tk 8.3.3 was the stable version (8.3.x now standard in Linux distribution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8.4a3 was just releas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tiveState was just establishing with Tcl experti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title"/>
          </p:nvPr>
        </p:nvSpPr>
        <p:spPr>
          <a:xfrm>
            <a:off x="-360" y="304560"/>
            <a:ext cx="8458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09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'2002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All User</cp:lastModifiedBy>
  <cp:lastPrinted>1999-01-02T23:07:33Z</cp:lastPrinted>
  <dcterms:modified xsi:type="dcterms:W3CDTF">2002-09-11T05:41:08Z</dcterms:modified>
  <cp:revision>416</cp:revision>
  <dc:subject/>
  <dc:title>Tcl'Europe 2002 State of Tcl</dc:title>
</cp:coreProperties>
</file>