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7071-88B3-4B2F-9DB9-EDE8A2C47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8046-93FB-44BD-83DD-12F51177C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625E-EBBF-4F10-9C5D-96F797FE0C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C749-3C14-4D7E-9491-41D88DBA69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5CF19B9-4590-40D0-8B00-FF6A4E9542B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50E76CC-F0D7-449C-A889-A0E293C216F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2FC354-0BBB-461B-A8C8-C30354A438C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7AC7655-7DB9-4429-8D0C-2B05F84AD2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B1E9E61-E294-4737-B650-502D519C93C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7B3534-7E72-496E-B6E2-4912A13693F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D7E6305-D5BD-4B06-B211-4B1590E5E74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BC6C-D13E-42CC-8129-20A428F55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AA672E-C7C3-4878-8D03-B6D237F37BC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C2B0A1B-6400-4A56-B21E-267E0EC6D13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FEC41-C7FA-45D3-9073-6C61ED9EB5F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0741914-FBC5-4D07-9F30-AD81F3A4CF6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8B57276-05DB-4E8F-B7FA-5B17E1BFA83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017E-30EE-4BE0-82CA-8D789DC9C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D864-A60B-413C-9351-8F72F615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271B-8229-4750-BBEA-04A8D92BE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08FE-8C71-4C9D-9F95-31AD4BA70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307C-0E93-4CB3-97E4-589731FEB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0405-E4D5-4D62-A6F1-3887CEC27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B36D6-B25C-4C32-A919-5D8A8DA80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C8BEF-4028-4E4D-B07E-E2F63F4074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07A60-C474-4BFC-8871-C3EE340A53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iki.tcl.tk/3099.html" TargetMode="External"/><Relationship Id="rId2" Type="http://schemas.openxmlformats.org/officeDocument/2006/relationships/hyperlink" Target="http://wiki.tcl.tk/3099.html" TargetMode="External"/><Relationship Id="rId3" Type="http://schemas.openxmlformats.org/officeDocument/2006/relationships/hyperlink" Target="http://wiki.tcl.tk/3099.html" TargetMode="External"/><Relationship Id="rId4" Type="http://schemas.openxmlformats.org/officeDocument/2006/relationships/hyperlink" Target="http://wiki.tcl.tk/3099.html" TargetMode="External"/><Relationship Id="rId5" Type="http://schemas.openxmlformats.org/officeDocument/2006/relationships/hyperlink" Target="http://wiki.tcl.tk/3099.html" TargetMode="External"/><Relationship Id="rId6" Type="http://schemas.openxmlformats.org/officeDocument/2006/relationships/hyperlink" Target="http://wiki.tcl.tk/3099.html" TargetMode="External"/><Relationship Id="rId7" Type="http://schemas.openxmlformats.org/officeDocument/2006/relationships/hyperlink" Target="http://wiki.tcl.tk/3099.html" TargetMode="External"/><Relationship Id="rId8" Type="http://schemas.openxmlformats.org/officeDocument/2006/relationships/hyperlink" Target="http://www.tcl.tk/man/tcl8.4/" TargetMode="External"/><Relationship Id="rId9" Type="http://schemas.openxmlformats.org/officeDocument/2006/relationships/hyperlink" Target="http://www.tcl.tk/man/tcl8.4/" TargetMode="External"/><Relationship Id="rId10" Type="http://schemas.openxmlformats.org/officeDocument/2006/relationships/hyperlink" Target="http://www.tcl.tk/man/tcl8.4/" TargetMode="External"/><Relationship Id="rId11" Type="http://schemas.openxmlformats.org/officeDocument/2006/relationships/hyperlink" Target="http://www.tcl.tk/man/tcl8.4/" TargetMode="External"/><Relationship Id="rId12" Type="http://schemas.openxmlformats.org/officeDocument/2006/relationships/hyperlink" Target="http://www.tcl.tk/man/tcl8.4/" TargetMode="External"/><Relationship Id="rId1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tcl.tk/cgi-bin/tct/tip/" TargetMode="External"/><Relationship Id="rId2" Type="http://schemas.openxmlformats.org/officeDocument/2006/relationships/hyperlink" Target="http://www.tcl.tk/cgi-bin/tct/tip/" TargetMode="External"/><Relationship Id="rId3" Type="http://schemas.openxmlformats.org/officeDocument/2006/relationships/hyperlink" Target="http://www.tcl.tk/cgi-bin/tct/tip/" TargetMode="External"/><Relationship Id="rId4" Type="http://schemas.openxmlformats.org/officeDocument/2006/relationships/hyperlink" Target="http://www.tcl.tk/cgi-bin/tct/tip/" TargetMode="External"/><Relationship Id="rId5" Type="http://schemas.openxmlformats.org/officeDocument/2006/relationships/hyperlink" Target="http://www.tcl.tk/cgi-bin/tct/tip/" TargetMode="External"/><Relationship Id="rId6" Type="http://schemas.openxmlformats.org/officeDocument/2006/relationships/hyperlink" Target="http://www.tcl.tk/cgi-bin/tct/tip/" TargetMode="External"/><Relationship Id="rId7" Type="http://schemas.openxmlformats.org/officeDocument/2006/relationships/hyperlink" Target="http://www.tcl.tk/cgi-bin/tct/tip/" TargetMode="External"/><Relationship Id="rId8" Type="http://schemas.openxmlformats.org/officeDocument/2006/relationships/hyperlink" Target="http://www.tcl.tk/cgi-bin/tct/tip/" TargetMode="External"/><Relationship Id="rId9" Type="http://schemas.openxmlformats.org/officeDocument/2006/relationships/hyperlink" Target="http://www.tcl.tk/cgi-bin/tct/tip/" TargetMode="External"/><Relationship Id="rId10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iki.tcl.tk/1611.html" TargetMode="External"/><Relationship Id="rId2" Type="http://schemas.openxmlformats.org/officeDocument/2006/relationships/hyperlink" Target="http://wiki.tcl.tk/vfs" TargetMode="External"/><Relationship Id="rId3" Type="http://schemas.openxmlformats.org/officeDocument/2006/relationships/hyperlink" Target="http://wiki.tcl.tk/vfs" TargetMode="External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l 8.4 Overview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/Tk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ile’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irtual File Sy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hooks into all FS functiona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ll support for 64-bit file sizes on 32-bit operating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norm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epara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le 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test 2.0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Greatly enhanced ‘test’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upports multiple error match typ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Runs multi-process for robustn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00% backwards compatible with v1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erial Port Contro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erial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mod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aud,parity,data,stop 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handshak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ype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queu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timeou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contro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gnalMap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ttystatu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-xcha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harPair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pollinterval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sec</a:t>
            </a:r>
            <a:br>
              <a:rPr sz="2800"/>
            </a:b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sysbuffer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izeLi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configure -lasterr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4-bit “wide” integ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s int64 or long lo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completely transparent 32/64-bit barri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wide(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:tcl_platform(wordSiz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nary command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format 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inary sca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tring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W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nged behavio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copy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respects encodings of its chann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ormat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treat argument as wide inte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an %ld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likewise no longer ignore the field width specif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urc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the byte 0x1a (^Z) as an EOF char on all plat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bs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reat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break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continu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uring command substitution different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Exec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tcl_traceCompil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nly available with TCL_COMPILE_DEBUG buil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‘trace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ad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and rename | dele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ecution enter | leave | enterstep | leaveste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ble array | read | write | un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remo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ce inf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and tracing now possi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ld style trace command deprec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ormalized ‘memory’ comman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ful for debugging memory probl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quires compilation with TCL_MEM_DEBU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acti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in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onexi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mory ta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oved memory displ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dget styling support (TIP #4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gnificant widget enhanc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d I18N and L10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d XIM and IME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ll ?-nic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new feature of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pinbo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ilds on the entry widg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ast, feature rich and effic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anedwind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Part widget, part geometry mana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eparate from frame to not bloat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labelframe" descr=""/>
          <p:cNvPicPr/>
          <p:nvPr/>
        </p:nvPicPr>
        <p:blipFill>
          <a:blip r:embed="rId1"/>
          <a:stretch/>
        </p:blipFill>
        <p:spPr>
          <a:xfrm>
            <a:off x="1143000" y="5257800"/>
            <a:ext cx="1393920" cy="1303200"/>
          </a:xfrm>
          <a:prstGeom prst="rect">
            <a:avLst/>
          </a:prstGeom>
          <a:ln w="0">
            <a:noFill/>
          </a:ln>
        </p:spPr>
      </p:pic>
      <p:pic>
        <p:nvPicPr>
          <p:cNvPr id="227" name="panedwindow" descr=""/>
          <p:cNvPicPr/>
          <p:nvPr/>
        </p:nvPicPr>
        <p:blipFill>
          <a:blip r:embed="rId2"/>
          <a:srcRect l="2608" t="37648" r="3123" b="13154"/>
          <a:stretch/>
        </p:blipFill>
        <p:spPr>
          <a:xfrm>
            <a:off x="6718320" y="3200400"/>
            <a:ext cx="2295360" cy="1709640"/>
          </a:xfrm>
          <a:prstGeom prst="rect">
            <a:avLst/>
          </a:prstGeom>
          <a:ln w="0">
            <a:noFill/>
          </a:ln>
        </p:spPr>
      </p:pic>
      <p:pic>
        <p:nvPicPr>
          <p:cNvPr id="228" name="spinbox" descr=""/>
          <p:cNvPicPr/>
          <p:nvPr/>
        </p:nvPicPr>
        <p:blipFill>
          <a:blip r:embed="rId3"/>
          <a:stretch/>
        </p:blipFill>
        <p:spPr>
          <a:xfrm>
            <a:off x="5562720" y="1905120"/>
            <a:ext cx="949320" cy="639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New Tk sub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pboard 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age in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hoto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nsparenc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w we can properly animate GIF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caret </a:t>
            </a:r>
            <a:r>
              <a:rPr b="0" i="1" lang="en-CA" sz="3200" spc="-1" strike="noStrike">
                <a:solidFill>
                  <a:srgbClr val="000000"/>
                </a:solidFill>
                <a:latin typeface="Times New Roman"/>
              </a:rPr>
              <a:t>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?-x x? ?-y y? ?-height h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or controlling global car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lso directs placement of IME/XIM wind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windowing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o distinguish between Xlib and native Aqu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 timeli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eps to 8.4.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ext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undo/redo support with ‘edit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undo, -autoseparators and -maxundo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t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‘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lete’ takes multiple range pai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tomic dele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virtual ev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Selection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lt;&lt;Modified&gt;&gt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wm’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stackord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ew/Control the stacking order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m attribu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controlling the platform specific aspects of toplev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lementations for Mac and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y get Unix features in the fu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nally: topmost functionality on Window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mpoun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 both image and text to be displayed simultaneous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ientation can be controlled with -compound o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rt for all button types and label widget, as well as in men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widge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utt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sabledbackground –disabledforegroun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y -state readonly -readonly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heckbutton -compound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stbox -disabledforeground -state -activesty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u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d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enubutton -comp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diobutton -overrelie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ows left/right or top/bottom asymmetry in padding (-padx -pad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lies to widget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belfra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geometry managers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column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rid rowconfigur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</a:rPr>
              <a:t>master index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-uni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k dialog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OpenFile -multip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_getSaveFile -mess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Open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tk_getSaveFil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re different in whether the returned file name includes the extens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oved Tk Privat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Priv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k[A-Z]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with ::tk::Priv and tk::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pport for ‘exporting’ the private comma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t don’t use them any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hange Detail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Wiki Changes in Tcl/Tk 8.4 p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wiki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/3099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cal mode wiki on the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 ChangeLo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http://www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tcl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0"/>
              </a:rPr>
              <a:t>.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1"/>
              </a:rPr>
              <a:t>tk</a:t>
            </a:r>
            <a:r>
              <a:rPr b="0" lang="en-CA" sz="2400" spc="-1" strike="noStrike" u="sng">
                <a:solidFill>
                  <a:srgbClr val="ff0000"/>
                </a:solidFill>
                <a:uFillTx/>
                <a:latin typeface="Lucida Console"/>
                <a:hlinkClick r:id="rId12"/>
              </a:rPr>
              <a:t>/man/tcl8.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Details in BoF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Boo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Book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29415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ing soon to a store near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lch 4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lynt 2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 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bookcover" descr=""/>
          <p:cNvPicPr/>
          <p:nvPr/>
        </p:nvPicPr>
        <p:blipFill>
          <a:blip r:embed="rId1"/>
          <a:stretch/>
        </p:blipFill>
        <p:spPr>
          <a:xfrm>
            <a:off x="3627360" y="990720"/>
            <a:ext cx="4830840" cy="52005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Where to get i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 Developer Xchan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Points to everyt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Active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Binary distributions with extens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ww.activestate.com/Products/ActiveTc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ourceFo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Core sourc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tcl.sourceforge.net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Tcl and Tclkit bina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68680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8.4 Development: TIP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ver 2 years in the mak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rst time the TIP process has defined a Tcl release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ww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tk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6"/>
              </a:rPr>
              <a:t>cgi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7"/>
              </a:rPr>
              <a:t>-bin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8"/>
              </a:rPr>
              <a:t>tct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9"/>
              </a:rPr>
              <a:t>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nitially rough, but process has improv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f the 100+ TIPs, most targeted 8.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thanks to the maintainers and contributo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hang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+% improved performance over 8.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wiki.tcl.tk/1611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ly new Virtual File System (VF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http://wiki.tcl.tk/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v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rovements to numerous comma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64-bit integer and file system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Tification of the C AP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urce incompatible – with a compatability #def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nor command enhancem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stati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ray name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rrayName ?mo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patt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p recursionlim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sub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switch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exp string subSpec ?var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set ?-nocomplain? ?..?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name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xpr ‘eq’ and ‘ne’ for true string compari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 -tail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pattern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amespace ex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fo script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?filenam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pdated list command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m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fficient way to replace el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inde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list ?index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..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dex into nested lists easi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Lucida Consol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all -ascii -decreasing -dictionary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increasing -inline -integer -not -rea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sorted -sta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ndreask</cp:lastModifiedBy>
  <cp:lastPrinted>1999-01-02T23:07:33Z</cp:lastPrinted>
  <dcterms:modified xsi:type="dcterms:W3CDTF">2002-09-11T16:00:26Z</dcterms:modified>
  <cp:revision>416</cp:revision>
  <dc:subject/>
  <dc:title>8.4 Tcl Overview</dc:title>
</cp:coreProperties>
</file>