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8B29-55E3-4E7D-BFFE-F9C51E5AD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DC01-0C4A-413E-ABAC-3138C7C1F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7F16-9AE8-438E-8F08-FD6405C9D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A7FF-0722-4EE5-80B5-93AFA721C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6E63-2B25-4DCD-9ED4-F64CD3A01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4811-7AC9-46D0-AFC9-461BA9F34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4C30-591A-41B9-A857-3D702EB39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73D4-29C0-47EC-B66A-1544248E4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5AB8-4EB7-469A-A535-A1D796536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B2D3-CD0C-47FA-8E1B-ACDF1145E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A187-85C3-4C41-848B-27228C6CF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1C06-1ECE-46D5-8EA6-FC2DF4031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F1ED9-C742-4C98-903D-A47AAFC883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ch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jen Mark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ne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m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ew examples of Plotchart itse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s DeCoster’s xy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mental: SCADA displ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y to use: just a few commands for a p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de range of plot and chart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end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s predecessor: emu_graph by Ste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si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gn deci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whole can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 form of clip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anage the data (duplic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ing the appearance takes effect for new data on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the plot of the chosen type – new comm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l in the data via subcomm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ails differ per plot 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de – linking method names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du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title)             Draw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xtext)             DrawX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plot)              Draw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dot)               DrawD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dotconfig)         DotConfig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interval)          DrawInterv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trend)             DrawTrend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piechart,plot)            DrawP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piechart,saveplot)        SavePl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 –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::Plotchart::createPiechart { w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ariable data_se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each s [array names data_series "$w,*"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unset data_series($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newchart "piechart_$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rp alias {} $newchart {} ::Plotchart::PlotHandler piechart $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pyConfig piechart $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each {pxmin pymin pxmax pymax} [MarginsCircle $w] {break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iewPort $w $pxmin $pymin $pxmax $py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$w create oval $pxmin $pymin $pxmax $py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Colours $w blue lightblue green yellow orange red magenta brow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efaultLegend  $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efaultBalloon $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$newcha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 – par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::Plotchart::PlotHandler { type w command args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ariable methodPro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{ [info exists methodProc($type,$command)]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val $methodProc($type,$command) $w $ar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-code error "No such method - $command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: contribu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people have contributed with code 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ges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k Stucky, Stefan Finzel, Pa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gel, Dave Hanks, Michael Baud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ve Blinkhorn,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s DeCoster has developed xyplot on t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Plot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rrently supported 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Y-plots (also logarithmic ax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our plots (2D and 3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tograms and piech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 charts and Gantt ch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ial char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ous types of an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ing plots in one can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4T04:30:44Z</dcterms:created>
  <dc:creator>Computer Services</dc:creator>
  <dc:description/>
  <dc:language>en-US</dc:language>
  <cp:lastModifiedBy>Computer Services</cp:lastModifiedBy>
  <dcterms:modified xsi:type="dcterms:W3CDTF">2010-06-04T04:48:12Z</dcterms:modified>
  <cp:revision>4</cp:revision>
  <dc:subject/>
  <dc:title>Plotchart</dc:title>
</cp:coreProperties>
</file>