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76184"/>
        <c:axId val="40306137"/>
      </c:barChart>
      <c:catAx>
        <c:axId val="81176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06137"/>
        <c:crosses val="autoZero"/>
        <c:auto val="1"/>
        <c:lblAlgn val="ctr"/>
        <c:lblOffset val="100"/>
        <c:noMultiLvlLbl val="0"/>
      </c:catAx>
      <c:valAx>
        <c:axId val="40306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76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D30-1F79-478A-ADDB-397FF531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BEC-763A-43A3-832D-B5616565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5B3-FA43-4CD2-83BE-F525AB43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A4C-9F55-48D0-80B1-E2145C54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E94-3B15-4145-8867-08B23D57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5FA-24C2-4FE4-92DF-C4378C4F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DA1-F9D8-4A1C-828C-3B6E9543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51C-DF8F-4997-A946-B08E5C2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3BB-D408-4C52-B2B9-7B0D5FAB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D53-7484-4E80-B8F5-DC52369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7B7-1651-4511-83BD-DE63CA26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C2C-6448-4258-B33A-A327A42C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AA94D-3561-439D-AF85-065C803270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