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The%20Microsoft%20Sound.wav" ContentType="audio/x-wav"/>
  <Override PartName="/ppt/media/image2.png" ContentType="image/png"/>
  <Override PartName="/ppt/media/image3.png" ContentType="image/png"/>
  <Override PartName="/ppt/media/clap.wav" ContentType="audio/x-wav"/>
  <Override PartName="/ppt/media/driveby.wav" ContentType="audio/x-wav"/>
  <Override PartName="/ppt/media/image4.jpeg" ContentType="image/jpeg"/>
  <Override PartName="/ppt/media/image5.jpeg" ContentType="image/jpeg"/>
  <Override PartName="/ppt/media/image6.jpeg" ContentType="image/jpeg"/>
  <Override PartName="/ppt/media/LOGOFF.WAV" ContentType="audio/x-wav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  <p:custShowLst>
    <p:custShow name="Custom Show 1" id="0">
      <p:sldLst>
        <p:sld r:id="rId3"/>
        <p:sld r:id="rId5"/>
        <p:sld r:id="rId6"/>
        <p:sld r:id="rId7"/>
        <p:sld r:id="rId8"/>
        <p:sld r:id="rId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DDB-0CDF-41CB-B7DF-5C26287B3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2946-0975-486C-BBD4-9747D700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953-B148-4347-9E72-6D51C93F1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C0A-3FBE-4559-8205-47E7136E4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69A8-7B3D-4FB6-8D0F-2E5C76CE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2143-794B-495B-AC8F-BBD76F66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3A68-C6A8-425A-AE77-AEAC552A9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FE12-3BAF-4C64-9645-06154769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EF92-021A-4F8E-9527-6BE207CC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650-CFD6-4285-8CA8-3146314E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9AA2-683C-4D8C-9443-9534A339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BFC5-C3FF-4D7C-B54C-7AF033B6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26B6-B8E2-4032-B76A-DE0615D0D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he%20Microsoft%20Sound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OGOFF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" descr=""/>
          <p:cNvPicPr/>
          <p:nvPr/>
        </p:nvPicPr>
        <p:blipFill>
          <a:blip r:embed="rId1"/>
          <a:stretch/>
        </p:blipFill>
        <p:spPr>
          <a:xfrm>
            <a:off x="880920" y="704880"/>
            <a:ext cx="7380360" cy="5448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The%20Microsoft%20Sound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b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528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driveby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3000">
    <p:random/>
    <p:sndAc>
      <p:stSnd>
        <p:snd r:embed="rId2" name="carbrak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e" descr=""/>
          <p:cNvPicPr/>
          <p:nvPr/>
        </p:nvPicPr>
        <p:blipFill>
          <a:blip r:embed="rId1"/>
          <a:stretch/>
        </p:blipFill>
        <p:spPr>
          <a:xfrm>
            <a:off x="728640" y="585720"/>
            <a:ext cx="7686720" cy="568656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clap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" descr=""/>
          <p:cNvPicPr/>
          <p:nvPr/>
        </p:nvPicPr>
        <p:blipFill>
          <a:blip r:embed="rId1"/>
          <a:stretch/>
        </p:blipFill>
        <p:spPr>
          <a:xfrm>
            <a:off x="507960" y="376200"/>
            <a:ext cx="8126280" cy="61038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  <p:sndAc>
      <p:stSnd>
        <p:snd r:embed="rId2" name="LOGOFF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" descr=""/>
          <p:cNvPicPr/>
          <p:nvPr/>
        </p:nvPicPr>
        <p:blipFill>
          <a:blip r:embed="rId1"/>
          <a:stretch/>
        </p:blipFill>
        <p:spPr>
          <a:xfrm>
            <a:off x="142920" y="160200"/>
            <a:ext cx="8858160" cy="653760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8T23:56:44Z</dcterms:created>
  <dc:creator>DirtySlesk</dc:creator>
  <dc:description/>
  <dc:language>en-US</dc:language>
  <cp:lastModifiedBy>DirtySlesk</cp:lastModifiedBy>
  <dcterms:modified xsi:type="dcterms:W3CDTF">2000-10-04T04:47:42Z</dcterms:modified>
  <cp:revision>2</cp:revision>
  <dc:subject/>
  <dc:title> </dc:title>
</cp:coreProperties>
</file>