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3889"/>
        <c:axId val="84132969"/>
      </c:barChart>
      <c:catAx>
        <c:axId val="4773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32969"/>
        <c:crosses val="autoZero"/>
        <c:auto val="1"/>
        <c:lblAlgn val="ctr"/>
        <c:lblOffset val="100"/>
        <c:noMultiLvlLbl val="0"/>
      </c:catAx>
      <c:valAx>
        <c:axId val="84132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3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0D6-F7D2-4708-92C3-4170B6B6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26F-742C-4A3E-B95D-6587AB0C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32E-F648-4A8A-ADF4-A982A67F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53B-68B6-444C-A520-5C1FF3F6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43A-9738-4A2A-92EF-E39B9099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4E4-FE0F-4EDB-A5D9-0ECBA6C6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747-CF4C-4132-89AF-CC8D5215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061-F6C7-489C-9EF0-45FD4BB5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0C5-7A24-4758-BD75-0AD89EBF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48A-D357-4F52-A219-5D829C9C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A32-5BCC-457D-BD0B-DC60C03E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B60-158F-417C-81D9-FBF0DAD1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B6DF1-3F01-4E24-9936-9E69C07124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