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DB4A93-85A2-4E04-90A3-B5AF073BE8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7B4200-DDBF-4ACF-AE3E-EB125CA361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1D16DD-D3C9-4BAD-A98E-4556CAF991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D771D9-7E60-45A7-9834-03C802A80B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555115-8C26-490E-991C-8CFDF088578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09CCAC-FE7D-4B94-9125-219638A685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AF17CD-5DA7-4075-BCE3-6C4B835FE2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504DBB-02D4-4E92-8D1E-11B0A3BBF8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2D728C-CBDE-45F1-826E-CD8593A8C2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7420C8-74F8-4EE2-B066-91E535FC79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847604-E00D-4513-9BB3-2D188BCC69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13346A-7225-4800-A46D-65C1AFD396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33B2AA-B76C-4C61-A1AE-557527230B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C6B963-17BC-4FA2-BC44-A734934246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F00658-D463-427D-93D5-DE14432A84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7884B7-C3F7-458E-B5DD-CA31CF293D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A2A4D2-7869-4361-BC0B-3BD9F4F98A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FA0AED-7DF8-4F88-94C3-9C67B9B6B2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5AD742-2C7C-4EFA-B3EE-CA72071285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5207AB-1DA5-4A36-B0AF-9DA2B3FB00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FB1B9E-BE35-4507-812F-2006FB03AF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9B50B6-41E9-4DD1-B713-431D26D6E3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3C2D35-25E8-49B1-8181-0E37C6A9A8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44E110-6E15-44B9-AEC5-0539384C85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08118-9CFB-4565-9EA9-04D3B4DA6B3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F0772-E729-4C8C-849F-CAB8F58C5C5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507A2A4-2AD3-48D6-BD0A-3746AEE083D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60C2729-3D42-4057-B4FB-1D852D71634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AE9790-0144-49E3-A719-8783E1378FF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290525-46B3-4CD5-858A-1C41342E9F5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335EBC-3305-4B9D-97B6-452B4097A51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4DDB54-56F5-45C8-94F1-6C09721CDC8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05E4F8-980B-4F0D-B7A1-E5A2091197A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56F9C8-4973-4599-8F52-254440F5A706}"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BE3FD4-7E2E-4A85-95FC-66F714D5BAE7}"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96A0F8-CB27-4134-9925-FB4BBEF8A7AA}"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C8847D-505A-4A19-A8DD-8CB11D869CF5}"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B75F3B-1962-407F-941C-F122EA695395}"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0596D5-0799-454D-B1EE-0EE1E7ACE79C}"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7C0CA7-DADB-49FD-BA47-A2143BB91B35}"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B22779-0580-4732-A99C-8F9B626EBE35}"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6697D7-7E23-4885-882C-21E613C371C7}"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4A009B-8151-46DC-9CDE-3CA772EA93D8}"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28EE91-5AEE-4D45-BFAA-1B137773250E}"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1D0F0C-649D-48A7-9FB1-EBE42BB240E5}"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E365CF-8913-404D-87DD-2097E9127D86}"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B19449-6E72-4621-83BC-BB652955D270}"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D692B0-AEAD-42CE-9B52-CB8F573E527B}"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F5278F-AC91-4589-8A1C-71037BA5CCF7}"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925BA9-C0C9-4E70-855C-C17BC7B0C90E}"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42D9C7-990F-45FE-BD90-45FD457AC5E2}"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2DC5B7-1804-4BCB-8FEA-7596C219DA07}"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BA93D1-BF3E-402A-9FA2-076B6AB600D3}"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9D49BEA-9DFB-416A-BC20-5ACDEED225DD}"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EFA51B-FF3F-4014-A0FE-29543EB9E95D}"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D8B608-E9A4-4900-98D5-70E75F6DB9E8}"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80CA00-2F23-41EE-BAFD-CD8919538252}"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919160-D3A7-436F-B16F-D41AEA09DB9E}"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81DC02-36FD-4C8F-B94C-FA406D99408D}"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5DBBF5-A7A9-48D0-8C26-2DDE46E897E5}"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7D7B17-28B9-4C65-A2F9-CCFB12F815EA}"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9B9F7A-2493-4B5B-A524-5FE5A360A281}"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E411E6-85CF-4F7D-A228-1C602AA62C0E}"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9637CE-EFE6-4952-AC2E-C17B6CD16D69}"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9E8F31-E0E8-4B7B-88B3-53AED2C97600}"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0DACB2-B077-4943-A213-4595D0B6E558}"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CD5B81-D44B-4F38-8B35-33AB5618EE7F}"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502B78-B03A-450E-BA01-5B15867809CA}"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BF11D6-7B03-4D30-AD3E-8EC42FAFC425}"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135D54-34E8-478A-A314-8482B2804515}"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455376-68B2-4E38-8472-D379DA7DADA2}"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0B0AB4-A0D4-4046-9D22-3F785A851E0F}"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C6081A-64E9-4BA9-A629-A0830D04F982}"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91A477-7AC4-48BF-BF1F-AFED5B64890E}"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BA4B07B-D3EF-4D4C-8E34-FF39EDECECF6}"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3553AC-998D-4165-BA5F-281CBC00DB39}"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82FA93-100D-4FDF-859B-3E0B7377700E}"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C8504D5-CBB1-4AE6-9A8A-42E0B34E7149}"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23B1BD-5856-48BA-9F00-1CEF2BC36779}"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4C2148-DE9B-4FDD-BF8A-89EB31DA000D}"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C3DDFE-9584-4C1F-A947-2472784E434E}"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76AE72-5D43-4672-B3BA-1C178007EC03}"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B89911-4B8B-4AF2-8C77-074E3750E222}"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080753-EA3C-4584-BB54-5D543198CBDF}"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8D156E-2523-4251-969D-95EB54225C64}"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8332E23-F174-4906-AD96-681A7FC80D2D}"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6E4BC8-C03C-44F0-B035-8DA5D11E71ED}"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3C1855-B489-43E6-9F90-596437C33387}"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FEDFD8-1C29-49E4-A192-0529F9C05FB4}"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FA27CF-FF53-4DEA-920E-E74C86E700F2}"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C2AFAE-390B-4B35-B9EB-60367C9D85FA}"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E0901FA-44AA-4A2F-9DE6-EC21E8D1EDDB}"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12F3ED-DFFE-4D24-A231-CA9D03D26451}"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A2FB9A-9F58-4A8A-A6A6-2A17EE60CFAF}"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A1A8A9-6C06-4023-9795-F2602715325C}"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F17C1D-29F3-40C4-8979-F6EF3B3E7E4E}"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1E5522E-98B9-45D2-8C76-64FF1451CEA8}"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5494C2-C2ED-4A2B-B5DE-4BB45A7B9A97}"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0CA701-17E1-4D68-85DA-FC04A172A1DD}"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654336-E9DE-47C7-A639-BD02E1808353}"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0FF9D4-0B2B-4330-93E9-48B1CF1513AF}"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7C2B87-36A8-47D7-8C77-1401728B6EAB}"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35A014-C9EE-44CF-86C2-1FFDB8D13F9A}"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C1D0C77-4F8E-4BFB-8280-B15B0D09170F}"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5776D1-4E8D-4EE6-972C-9BC01DA81FFD}"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0A8948-47F2-442D-B65D-D652F1CFA2E2}"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A8B0F3-AC02-4C3C-931A-552EF8884496}"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823AF42-4424-4203-9D76-D17CE2676447}"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7DFEAB-F079-4A98-8038-050C24D14357}"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F6CAF1C-43C5-420F-99DC-0592A67A2DAF}"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5E14BE-3014-4209-B797-F7B24B7AE797}"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94B118-17EE-4920-A383-9CDF62AD61E1}"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A50B4A-65F2-440B-AB7C-394C929876AC}"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5C98AC-D0B5-4EA4-BA00-CD54B4D8799D}"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13F29D-F5D4-402F-B869-93835F399A16}"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0AEBB3-01D4-4F5D-88F4-9C8C248C8300}"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A51022-3D6C-4F58-9A73-C8A84870E52B}"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3AE90E-84A0-41AF-AA3D-A2219E50FD3E}"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900F68-651D-48C0-B99E-256CA7ED9851}"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3FE784-6A1B-4DF2-B305-3E1AABBBF50F}"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52F212-3756-4761-930D-524143A0AAD1}"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693C59-4F79-4FD9-9B9C-3E436A783185}"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0FD2B6-241F-4912-AD78-D8798EC33425}"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FA5182-6371-473A-B15E-2955D21BCB6B}"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AC03D1-F685-48CB-A6E7-03D04319444F}"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D3B52F1-0566-42AC-8DE3-8BE0BF9A4D86}"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ACAD76-A571-4F22-8FB1-05E2246EBBE0}"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DA1E66-27BD-42B1-9B15-5551E74FF5F5}"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69A907-31A7-4E83-8D12-50177C4B24FA}"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B52DAC-02C9-4171-9AF6-320B738CE9C9}"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8954F4-BFDB-42FB-AE79-FAB5BDD25FAE}"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8E496A-60BC-4C26-AFA8-A7087BD26068}"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921E72-ABF9-4BC0-B61C-C546D2D99405}"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0D2790-464A-462B-B2F7-06B466FCD8FD}"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637F72-01C8-4FC4-A1A2-DE2BA8F48AF5}"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A09321-79AD-41FA-86A6-AE075E79968B}"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17E914-6349-497B-8B19-23D300714F8E}"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1C808E-A239-4A1B-9093-E407D7C7642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4534A2-7D89-4A2A-BD5D-35C349D94227}"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494833-B6DF-4799-A0C6-1C75A1EEC845}"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2FF4B5-738D-46C4-BB98-C8ED9575DAF2}"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526B15-BD1D-4892-B4D4-D1D4650BAD78}"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0EA3ED-B949-4682-BB5D-E0E4417D36A1}"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E29987-EB7B-4C14-B4C2-55CCCDDDD7CF}"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A78274-5C1F-4616-8B5A-388FD306F243}"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52ABAB-2904-4366-A543-EF1F5E046391}"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81865C-1D18-4330-97EE-3380AF2FCC4A}"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A8E03E-2FF5-4BCB-862E-C60ECB560CFB}"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19C257-EB97-431D-80CA-698837DD7E18}"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1E4CAF-18A9-4767-91F0-AA0CB1B7AE3A}"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086351-C042-4A91-B3DF-12E9D13E65BD}"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FC3AF5-9317-4F40-9D2F-15FB9BEEBF21}"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EF12B4-1337-4344-AA05-32E848B2ADAB}"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1870858-727D-4B3A-8A65-5E33B885582D}"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E0417E-4CC3-483B-B355-049F10B2262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403205-2802-4AC0-B96A-C68857FA1CA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7E6E80-490E-4D47-A318-A4BEA296351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8C3EB5-D6EF-471F-BE9C-1CC6B7E53F0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152F37-1341-47F7-8C86-09E82F24BA9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B5045C-2D57-42CC-AC69-299FA063439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9D3E8D1-B519-4BAD-9FA5-236A5EF5375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C74BC6-BFC0-422A-8A06-5805DFAACF7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0A633E-2E7D-462E-B49C-EDB2D73EA32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048676-99EA-4259-BDE8-B9988C99826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22205C-36AE-4A5F-8F9F-414209BAD50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8057EB-6942-4268-974A-034E26A7898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D86739-5FE1-4962-B307-75319B68AE5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397B40-F8F3-42BA-962F-8F00DB16D7E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AE9DAC-1962-4373-A705-EFDA4150319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1AF960-9379-4D20-9E1D-D1377901674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413F7C-A1DE-481F-9932-F201412ED37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110E22-1E91-4922-BDF5-2F36DA99041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6D4DF0-7727-4C5E-B8BD-3A699AD3330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BCB879-095B-4F7F-80F2-B5E6D4FD1EC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8A753C-5738-43A3-B0A2-809481BC23D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E157C8-5007-4596-9B54-A6A1BA30276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313C4C-777D-4A5B-A4AA-A027BC6C8B5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3AA66C-4CB5-4EA2-9A3D-B114FCDC42E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2D810E-3973-49BC-BA54-323C9F1FB99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A26242-8466-42EE-B8F0-20F1A0B3380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02A384-AA69-42A1-88DF-903EAE328F4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AFEC5F-0C13-47BA-B00B-5115642A07A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1AADE0-3CF3-449D-BFD5-1E45194BE85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F6827E-61AD-478F-B942-80015DC404E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117D6F-B1AA-4BD3-B90F-CE4D1355F66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0F6663-D894-4416-8E5D-7FB4002F1CF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A716BF-916B-4839-BD22-13EBD49EA18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17E6A5-9BB2-4550-9C4A-8ED98558002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D60A52-A72E-40FE-AC56-6B3818DB3C0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01EF68-B41D-4B29-A8C7-265D78C9E10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0FC4BF-2985-4E9B-B418-754F30259C9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4BEED1-4530-4F81-BACE-410C43E03DE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E3219A-3C18-44D2-881C-5081F62E7EB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477D46-FBC9-4E9A-A5C2-E4D2AD4968E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F1DDB5-70D5-4058-A923-C151D1B6850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3FEE44-A196-4EB6-8576-63418479564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25AD29-E498-4740-AE47-7E901110162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73BC0A-1CC5-4F89-A7AB-12B2A49F8B4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DC8F5D-34BA-490A-AAE0-72DF326B877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8A3D08-3C98-4926-802C-35374096632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077481-5813-420F-A273-094EA378C4D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F9B2EF6-C7B1-4D5E-88FC-5526AC2D1EE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DF86F3-C720-4759-8613-3D60B8669FB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7B71BC-89B0-4FAE-AECD-4D3FCAA97AB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9E4886-4DAA-4FD3-87FD-36A80857925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2DAA78-1BD1-412B-984C-8437F0C46BA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F75BF3-9E44-40ED-BFA3-96C9D0529EB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FC4F71-AF02-4EE9-915C-C332A1D4258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EAC84B-F28A-4424-9E02-10778602583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126A44-12C7-451F-B4E8-796C1D867F8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4A022E2-BF12-4A0B-B5D6-F02CDD3B3D7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EABD28-9575-4D07-BD82-53B2508A172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0AC0B8-8920-42E7-B613-1A7DB4D56B2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E21004-AD1A-49AE-BEFA-A8A99DD269C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4313F2-2BEE-49D9-AE66-76169B23767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78FF79-7D27-4197-8A36-9C28D08D2E8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4FD61F-AC85-4B1E-8299-D192F7ADF34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88623B-E39D-4086-8AFA-7B54D25715E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F10B9A-981E-4490-B2A4-62822464061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8CDEE6-2EAC-4DC6-95E3-A39AD22A65C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F6621B-455C-4DB0-BFAB-3F42BEA2C78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F72C76-A10E-4A9B-97E5-006178CB060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33E903-9FFC-4520-939B-71B760B0851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F7E412-6088-478A-B835-099E393C012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D0D37C-65A8-4547-B82E-D55E39AB56E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1D668B5-0D34-46F9-9C47-08DA056B8C5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FAB0A9-61BB-487B-B578-8A795E191B9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37FDF9-4802-4054-B96A-0F317FA1AB9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21779D-8A0A-475E-AF27-FC854620B08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728B8C-2931-4588-8EA0-4BC5E8D601F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AC2E4A-9240-442D-8B96-C0C4FBA2D2D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EE2F55-961E-4CE4-B597-60CC44BD824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88A695-E4B5-47D8-984B-A3CBECCF27D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730A6B-370E-4501-A07B-EA02223ED2A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3F6B8A-9693-482E-8A83-E3C07333CA0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1B8AFA-2D4B-408F-B7EB-EFB68491FBD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BF3A21-90D3-4EB7-9E37-D2CEB5E5466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EAEAA1-A7B6-47A3-85F3-1F8101E2562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BF2FE4-B064-4CDE-9168-5A690471D29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