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568FA3-559D-43B6-803B-7A11B9D5D2C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r change Makefile.in, make distclean,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416-2264-453F-9288-B01CC634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842-FA5E-43C8-820C-EF206D3C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B02-4629-47B6-87AA-9CF92256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CC3-083B-4AEA-9F83-902D22BD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039E-F668-4087-A234-FEEEF6F4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65E4-1C35-4CF4-90FD-019D6A68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AA14-FF11-4F2C-A5E1-CD29394E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6CDD-79D7-4F93-9C8E-C2E0481E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04B6-A6D2-4377-8107-15D56851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4B13-FE99-44DB-A4ED-AE3F0BFD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8BA0-6BA9-48A0-8DE8-D8704F05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DF4-A78F-4148-B2AA-658EFF20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A8C1-58D3-4577-A62C-626072FD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682D-EEA5-4551-8ED8-95EF06FB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FEAB-C14E-4576-B6F9-295DDA23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9FE0-7B8E-431F-ADAE-613628BF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65E0-7F0E-47D5-9727-572EB2F0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79C-E7A1-4897-8202-E7BFF74B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0B0-87DC-4C00-A582-081FDE36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D89-5549-42D4-ABA3-06A9AD9C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907D-9EAC-4984-943D-B2CFFDCF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835-1D4E-4533-BA30-9B46D861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8696-F561-4F3D-ADFA-A192B0FD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5DA-F351-4555-8047-1FFF6548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F241-AD2D-4C4D-A8EF-C41070AA963C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C634-4545-4BA0-9D8A-4089238000EF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4BA8-534F-4D49-AB0C-933F04134C9E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C3C5-9349-4BAE-93BA-1DE865ED59C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dmalloc.com/" TargetMode="External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II: Extending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079A-0DBE-4F29-851A-4CDAA032B6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heduler and trac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schedul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Turn on Trac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fd [new “message.nam” w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namtrace-all $f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87E-3CAA-4D68-8E7E-0013042E49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for {set i 0} {$i &lt; 6} {incr i}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($i)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0) $n(1) 128kb 50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1) $n(4) 10Mb 1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1) $n(5) 10Mb 1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0) $n(2) 10Mb 1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0) $n(3) 10Mb 1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queue-limit $n(0) $n(1) 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queue-limit $n(1) $n(0) 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1E5-21DA-4651-8533-8AA4D6E8F8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Packet loss produced by queue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Routing protocol: let’s run distance vec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rtproto DV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EED3-5F79-425B-88FD-B9AD93983A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7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oss traffi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udp0 [new Agent/UD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(2) $udp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ull0 [new Agent/NULL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(4) $null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connect $udp0 $null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exp0 [new Application/Traffic/Exponential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exp0 set rate_ 128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exp0 attach-agent $udp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0 “$exp0 start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F88E-90BD-4E82-BB26-35290B9E14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8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4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ssage ag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dr [new Sende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sdr set packetSize_ 10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rcvr [new Receive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rcvr set packetSize_ 4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 $n(3) $sd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 $n(5) $rcv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connect $sdr $rcv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connect $rcvr $sd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1 “$sdr send-next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BF4F-FB9F-4A11-A94B-81171F22A9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9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d-of-simulation wrapper (as usu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at 2.0 finis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proc finish {}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global ns f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flush-tr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lose $f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exit 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5DA-4CDE-4C79-AEB2-66E43B42EE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Resul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 outp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&gt; ./ns msg.tc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0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0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1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1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2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2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3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3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4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4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5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5D6-B09E-4819-B163-89E5A663A8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d Your Changes into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352600" y="2765520"/>
            <a:ext cx="981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K8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48240" y="27655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67200" y="2765520"/>
            <a:ext cx="981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39680" y="2765520"/>
            <a:ext cx="100836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8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86520" y="27655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05840" y="2765520"/>
            <a:ext cx="1035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am-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02200" y="372888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42920" y="454176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62240" y="454176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92840" y="45277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62520" y="37130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93000" y="45338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7840" y="5257800"/>
            <a:ext cx="1228680" cy="401760"/>
          </a:xfrm>
          <a:prstGeom prst="wedgeRoundRectCallout">
            <a:avLst>
              <a:gd name="adj1" fmla="val 37078"/>
              <a:gd name="adj2" fmla="val -127074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ampl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65360" y="5259240"/>
            <a:ext cx="1639800" cy="403200"/>
          </a:xfrm>
          <a:prstGeom prst="wedgeRoundRectCallout">
            <a:avLst>
              <a:gd name="adj1" fmla="val 14861"/>
              <a:gd name="adj2" fmla="val -117717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alidation tes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43800" y="3695760"/>
            <a:ext cx="1339560" cy="485640"/>
          </a:xfrm>
          <a:prstGeom prst="wedgeRoundRectCallout">
            <a:avLst>
              <a:gd name="adj1" fmla="val -31162"/>
              <a:gd name="adj2" fmla="val -149018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6842880" y="3268080"/>
            <a:ext cx="270000" cy="3954240"/>
          </a:xfrm>
          <a:custGeom>
            <a:avLst/>
            <a:gdLst>
              <a:gd name="textAreaLeft" fmla="*/ 0 w 270000"/>
              <a:gd name="textAreaRight" fmla="*/ 97560 w 270000"/>
              <a:gd name="textAreaTop" fmla="*/ 102960 h 3954240"/>
              <a:gd name="textAreaBottom" fmla="*/ 3851280 h 39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27800" y="5446800"/>
            <a:ext cx="1197000" cy="4428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11600" y="1747800"/>
            <a:ext cx="1708200" cy="484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allin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2"/>
            <a:endCxn id="324" idx="0"/>
          </p:cNvCxnSpPr>
          <p:nvPr/>
        </p:nvCxnSpPr>
        <p:spPr>
          <a:xfrm flipH="1">
            <a:off x="1544040" y="2232000"/>
            <a:ext cx="302148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0" name=""/>
          <p:cNvCxnSpPr>
            <a:stCxn id="338" idx="2"/>
            <a:endCxn id="321" idx="0"/>
          </p:cNvCxnSpPr>
          <p:nvPr/>
        </p:nvCxnSpPr>
        <p:spPr>
          <a:xfrm flipH="1">
            <a:off x="2842920" y="2232000"/>
            <a:ext cx="17229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1" name=""/>
          <p:cNvCxnSpPr>
            <a:stCxn id="338" idx="2"/>
            <a:endCxn id="322" idx="0"/>
          </p:cNvCxnSpPr>
          <p:nvPr/>
        </p:nvCxnSpPr>
        <p:spPr>
          <a:xfrm flipH="1">
            <a:off x="4105080" y="2232000"/>
            <a:ext cx="46080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2" name=""/>
          <p:cNvCxnSpPr>
            <a:stCxn id="338" idx="2"/>
            <a:endCxn id="323" idx="0"/>
          </p:cNvCxnSpPr>
          <p:nvPr/>
        </p:nvCxnSpPr>
        <p:spPr>
          <a:xfrm>
            <a:off x="4565160" y="2232000"/>
            <a:ext cx="79308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3" name=""/>
          <p:cNvCxnSpPr>
            <a:stCxn id="338" idx="2"/>
            <a:endCxn id="325" idx="0"/>
          </p:cNvCxnSpPr>
          <p:nvPr/>
        </p:nvCxnSpPr>
        <p:spPr>
          <a:xfrm>
            <a:off x="4565160" y="2232000"/>
            <a:ext cx="19785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4" name=""/>
          <p:cNvCxnSpPr>
            <a:stCxn id="338" idx="2"/>
            <a:endCxn id="326" idx="0"/>
          </p:cNvCxnSpPr>
          <p:nvPr/>
        </p:nvCxnSpPr>
        <p:spPr>
          <a:xfrm>
            <a:off x="4565160" y="2232000"/>
            <a:ext cx="32583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5" name=""/>
          <p:cNvCxnSpPr>
            <a:stCxn id="325" idx="2"/>
            <a:endCxn id="327" idx="0"/>
          </p:cNvCxnSpPr>
          <p:nvPr/>
        </p:nvCxnSpPr>
        <p:spPr>
          <a:xfrm flipH="1">
            <a:off x="4559040" y="3222720"/>
            <a:ext cx="1985040" cy="506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6" name=""/>
          <p:cNvCxnSpPr>
            <a:stCxn id="327" idx="2"/>
            <a:endCxn id="328" idx="0"/>
          </p:cNvCxnSpPr>
          <p:nvPr/>
        </p:nvCxnSpPr>
        <p:spPr>
          <a:xfrm flipH="1">
            <a:off x="1499760" y="4186080"/>
            <a:ext cx="3060000" cy="3564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7" name=""/>
          <p:cNvCxnSpPr>
            <a:stCxn id="327" idx="2"/>
            <a:endCxn id="329" idx="0"/>
          </p:cNvCxnSpPr>
          <p:nvPr/>
        </p:nvCxnSpPr>
        <p:spPr>
          <a:xfrm flipH="1">
            <a:off x="2718720" y="4186080"/>
            <a:ext cx="1840680" cy="3564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8" name=""/>
          <p:cNvCxnSpPr>
            <a:stCxn id="327" idx="2"/>
            <a:endCxn id="330" idx="0"/>
          </p:cNvCxnSpPr>
          <p:nvPr/>
        </p:nvCxnSpPr>
        <p:spPr>
          <a:xfrm>
            <a:off x="4559400" y="4185720"/>
            <a:ext cx="891360" cy="342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6296040" y="451476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27" idx="2"/>
            <a:endCxn id="349" idx="0"/>
          </p:cNvCxnSpPr>
          <p:nvPr/>
        </p:nvCxnSpPr>
        <p:spPr>
          <a:xfrm>
            <a:off x="4559400" y="4185720"/>
            <a:ext cx="2194560" cy="3290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3684600" y="4545000"/>
            <a:ext cx="995400" cy="44280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d882"/>
                </a:solidFill>
                <a:latin typeface="Tahoma"/>
              </a:rPr>
              <a:t>mysr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27" idx="2"/>
            <a:endCxn id="351" idx="0"/>
          </p:cNvCxnSpPr>
          <p:nvPr/>
        </p:nvCxnSpPr>
        <p:spPr>
          <a:xfrm flipH="1">
            <a:off x="4182480" y="4185720"/>
            <a:ext cx="376920" cy="359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603600" y="5257800"/>
            <a:ext cx="1157400" cy="45720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d882"/>
                </a:solidFill>
                <a:latin typeface="Tahoma"/>
              </a:rPr>
              <a:t>msg.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3" idx="0"/>
          </p:cNvCxnSpPr>
          <p:nvPr/>
        </p:nvCxnSpPr>
        <p:spPr>
          <a:xfrm>
            <a:off x="4182840" y="4987800"/>
            <a:ext cx="1080" cy="270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9680-1382-40EC-86C4-4DED6F6CBD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d Your Change into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/lib/ns-lib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lass Simulat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ource ../mysrc/msg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NS_TCL_LIB = \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/mysrc/msg.tcl \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r: change Makefile.in,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make distclea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n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./configure --enable-debu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2F51-3209-4F2C-89CF-4FDAADFB19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ending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In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w compone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4323-56A4-48BE-89D4-1CB7C95E57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ending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bu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FB5-C41F-4631-8CDB-96FE5677E6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ending ns in C++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ifying c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 depe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mp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ding code in new fi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hange Make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 depe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mp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E65D-5283-45A8-9283-DCC63EC611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New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uideli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wo sty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 agent based on existing packet head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 new packet hea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C80-38D8-437B-AA58-4FF29CA181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deli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8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de position in class hierarch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.e., which class to derive from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new packet header (if necessar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C++ class, fill in metho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OTcl linkage (if an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rite OTcl code (if an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uild (and debug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ADD-7254-43CF-B492-DB3AAC0F64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Agent,  Old Hea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P jump sta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de-open transmission window at the begin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wnd_ += 1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wnd_ = MAXWIN_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BB28-2546-46AB-9AE2-5E9765194A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P Jump Start –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3886200" y="1587600"/>
            <a:ext cx="1371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2340000"/>
            <a:ext cx="1371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68360" y="3154320"/>
            <a:ext cx="1479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nec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86400" y="3156120"/>
            <a:ext cx="14479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4097160"/>
            <a:ext cx="8384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la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29200" y="4097160"/>
            <a:ext cx="1905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drClas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52560" y="4097160"/>
            <a:ext cx="8827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20000" y="4097160"/>
            <a:ext cx="1895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castCla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8480" y="4097160"/>
            <a:ext cx="995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eu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097160"/>
            <a:ext cx="8827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4600" y="4940280"/>
            <a:ext cx="1197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opTai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494028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66880" y="494028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4940280"/>
            <a:ext cx="609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48320" y="4940280"/>
            <a:ext cx="609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86400" y="4940280"/>
            <a:ext cx="757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o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70000" y="570564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60720" y="5705640"/>
            <a:ext cx="838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C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69" idx="2"/>
            <a:endCxn id="370" idx="0"/>
          </p:cNvCxnSpPr>
          <p:nvPr/>
        </p:nvCxnSpPr>
        <p:spPr>
          <a:xfrm flipH="1">
            <a:off x="3007800" y="2797200"/>
            <a:ext cx="1564560" cy="357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87" name=""/>
          <p:cNvCxnSpPr>
            <a:stCxn id="369" idx="2"/>
            <a:endCxn id="371" idx="0"/>
          </p:cNvCxnSpPr>
          <p:nvPr/>
        </p:nvCxnSpPr>
        <p:spPr>
          <a:xfrm>
            <a:off x="4571640" y="2796840"/>
            <a:ext cx="1639080" cy="359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88" name=""/>
          <p:cNvCxnSpPr>
            <a:stCxn id="368" idx="2"/>
            <a:endCxn id="369" idx="0"/>
          </p:cNvCxnSpPr>
          <p:nvPr/>
        </p:nvCxnSpPr>
        <p:spPr>
          <a:xfrm>
            <a:off x="4571640" y="2044800"/>
            <a:ext cx="1080" cy="295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89" name=""/>
          <p:cNvCxnSpPr>
            <a:stCxn id="370" idx="2"/>
            <a:endCxn id="376" idx="0"/>
          </p:cNvCxnSpPr>
          <p:nvPr/>
        </p:nvCxnSpPr>
        <p:spPr>
          <a:xfrm flipH="1">
            <a:off x="1026360" y="3611160"/>
            <a:ext cx="198180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0" name=""/>
          <p:cNvCxnSpPr>
            <a:stCxn id="370" idx="2"/>
            <a:endCxn id="372" idx="0"/>
          </p:cNvCxnSpPr>
          <p:nvPr/>
        </p:nvCxnSpPr>
        <p:spPr>
          <a:xfrm flipH="1">
            <a:off x="2171160" y="3611160"/>
            <a:ext cx="83700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1" name=""/>
          <p:cNvCxnSpPr>
            <a:stCxn id="370" idx="2"/>
            <a:endCxn id="374" idx="0"/>
          </p:cNvCxnSpPr>
          <p:nvPr/>
        </p:nvCxnSpPr>
        <p:spPr>
          <a:xfrm>
            <a:off x="3008160" y="3611160"/>
            <a:ext cx="18648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2" name=""/>
          <p:cNvCxnSpPr>
            <a:stCxn id="370" idx="2"/>
            <a:endCxn id="377" idx="0"/>
          </p:cNvCxnSpPr>
          <p:nvPr/>
        </p:nvCxnSpPr>
        <p:spPr>
          <a:xfrm>
            <a:off x="3007800" y="3611160"/>
            <a:ext cx="132012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3" name=""/>
          <p:cNvCxnSpPr>
            <a:stCxn id="371" idx="2"/>
            <a:endCxn id="373" idx="0"/>
          </p:cNvCxnSpPr>
          <p:nvPr/>
        </p:nvCxnSpPr>
        <p:spPr>
          <a:xfrm flipH="1">
            <a:off x="5981040" y="3613320"/>
            <a:ext cx="229320" cy="484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4" name=""/>
          <p:cNvCxnSpPr>
            <a:stCxn id="371" idx="2"/>
            <a:endCxn id="375" idx="0"/>
          </p:cNvCxnSpPr>
          <p:nvPr/>
        </p:nvCxnSpPr>
        <p:spPr>
          <a:xfrm>
            <a:off x="6210000" y="3613320"/>
            <a:ext cx="1757880" cy="484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5" name=""/>
          <p:cNvCxnSpPr>
            <a:stCxn id="376" idx="2"/>
            <a:endCxn id="378" idx="0"/>
          </p:cNvCxnSpPr>
          <p:nvPr/>
        </p:nvCxnSpPr>
        <p:spPr>
          <a:xfrm flipH="1">
            <a:off x="772560" y="4554360"/>
            <a:ext cx="25452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6" name=""/>
          <p:cNvCxnSpPr>
            <a:stCxn id="376" idx="2"/>
            <a:endCxn id="379" idx="0"/>
          </p:cNvCxnSpPr>
          <p:nvPr/>
        </p:nvCxnSpPr>
        <p:spPr>
          <a:xfrm>
            <a:off x="1026720" y="4554360"/>
            <a:ext cx="87876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7" name=""/>
          <p:cNvCxnSpPr>
            <a:stCxn id="374" idx="2"/>
            <a:endCxn id="380" idx="0"/>
          </p:cNvCxnSpPr>
          <p:nvPr/>
        </p:nvCxnSpPr>
        <p:spPr>
          <a:xfrm flipH="1">
            <a:off x="3047400" y="4554360"/>
            <a:ext cx="14652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8" name=""/>
          <p:cNvCxnSpPr>
            <a:stCxn id="380" idx="2"/>
            <a:endCxn id="384" idx="0"/>
          </p:cNvCxnSpPr>
          <p:nvPr/>
        </p:nvCxnSpPr>
        <p:spPr>
          <a:xfrm flipH="1">
            <a:off x="2450880" y="5397480"/>
            <a:ext cx="59760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9" name=""/>
          <p:cNvCxnSpPr>
            <a:stCxn id="380" idx="2"/>
            <a:endCxn id="385" idx="0"/>
          </p:cNvCxnSpPr>
          <p:nvPr/>
        </p:nvCxnSpPr>
        <p:spPr>
          <a:xfrm>
            <a:off x="3047760" y="5397480"/>
            <a:ext cx="43236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00" name=""/>
          <p:cNvCxnSpPr>
            <a:stCxn id="377" idx="2"/>
            <a:endCxn id="381" idx="0"/>
          </p:cNvCxnSpPr>
          <p:nvPr/>
        </p:nvCxnSpPr>
        <p:spPr>
          <a:xfrm flipH="1">
            <a:off x="4190400" y="4554360"/>
            <a:ext cx="13716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01" name=""/>
          <p:cNvCxnSpPr>
            <a:stCxn id="377" idx="2"/>
            <a:endCxn id="382" idx="0"/>
          </p:cNvCxnSpPr>
          <p:nvPr/>
        </p:nvCxnSpPr>
        <p:spPr>
          <a:xfrm>
            <a:off x="4327200" y="4554360"/>
            <a:ext cx="62604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02" name=""/>
          <p:cNvCxnSpPr>
            <a:stCxn id="377" idx="2"/>
            <a:endCxn id="383" idx="0"/>
          </p:cNvCxnSpPr>
          <p:nvPr/>
        </p:nvCxnSpPr>
        <p:spPr>
          <a:xfrm>
            <a:off x="4327200" y="4554360"/>
            <a:ext cx="153900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4224240" y="569916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J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380" idx="2"/>
            <a:endCxn id="403" idx="0"/>
          </p:cNvCxnSpPr>
          <p:nvPr/>
        </p:nvCxnSpPr>
        <p:spPr>
          <a:xfrm>
            <a:off x="3048120" y="5397480"/>
            <a:ext cx="1519920" cy="3024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16A2-999D-44FC-85D3-CCBE2AC17FA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P Jump Start –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 file: tcp-js.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ass JSTCPAgent : public TcpAgent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virtual void set_initial_window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wnd_ = MAXWIN_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int MAXWIN_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8D3-B9DB-4FBA-8E99-0A73020C80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P Jump Start –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 file: tcp-js.c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tatic JSTcpClass : public TclClass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JSTcpClass() : TclClass("Agent/TCP/JS") {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clObject* create(int, const char*const*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(new JSTcpAgent()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JSTcpAgent::JSTcpAgent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bind(“MAXWIN_”, MAXWIN_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D92-D234-4AE2-AED0-3A279EC43E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new header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able tracing support of new hea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static class for OTcl linkage (packet.h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able new header in OTcl (tcl/lib/ns-packet.tc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This does not apply when you add a new field into an existing header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FE7-50C7-466B-9B68-CF6DB482B9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Packet Header Wor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1280160" y="165096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cke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236600" y="2070000"/>
            <a:ext cx="1087200" cy="1239480"/>
            <a:chOff x="1236600" y="2070000"/>
            <a:chExt cx="1087200" cy="1239480"/>
          </a:xfrm>
        </p:grpSpPr>
        <p:sp>
          <p:nvSpPr>
            <p:cNvPr id="414" name=""/>
            <p:cNvSpPr/>
            <p:nvPr/>
          </p:nvSpPr>
          <p:spPr>
            <a:xfrm>
              <a:off x="1236600" y="2070000"/>
              <a:ext cx="1087200" cy="4147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next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6600" y="2482560"/>
              <a:ext cx="1087200" cy="4143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hdrlen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36600" y="2895120"/>
              <a:ext cx="1087200" cy="4143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bits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3645000" y="2730600"/>
            <a:ext cx="2539800" cy="1062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ze determin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 compile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45000" y="3792600"/>
            <a:ext cx="2539800" cy="1062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ze determin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 compile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45000" y="4854600"/>
            <a:ext cx="2539800" cy="1062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ze determin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 compile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56520" y="593100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00800" y="2743200"/>
            <a:ext cx="88920" cy="1022400"/>
          </a:xfrm>
          <a:custGeom>
            <a:avLst/>
            <a:gdLst>
              <a:gd name="textAreaLeft" fmla="*/ 0 w 88920"/>
              <a:gd name="textAreaRight" fmla="*/ 32040 w 88920"/>
              <a:gd name="textAreaTop" fmla="*/ 26640 h 1022400"/>
              <a:gd name="textAreaBottom" fmla="*/ 995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74760" y="29732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dr_cm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13400" y="3805200"/>
            <a:ext cx="88920" cy="1022400"/>
          </a:xfrm>
          <a:custGeom>
            <a:avLst/>
            <a:gdLst>
              <a:gd name="textAreaLeft" fmla="*/ 0 w 88920"/>
              <a:gd name="textAreaRight" fmla="*/ 32040 w 88920"/>
              <a:gd name="textAreaTop" fmla="*/ 26640 h 1022400"/>
              <a:gd name="textAreaBottom" fmla="*/ 995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99960" y="4035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dr_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26360" y="4867200"/>
            <a:ext cx="88920" cy="1022400"/>
          </a:xfrm>
          <a:custGeom>
            <a:avLst/>
            <a:gdLst>
              <a:gd name="textAreaLeft" fmla="*/ 0 w 88920"/>
              <a:gd name="textAreaRight" fmla="*/ 32040 w 88920"/>
              <a:gd name="textAreaTop" fmla="*/ 26640 h 1022400"/>
              <a:gd name="textAreaBottom" fmla="*/ 995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10760" y="50976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dr_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25600" y="3079800"/>
            <a:ext cx="131940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81200" y="3846600"/>
            <a:ext cx="2635200" cy="15843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ze determin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 simula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artup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(PacketHeaderManager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9" name=""/>
          <p:cNvCxnSpPr>
            <a:stCxn id="415" idx="1"/>
            <a:endCxn id="428" idx="0"/>
          </p:cNvCxnSpPr>
          <p:nvPr/>
        </p:nvCxnSpPr>
        <p:spPr>
          <a:xfrm flipH="1" flipV="1" rot="10800000">
            <a:off x="1235520" y="2689560"/>
            <a:ext cx="862920" cy="1156680"/>
          </a:xfrm>
          <a:prstGeom prst="bentConnector4">
            <a:avLst>
              <a:gd name="adj1" fmla="val -26502"/>
              <a:gd name="adj2" fmla="val 72633"/>
            </a:avLst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grpSp>
        <p:nvGrpSpPr>
          <p:cNvPr id="430" name=""/>
          <p:cNvGrpSpPr/>
          <p:nvPr/>
        </p:nvGrpSpPr>
        <p:grpSpPr>
          <a:xfrm>
            <a:off x="3416040" y="1816200"/>
            <a:ext cx="5137560" cy="3197160"/>
            <a:chOff x="3416040" y="1816200"/>
            <a:chExt cx="5137560" cy="3197160"/>
          </a:xfrm>
        </p:grpSpPr>
        <p:grpSp>
          <p:nvGrpSpPr>
            <p:cNvPr id="431" name=""/>
            <p:cNvGrpSpPr/>
            <p:nvPr/>
          </p:nvGrpSpPr>
          <p:grpSpPr>
            <a:xfrm>
              <a:off x="5459400" y="1816200"/>
              <a:ext cx="3094200" cy="3197160"/>
              <a:chOff x="5459400" y="1816200"/>
              <a:chExt cx="3094200" cy="319716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5459400" y="1816200"/>
                <a:ext cx="3094200" cy="873000"/>
                <a:chOff x="5459400" y="1816200"/>
                <a:chExt cx="3094200" cy="8730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5459400" y="1816200"/>
                  <a:ext cx="3094200" cy="873000"/>
                </a:xfrm>
                <a:prstGeom prst="cloudCallout">
                  <a:avLst>
                    <a:gd name="adj1" fmla="val -40509"/>
                    <a:gd name="adj2" fmla="val 80365"/>
                  </a:avLst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746320" y="2023920"/>
                  <a:ext cx="2601000" cy="337320"/>
                </a:xfrm>
                <a:prstGeom prst="rect">
                  <a:avLst/>
                </a:prstGeom>
                <a:solidFill>
                  <a:srgbClr val="b7c1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ahoma"/>
                    </a:rPr>
                    <a:t>PacketHeader/Common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626080" y="3246480"/>
                <a:ext cx="2637000" cy="752400"/>
                <a:chOff x="5626080" y="3246480"/>
                <a:chExt cx="2637000" cy="7524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626080" y="3246480"/>
                  <a:ext cx="2637000" cy="752400"/>
                </a:xfrm>
                <a:prstGeom prst="cloudCallout">
                  <a:avLst>
                    <a:gd name="adj1" fmla="val -38861"/>
                    <a:gd name="adj2" fmla="val 101263"/>
                  </a:avLst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29200" y="3454560"/>
                  <a:ext cx="1896840" cy="337320"/>
                </a:xfrm>
                <a:prstGeom prst="rect">
                  <a:avLst/>
                </a:prstGeom>
                <a:solidFill>
                  <a:srgbClr val="b7c1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ahoma"/>
                    </a:rPr>
                    <a:t>PacketHeader/IP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11760" y="4260960"/>
                <a:ext cx="2637000" cy="752400"/>
                <a:chOff x="5711760" y="4260960"/>
                <a:chExt cx="2637000" cy="7524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11760" y="4260960"/>
                  <a:ext cx="2637000" cy="752400"/>
                </a:xfrm>
                <a:prstGeom prst="cloudCallout">
                  <a:avLst>
                    <a:gd name="adj1" fmla="val -38861"/>
                    <a:gd name="adj2" fmla="val 101263"/>
                  </a:avLst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011640" y="4469040"/>
                  <a:ext cx="2064240" cy="337320"/>
                </a:xfrm>
                <a:prstGeom prst="rect">
                  <a:avLst/>
                </a:prstGeom>
                <a:solidFill>
                  <a:srgbClr val="b7c1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ahoma"/>
                    </a:rPr>
                    <a:t>PacketHeader/TCP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441" name=""/>
            <p:cNvCxnSpPr>
              <a:stCxn id="428" idx="3"/>
              <a:endCxn id="433" idx="0"/>
            </p:cNvCxnSpPr>
            <p:nvPr/>
          </p:nvCxnSpPr>
          <p:spPr>
            <a:xfrm flipV="1">
              <a:off x="3416040" y="2252160"/>
              <a:ext cx="2053080" cy="23868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28" idx="3"/>
              <a:endCxn id="436" idx="0"/>
            </p:cNvCxnSpPr>
            <p:nvPr/>
          </p:nvCxnSpPr>
          <p:spPr>
            <a:xfrm flipV="1">
              <a:off x="3416400" y="3622320"/>
              <a:ext cx="2218320" cy="10166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28" idx="3"/>
              <a:endCxn id="439" idx="0"/>
            </p:cNvCxnSpPr>
            <p:nvPr/>
          </p:nvCxnSpPr>
          <p:spPr>
            <a:xfrm flipV="1">
              <a:off x="3416400" y="4636800"/>
              <a:ext cx="2304000" cy="2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DBD-0F5F-4771-A15F-5758830817F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96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xample: Agent/Messag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packet header for 64-byte mes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transport agent to process this new hea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03C-6F44-4E43-9D45-F740949BB62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Directory Stru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352600" y="2765520"/>
            <a:ext cx="981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K8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48240" y="27655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67200" y="2765520"/>
            <a:ext cx="981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39680" y="2765520"/>
            <a:ext cx="100836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8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86520" y="27655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05840" y="2765520"/>
            <a:ext cx="1035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am-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02200" y="372888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5720" y="45277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5040" y="45277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16280" y="45403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62520" y="37130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16800" y="45464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90640" y="5243400"/>
            <a:ext cx="1228680" cy="401760"/>
          </a:xfrm>
          <a:prstGeom prst="wedgeRoundRectCallout">
            <a:avLst>
              <a:gd name="adj1" fmla="val 40310"/>
              <a:gd name="adj2" fmla="val -124703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ampl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78160" y="5245200"/>
            <a:ext cx="1639800" cy="403200"/>
          </a:xfrm>
          <a:prstGeom prst="wedgeRoundRectCallout">
            <a:avLst>
              <a:gd name="adj1" fmla="val 14861"/>
              <a:gd name="adj2" fmla="val -130708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alidation tes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43800" y="3695760"/>
            <a:ext cx="1339560" cy="485640"/>
          </a:xfrm>
          <a:prstGeom prst="wedgeRoundRectCallout">
            <a:avLst>
              <a:gd name="adj1" fmla="val -31162"/>
              <a:gd name="adj2" fmla="val -149018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66680" y="3280680"/>
            <a:ext cx="270000" cy="3954240"/>
          </a:xfrm>
          <a:custGeom>
            <a:avLst/>
            <a:gdLst>
              <a:gd name="textAreaLeft" fmla="*/ 0 w 270000"/>
              <a:gd name="textAreaRight" fmla="*/ 97560 w 270000"/>
              <a:gd name="textAreaTop" fmla="*/ 102960 h 3954240"/>
              <a:gd name="textAreaBottom" fmla="*/ 3851280 h 39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51600" y="5459400"/>
            <a:ext cx="1197000" cy="4428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11600" y="1747800"/>
            <a:ext cx="1708200" cy="484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allin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9" idx="2"/>
            <a:endCxn id="235" idx="0"/>
          </p:cNvCxnSpPr>
          <p:nvPr/>
        </p:nvCxnSpPr>
        <p:spPr>
          <a:xfrm flipH="1">
            <a:off x="1544040" y="2232000"/>
            <a:ext cx="302148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1" name=""/>
          <p:cNvCxnSpPr>
            <a:stCxn id="249" idx="2"/>
            <a:endCxn id="232" idx="0"/>
          </p:cNvCxnSpPr>
          <p:nvPr/>
        </p:nvCxnSpPr>
        <p:spPr>
          <a:xfrm flipH="1">
            <a:off x="2842920" y="2232000"/>
            <a:ext cx="17229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2" name=""/>
          <p:cNvCxnSpPr>
            <a:stCxn id="249" idx="2"/>
            <a:endCxn id="233" idx="0"/>
          </p:cNvCxnSpPr>
          <p:nvPr/>
        </p:nvCxnSpPr>
        <p:spPr>
          <a:xfrm flipH="1">
            <a:off x="4105080" y="2232000"/>
            <a:ext cx="46080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3" name=""/>
          <p:cNvCxnSpPr>
            <a:stCxn id="249" idx="2"/>
            <a:endCxn id="234" idx="0"/>
          </p:cNvCxnSpPr>
          <p:nvPr/>
        </p:nvCxnSpPr>
        <p:spPr>
          <a:xfrm>
            <a:off x="4565160" y="2232000"/>
            <a:ext cx="79308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4" name=""/>
          <p:cNvCxnSpPr>
            <a:stCxn id="249" idx="2"/>
            <a:endCxn id="236" idx="0"/>
          </p:cNvCxnSpPr>
          <p:nvPr/>
        </p:nvCxnSpPr>
        <p:spPr>
          <a:xfrm>
            <a:off x="4565160" y="2232000"/>
            <a:ext cx="19785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5" name=""/>
          <p:cNvCxnSpPr>
            <a:stCxn id="249" idx="2"/>
            <a:endCxn id="237" idx="0"/>
          </p:cNvCxnSpPr>
          <p:nvPr/>
        </p:nvCxnSpPr>
        <p:spPr>
          <a:xfrm>
            <a:off x="4565160" y="2232000"/>
            <a:ext cx="32583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6" name=""/>
          <p:cNvCxnSpPr>
            <a:stCxn id="236" idx="2"/>
            <a:endCxn id="238" idx="0"/>
          </p:cNvCxnSpPr>
          <p:nvPr/>
        </p:nvCxnSpPr>
        <p:spPr>
          <a:xfrm flipH="1">
            <a:off x="4559040" y="3222720"/>
            <a:ext cx="1985040" cy="506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7" name=""/>
          <p:cNvCxnSpPr>
            <a:stCxn id="238" idx="2"/>
            <a:endCxn id="239" idx="0"/>
          </p:cNvCxnSpPr>
          <p:nvPr/>
        </p:nvCxnSpPr>
        <p:spPr>
          <a:xfrm flipH="1">
            <a:off x="2212560" y="4185720"/>
            <a:ext cx="2347200" cy="342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8" name=""/>
          <p:cNvCxnSpPr>
            <a:stCxn id="238" idx="2"/>
            <a:endCxn id="240" idx="0"/>
          </p:cNvCxnSpPr>
          <p:nvPr/>
        </p:nvCxnSpPr>
        <p:spPr>
          <a:xfrm flipH="1">
            <a:off x="3431520" y="4185720"/>
            <a:ext cx="1127880" cy="342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9" name=""/>
          <p:cNvCxnSpPr>
            <a:stCxn id="238" idx="2"/>
            <a:endCxn id="241" idx="0"/>
          </p:cNvCxnSpPr>
          <p:nvPr/>
        </p:nvCxnSpPr>
        <p:spPr>
          <a:xfrm>
            <a:off x="4559400" y="4186080"/>
            <a:ext cx="514440" cy="3549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5919840" y="45277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38" idx="2"/>
            <a:endCxn id="260" idx="0"/>
          </p:cNvCxnSpPr>
          <p:nvPr/>
        </p:nvCxnSpPr>
        <p:spPr>
          <a:xfrm>
            <a:off x="4559040" y="4185720"/>
            <a:ext cx="1818360" cy="342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265-3126-43F0-A772-99E7C53CC5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 –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header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truct hdr_msg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har msg_[64]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tatic int offset_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line static int&amp; offset() { return offset_; 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inline static hdr_msg* access(Packet* p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return (hdr_msg*) p-&gt;access(offset_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/* per-field member functions */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har* msg() { return (msg_); 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t maxmsg() { return (sizeof(msg_)); 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ABC-08E4-4758-A4AC-CDB3AAB096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 –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Header/Mes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tatic class MessageHeaderClass 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blic PacketHeaderClass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MessageHeaderClass() : PacketHeaderClass("PacketHeader/Message"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izeof(hdr_msg)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bind_offset(&amp;hdr_msg::offset_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 class_msghdr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483-C74F-4976-B722-3AD96B1AC7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 –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able tracing (packet.h)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enum packet_t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T_TCP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T_MESSAGE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T_NTYPE // This MUST be the LAST o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lass p_info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name_[PT_MESSAGE] = “message”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name_[PT_NTYPE]= "undefined"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E9A-9101-4B6B-A4FC-82EBF4CE9C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 –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gister new header (tcl/lib/ns-packet.tc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foreach pair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{ Common off_cmn_ 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{ Message off_msg_ 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77A-6439-4549-96D9-78B32F4262E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cket Header: Cau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me old code, e.g.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tpAgent::RtpAgent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……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bind(“off_rtp_”, &amp;off_rtp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…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hdr_rtp* rh = (hdr_rtp*)p-&gt;access(off_rtp_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Don’t follow this example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E4B-62A6-4A17-B81B-F7217D4CD0E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 –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1587600"/>
            <a:ext cx="1371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86200" y="2340000"/>
            <a:ext cx="1371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68360" y="3154320"/>
            <a:ext cx="1479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nec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6400" y="3156120"/>
            <a:ext cx="14479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52480" y="4097160"/>
            <a:ext cx="8384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la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29200" y="4097160"/>
            <a:ext cx="1905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drClas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52560" y="4097160"/>
            <a:ext cx="8827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20000" y="4097160"/>
            <a:ext cx="1895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castCla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8480" y="4097160"/>
            <a:ext cx="995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eu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4097160"/>
            <a:ext cx="8827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74600" y="4940280"/>
            <a:ext cx="1197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opTai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3880" y="494028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79680" y="494028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48200" y="4938840"/>
            <a:ext cx="609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10320" y="4938840"/>
            <a:ext cx="609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548400" y="4938840"/>
            <a:ext cx="7574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o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90800" y="5705640"/>
            <a:ext cx="76176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81160" y="5705640"/>
            <a:ext cx="8384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C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75" name=""/>
          <p:cNvCxnSpPr>
            <a:stCxn id="458" idx="2"/>
            <a:endCxn id="459" idx="0"/>
          </p:cNvCxnSpPr>
          <p:nvPr/>
        </p:nvCxnSpPr>
        <p:spPr>
          <a:xfrm flipH="1">
            <a:off x="3007800" y="2797200"/>
            <a:ext cx="1564560" cy="357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76" name=""/>
          <p:cNvCxnSpPr>
            <a:stCxn id="458" idx="2"/>
            <a:endCxn id="460" idx="0"/>
          </p:cNvCxnSpPr>
          <p:nvPr/>
        </p:nvCxnSpPr>
        <p:spPr>
          <a:xfrm>
            <a:off x="4571640" y="2796840"/>
            <a:ext cx="1639080" cy="359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77" name=""/>
          <p:cNvCxnSpPr>
            <a:stCxn id="457" idx="2"/>
            <a:endCxn id="458" idx="0"/>
          </p:cNvCxnSpPr>
          <p:nvPr/>
        </p:nvCxnSpPr>
        <p:spPr>
          <a:xfrm>
            <a:off x="4571640" y="2044800"/>
            <a:ext cx="1080" cy="295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78" name=""/>
          <p:cNvCxnSpPr>
            <a:stCxn id="459" idx="2"/>
            <a:endCxn id="465" idx="0"/>
          </p:cNvCxnSpPr>
          <p:nvPr/>
        </p:nvCxnSpPr>
        <p:spPr>
          <a:xfrm flipH="1">
            <a:off x="1026360" y="3611160"/>
            <a:ext cx="198180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79" name=""/>
          <p:cNvCxnSpPr>
            <a:stCxn id="459" idx="2"/>
            <a:endCxn id="461" idx="0"/>
          </p:cNvCxnSpPr>
          <p:nvPr/>
        </p:nvCxnSpPr>
        <p:spPr>
          <a:xfrm flipH="1">
            <a:off x="2171160" y="3611160"/>
            <a:ext cx="83700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0" name=""/>
          <p:cNvCxnSpPr>
            <a:stCxn id="459" idx="2"/>
            <a:endCxn id="463" idx="0"/>
          </p:cNvCxnSpPr>
          <p:nvPr/>
        </p:nvCxnSpPr>
        <p:spPr>
          <a:xfrm>
            <a:off x="3008160" y="3611160"/>
            <a:ext cx="18648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1" name=""/>
          <p:cNvCxnSpPr>
            <a:stCxn id="459" idx="2"/>
            <a:endCxn id="466" idx="0"/>
          </p:cNvCxnSpPr>
          <p:nvPr/>
        </p:nvCxnSpPr>
        <p:spPr>
          <a:xfrm>
            <a:off x="3007800" y="3611160"/>
            <a:ext cx="132012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2" name=""/>
          <p:cNvCxnSpPr>
            <a:stCxn id="460" idx="2"/>
            <a:endCxn id="462" idx="0"/>
          </p:cNvCxnSpPr>
          <p:nvPr/>
        </p:nvCxnSpPr>
        <p:spPr>
          <a:xfrm flipH="1">
            <a:off x="5981040" y="3613320"/>
            <a:ext cx="229320" cy="484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3" name=""/>
          <p:cNvCxnSpPr>
            <a:stCxn id="460" idx="2"/>
            <a:endCxn id="464" idx="0"/>
          </p:cNvCxnSpPr>
          <p:nvPr/>
        </p:nvCxnSpPr>
        <p:spPr>
          <a:xfrm>
            <a:off x="6210000" y="3613320"/>
            <a:ext cx="1757880" cy="484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4" name=""/>
          <p:cNvCxnSpPr>
            <a:stCxn id="465" idx="2"/>
            <a:endCxn id="467" idx="0"/>
          </p:cNvCxnSpPr>
          <p:nvPr/>
        </p:nvCxnSpPr>
        <p:spPr>
          <a:xfrm flipH="1">
            <a:off x="772560" y="4554360"/>
            <a:ext cx="25452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5" name=""/>
          <p:cNvCxnSpPr>
            <a:stCxn id="465" idx="2"/>
            <a:endCxn id="468" idx="0"/>
          </p:cNvCxnSpPr>
          <p:nvPr/>
        </p:nvCxnSpPr>
        <p:spPr>
          <a:xfrm>
            <a:off x="1026720" y="4554360"/>
            <a:ext cx="87876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6" name=""/>
          <p:cNvCxnSpPr>
            <a:stCxn id="463" idx="2"/>
            <a:endCxn id="469" idx="0"/>
          </p:cNvCxnSpPr>
          <p:nvPr/>
        </p:nvCxnSpPr>
        <p:spPr>
          <a:xfrm flipH="1">
            <a:off x="2860200" y="4554360"/>
            <a:ext cx="33408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7" name=""/>
          <p:cNvCxnSpPr>
            <a:stCxn id="469" idx="2"/>
            <a:endCxn id="473" idx="0"/>
          </p:cNvCxnSpPr>
          <p:nvPr/>
        </p:nvCxnSpPr>
        <p:spPr>
          <a:xfrm flipH="1">
            <a:off x="2371320" y="5397480"/>
            <a:ext cx="48960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8" name=""/>
          <p:cNvCxnSpPr>
            <a:stCxn id="469" idx="2"/>
            <a:endCxn id="474" idx="0"/>
          </p:cNvCxnSpPr>
          <p:nvPr/>
        </p:nvCxnSpPr>
        <p:spPr>
          <a:xfrm>
            <a:off x="2860560" y="5397480"/>
            <a:ext cx="54072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9" name=""/>
          <p:cNvCxnSpPr>
            <a:stCxn id="466" idx="2"/>
            <a:endCxn id="470" idx="0"/>
          </p:cNvCxnSpPr>
          <p:nvPr/>
        </p:nvCxnSpPr>
        <p:spPr>
          <a:xfrm>
            <a:off x="4327200" y="4554360"/>
            <a:ext cx="926280" cy="385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0" name=""/>
          <p:cNvCxnSpPr>
            <a:stCxn id="466" idx="2"/>
            <a:endCxn id="471" idx="0"/>
          </p:cNvCxnSpPr>
          <p:nvPr/>
        </p:nvCxnSpPr>
        <p:spPr>
          <a:xfrm>
            <a:off x="4327200" y="4554360"/>
            <a:ext cx="1688040" cy="385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1" name=""/>
          <p:cNvCxnSpPr>
            <a:stCxn id="466" idx="2"/>
            <a:endCxn id="472" idx="0"/>
          </p:cNvCxnSpPr>
          <p:nvPr/>
        </p:nvCxnSpPr>
        <p:spPr>
          <a:xfrm>
            <a:off x="4327200" y="4554360"/>
            <a:ext cx="2601000" cy="385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92" name=""/>
          <p:cNvSpPr/>
          <p:nvPr/>
        </p:nvSpPr>
        <p:spPr>
          <a:xfrm>
            <a:off x="3363840" y="4940280"/>
            <a:ext cx="1463760" cy="45720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63" idx="2"/>
            <a:endCxn id="492" idx="0"/>
          </p:cNvCxnSpPr>
          <p:nvPr/>
        </p:nvCxnSpPr>
        <p:spPr>
          <a:xfrm>
            <a:off x="3193560" y="4554360"/>
            <a:ext cx="90252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B4B-80BC-4991-86CC-6D741640BAE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 –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++ class defini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// Standard split object declar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tatic 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lass MessageAgent : public Agent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MessageAgent() : Agent(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PT_MESSAGE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) {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virtual int command(int argc, const char*const* argv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virtual void recv(Packet*, Handler*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FEB-EDAA-45AC-94D4-13D535F1D03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 –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cket processing: se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int MessageAgent::command(int, const char*const* argv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Tcl&amp; tcl = Tcl::instance(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if (strcmp(argv[1], "send") == 0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Packet* pkt = allocpkt(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hdr_msg* mh = hdr_msg::access(pkt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// We ignore message size check..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strcpy(mh-&gt;msg(), argv[2]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send(pkt, 0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return (TCL_OK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return (Agent::command(argc, argv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206-FA02-4DFA-92D2-4661031F227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 –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cket processing: receiv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void MessageAgent::recv(Packet* pkt, Handler*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hdr_msg* mh = hdr_msg::access(pkt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// OTcl callbac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har wrk[128]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printf(wrk, "%s recv {%s}", name(), mh-&gt;msg()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Tcl&amp; tcl = Tcl::instance(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tcl.eval(wrk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acket::free(pkt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726-4DCD-423B-AFF5-8A2E188FBEB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xtending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In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In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ugging: OTcl/C++, mem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itfal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5F6-F312-407E-9BC3-5754F193417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ending ns in O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you don’t want to compi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ourc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your changes in your sim scrip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herwi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difying code; recomp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ing new fi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hange Makefile (NS_TCL_LIB), tcl/lib/ns-lib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mpi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90C-7CF8-46FB-9226-87F7C6469C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bugging C++ in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++/OTcl debu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mory debu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rif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mal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CD87-125D-4549-905F-C84C1F451D8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/OTcl Debugg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ual techniqu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reak inside command(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not examine states inside OTcl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ecute tcl-debug inside gd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824-58E8-490C-9470-AEE2428D47B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/OTcl Debugg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(gdb)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all Tcl::instance().eval(“debug 1”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15: lappend auto_path $dbg_librar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3&gt; w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*0: applic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15: lappend auto_path $dbg_librar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4&gt; Simulator info instanc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_o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5&gt; _o1 now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6&gt; # and other fun stuff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7&gt;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(gdb) whe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0 0x102218 in write(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C89-3105-49E2-ABC2-D24F01B7AEE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Debugging in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0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urif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PURIFY macro in ns Make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lly, put -colloctor=&lt;ld_path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ray Watson’s dmalloc libra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tp://www.dmalloc.com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 distcle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/configure --with-dmalloc=&lt;dmalloc_path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yze results: dmalloc_summariz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6864-A399-4B69-95D1-CA1379A6A1A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malloc: U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urn on dmallo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ias dmalloc ’eval ‘\dmalloc –C \!*`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malloc -l log l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malloc_summarize ns &lt; logfi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s must be in current direc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emize how much memory is allocated in each fun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1933-DA0D-4550-A2EC-2292C0BFAE0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tfal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ability vs flex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r, how to write scalable simulatio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mory conservation tip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mory lea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1DF-9EF9-4774-AB12-8875ACD5306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6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alability vs Flexibi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t’s tempting to write all-OTcl simu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nefit: quick prototyp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: memory + run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trol the granularity of your split object by migrating methods from OTcl to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32EC-DFE1-4F8E-B35A-D671352B7A0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erit of O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833400" y="2438280"/>
            <a:ext cx="7804080" cy="609840"/>
          </a:xfrm>
          <a:custGeom>
            <a:avLst/>
            <a:gdLst>
              <a:gd name="textAreaLeft" fmla="*/ 264240 w 7804080"/>
              <a:gd name="textAreaRight" fmla="*/ 7539840 w 7804080"/>
              <a:gd name="textAreaTop" fmla="*/ 108000 h 609840"/>
              <a:gd name="textAreaBottom" fmla="*/ 5018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3825"/>
                </a:moveTo>
                <a:lnTo>
                  <a:pt x="20467" y="3825"/>
                </a:lnTo>
                <a:lnTo>
                  <a:pt x="20467" y="0"/>
                </a:lnTo>
                <a:lnTo>
                  <a:pt x="21600" y="10800"/>
                </a:lnTo>
                <a:lnTo>
                  <a:pt x="20467" y="21600"/>
                </a:lnTo>
                <a:lnTo>
                  <a:pt x="20467" y="17775"/>
                </a:lnTo>
                <a:lnTo>
                  <a:pt x="0" y="17775"/>
                </a:lnTo>
                <a:lnTo>
                  <a:pt x="732" y="10800"/>
                </a:lnTo>
                <a:lnTo>
                  <a:pt x="0" y="3825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29400" y="1795320"/>
            <a:ext cx="49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gram size, complexit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40280" y="3652920"/>
            <a:ext cx="4548240" cy="1404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20800" y="3232080"/>
            <a:ext cx="441936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36800" y="319104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C/C++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896440" y="315288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OTc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58440" y="4724280"/>
            <a:ext cx="797724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moothly adjust the granularity of scripting to balance extensibility and perform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th complete compatibility with existing simulation scrip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569880" y="19591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g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980840" y="189720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w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13080" y="4351320"/>
            <a:ext cx="4548240" cy="1440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321000" y="3767040"/>
            <a:ext cx="25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split objec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9AF-B46C-4436-8B8C-76B56B05AE9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 Granularity Ti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unctiona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-packet processing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oks, frequently changing code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ta manag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lex/large data structure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e-time configuration variables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E6C3-781C-459B-BE30-576FA3B3F5C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9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Conservation Ti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void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trace-a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arrays for a sequence of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ead of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n$i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say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n($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void OTcl temporary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dynamic bind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delay_bind()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instead of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bind(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e object.{h,cc}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A58-C490-4ACD-8A1B-3605EFFE6AE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: Agent/Mes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452760" y="34416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43400" y="34434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258768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02240" y="43830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97080" y="258768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97080" y="43578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65" idx="6"/>
            <a:endCxn id="266" idx="2"/>
          </p:cNvCxnSpPr>
          <p:nvPr/>
        </p:nvCxnSpPr>
        <p:spPr>
          <a:xfrm>
            <a:off x="3990600" y="3711600"/>
            <a:ext cx="125316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72" name=""/>
          <p:cNvCxnSpPr>
            <a:stCxn id="265" idx="2"/>
            <a:endCxn id="269" idx="5"/>
          </p:cNvCxnSpPr>
          <p:nvPr/>
        </p:nvCxnSpPr>
        <p:spPr>
          <a:xfrm flipH="1" flipV="1">
            <a:off x="2655360" y="3046320"/>
            <a:ext cx="797760" cy="665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73" name=""/>
          <p:cNvCxnSpPr>
            <a:stCxn id="265" idx="2"/>
            <a:endCxn id="270" idx="7"/>
          </p:cNvCxnSpPr>
          <p:nvPr/>
        </p:nvCxnSpPr>
        <p:spPr>
          <a:xfrm flipH="1">
            <a:off x="2655360" y="3711240"/>
            <a:ext cx="797760" cy="726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74" name=""/>
          <p:cNvCxnSpPr>
            <a:stCxn id="266" idx="6"/>
            <a:endCxn id="267" idx="3"/>
          </p:cNvCxnSpPr>
          <p:nvPr/>
        </p:nvCxnSpPr>
        <p:spPr>
          <a:xfrm flipV="1">
            <a:off x="5781600" y="3045960"/>
            <a:ext cx="699120" cy="6674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75" name=""/>
          <p:cNvCxnSpPr>
            <a:stCxn id="266" idx="6"/>
            <a:endCxn id="268" idx="1"/>
          </p:cNvCxnSpPr>
          <p:nvPr/>
        </p:nvCxnSpPr>
        <p:spPr>
          <a:xfrm>
            <a:off x="5781240" y="3713040"/>
            <a:ext cx="700920" cy="750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3920760" y="3325680"/>
            <a:ext cx="14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28Kb, 5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60640" y="413856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0Mb, 1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26040" y="413856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0Mb, 1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80920" y="2587680"/>
            <a:ext cx="7475760" cy="1196640"/>
            <a:chOff x="880920" y="2587680"/>
            <a:chExt cx="7475760" cy="1196640"/>
          </a:xfrm>
        </p:grpSpPr>
        <p:grpSp>
          <p:nvGrpSpPr>
            <p:cNvPr id="280" name=""/>
            <p:cNvGrpSpPr/>
            <p:nvPr/>
          </p:nvGrpSpPr>
          <p:grpSpPr>
            <a:xfrm>
              <a:off x="987480" y="2587680"/>
              <a:ext cx="7369200" cy="538200"/>
              <a:chOff x="987480" y="2587680"/>
              <a:chExt cx="7369200" cy="538200"/>
            </a:xfrm>
          </p:grpSpPr>
          <p:sp>
            <p:nvSpPr>
              <p:cNvPr id="281" name=""/>
              <p:cNvSpPr/>
              <p:nvPr/>
            </p:nvSpPr>
            <p:spPr>
              <a:xfrm>
                <a:off x="987480" y="2587680"/>
                <a:ext cx="538200" cy="538200"/>
              </a:xfrm>
              <a:prstGeom prst="ellipse">
                <a:avLst/>
              </a:prstGeom>
              <a:solidFill>
                <a:srgbClr val="cfdbfd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18480" y="2587680"/>
                <a:ext cx="538200" cy="538200"/>
              </a:xfrm>
              <a:prstGeom prst="ellipse">
                <a:avLst/>
              </a:prstGeom>
              <a:solidFill>
                <a:srgbClr val="cfdbfd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283" name=""/>
              <p:cNvCxnSpPr>
                <a:stCxn id="281" idx="6"/>
                <a:endCxn id="269" idx="2"/>
              </p:cNvCxnSpPr>
              <p:nvPr/>
            </p:nvCxnSpPr>
            <p:spPr>
              <a:xfrm>
                <a:off x="1525320" y="2857320"/>
                <a:ext cx="67212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284" name=""/>
              <p:cNvCxnSpPr>
                <a:stCxn id="282" idx="2"/>
                <a:endCxn id="267" idx="6"/>
              </p:cNvCxnSpPr>
              <p:nvPr/>
            </p:nvCxnSpPr>
            <p:spPr>
              <a:xfrm flipH="1">
                <a:off x="6938280" y="2857320"/>
                <a:ext cx="88020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sp>
          <p:nvSpPr>
            <p:cNvPr id="285" name=""/>
            <p:cNvSpPr/>
            <p:nvPr/>
          </p:nvSpPr>
          <p:spPr>
            <a:xfrm>
              <a:off x="880920" y="3141720"/>
              <a:ext cx="81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ros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traffic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35760" y="4349880"/>
            <a:ext cx="7734240" cy="963360"/>
            <a:chOff x="635760" y="4349880"/>
            <a:chExt cx="7734240" cy="963360"/>
          </a:xfrm>
        </p:grpSpPr>
        <p:grpSp>
          <p:nvGrpSpPr>
            <p:cNvPr id="287" name=""/>
            <p:cNvGrpSpPr/>
            <p:nvPr/>
          </p:nvGrpSpPr>
          <p:grpSpPr>
            <a:xfrm>
              <a:off x="1001520" y="4349880"/>
              <a:ext cx="7368480" cy="538200"/>
              <a:chOff x="1001520" y="4349880"/>
              <a:chExt cx="7368480" cy="538200"/>
            </a:xfrm>
          </p:grpSpPr>
          <p:sp>
            <p:nvSpPr>
              <p:cNvPr id="288" name=""/>
              <p:cNvSpPr/>
              <p:nvPr/>
            </p:nvSpPr>
            <p:spPr>
              <a:xfrm>
                <a:off x="1001520" y="4349880"/>
                <a:ext cx="537840" cy="538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S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832160" y="4349880"/>
                <a:ext cx="537840" cy="538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R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290" name=""/>
              <p:cNvCxnSpPr>
                <a:stCxn id="288" idx="6"/>
              </p:cNvCxnSpPr>
              <p:nvPr/>
            </p:nvCxnSpPr>
            <p:spPr>
              <a:xfrm>
                <a:off x="1539360" y="4619520"/>
                <a:ext cx="67176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291" name=""/>
              <p:cNvCxnSpPr>
                <a:stCxn id="289" idx="2"/>
              </p:cNvCxnSpPr>
              <p:nvPr/>
            </p:nvCxnSpPr>
            <p:spPr>
              <a:xfrm flipH="1">
                <a:off x="6952320" y="4619520"/>
                <a:ext cx="87984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sp>
          <p:nvSpPr>
            <p:cNvPr id="292" name=""/>
            <p:cNvSpPr/>
            <p:nvPr/>
          </p:nvSpPr>
          <p:spPr>
            <a:xfrm>
              <a:off x="635760" y="494496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msg agen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831-0816-4BA3-9971-BCB9AFF3DF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Lea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urify or dmalloc, but be careful about split object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for {set i 0} {$i &lt; 500} {incr i}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et a [new RandomVariable/Constant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leaks memory, but can’t be detected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plicitly delete EVERY split object that was new-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0D1-0776-472E-9BB1-36DCDED45A0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nal Wor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y extended ns dumps OTcl scripts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nd the last 10-20 lines of the dum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s the error related to “_o*** cmd …” 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heck your command(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herwise, check the otcl script pointed by the error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287-737B-4C95-8887-B065768C885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373212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UDP agent (without UDP heade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p to 64 bytes user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ood for fast prototyping a simple ide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age requires extending ns functiona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777960" y="2590920"/>
            <a:ext cx="53316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73840" y="2590920"/>
            <a:ext cx="53352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11120" y="2819520"/>
            <a:ext cx="55627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05080" y="1568520"/>
            <a:ext cx="186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kt: 64 byt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f arbitrary string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21640" y="1770120"/>
            <a:ext cx="186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ceiver-si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cess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B78-AB4B-487C-9049-D125B6E41C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ine sen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ass Sender –superclass Agent/Messag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Message format: “Addr Op SeqNo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instproc send-next {}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self instvar seq_ agent_addr_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$self send “$agent_addr_ send $seq_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cr seq_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global 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[expr [$ns now]+0.1] "$self send-next"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681-8506-4469-8F81-8490E24774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sender packet process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nder instproc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recv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sg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self instvar agent_addr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dr [lindex $msg 0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eq [lindex $msg 2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ts "Sender gets ack $seq from $sdr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600-96FA-402E-87C8-0CF0D8E0DC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receiver packet process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ass Receiver –superclass Agent/Messag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ceiver instproc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recv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sg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self instvar agent_addr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dr [lindex $msg 0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eq [lindex $msg 2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ts “Receiver gets seq $seq from $sdr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$self send “$addr_ ack $seq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46E-FBBA-4F2B-89DB-73C11BAA5C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7-03T16:40:44Z</dcterms:modified>
  <cp:revision>676</cp:revision>
  <dc:subject/>
  <dc:title>ns-2 tutorial for IEC'00 workshop</dc:title>
</cp:coreProperties>
</file>