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E05-A784-4B0B-927A-20F83208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29C-D50A-4586-867E-EE4E7F0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62B-A069-4FC3-AD64-21E11060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432-B06D-4740-8A97-3DCBF11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EC0-7D42-417C-A604-DD3C8993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7AAC-571D-4D05-B913-F99F1FD0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1D74-B0BF-48C0-81BD-6E70F9AC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B106-FF05-4695-93B0-D4AF99DE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32AD-FFA5-47F8-A77A-E32F400B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273-D135-453C-AFD7-52B613A9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1293-85BA-47CF-80DC-D2CCC0C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E7C-BFB8-4B35-A33E-8B8E2B9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993-E2B0-42D1-B193-3421A359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4D7A-0DD4-4D3A-94D2-65B7EDE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7BB-9CE6-42D9-8CCF-F00184D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CBB-6278-4477-8F41-87D2F97F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0A1B-F4BA-49AC-BA28-52E0B5C0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8C2-AEE6-4352-93A8-BCBC6C8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792-8370-4761-9030-B5147F0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2FF-F4AB-4356-9C18-94D375E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ED9-086F-437C-9C2F-63A356EC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4CA-557E-448F-ABB3-1C24AC8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36A-687C-432C-887C-30075DA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818-DC2F-4521-A4D8-9A1E5B7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82C-BEF4-4CCE-A4E8-F1A2A9636F8A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095E-8583-4DCA-A544-7B20F75E5127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355-049E-4432-B59B-D13B87675533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0C9-4A20-4231-9FDA-288E8709AC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noc.nam&quot;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c:\research\vint\nam-1.0a9\nam.exe &quot;c:/research/vint/nam-1.0a9/ex/srm-example.nam&quot;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color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4815-A3B7-4D4C-B997-BC68D76C54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Batch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752-986B-452C-A866-A11BDC7C18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est 43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21D-3982-4723-899E-00F880831C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191120" cy="4516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518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EFA-F6B3-4BF1-9AB8-F98A71FDE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 of ns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h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Turn on tracing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up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nsport conn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application-level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B2A-077F-49DC-9D2A-1E32D36E10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 &lt;time&gt; &lt;event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event&gt;: any legitimate ns/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B75-335B-480C-AD5C-106C72556A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all [open test.out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+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-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r 1.00234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 in nam-1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all [open test.nam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Must appear immediately after creating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D87-5AEB-4D7F-8925-DEF5667402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tracing on specific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93B-71ED-4326-B62A-C0FB13EA2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0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1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and queu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queue_type&gt;: DropTail, RED, CBQ, FQ, SFQ, DR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CFA-2908-4BDF-B33B-23FD39AE63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: L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ake-lan &lt;node_list&gt; &lt;bandwidth&gt; &lt;delay&gt; &lt;ll_type&gt; &lt;ifq_type&gt; &lt;mac_type&gt; &lt;channel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ll_type&gt;: 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ifq_type&gt;: Queue/DropTail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mac_type&gt;: MAC/802_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channel_type&gt;: Chann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4A4-58FF-4309-9894-CAA7D1E76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erting 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loss_module [new ErrorMode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set rate_ 0.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unit p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ranvar [new RandomVariable/Unifor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drop-target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er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lossmodel $loss_modul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8D0-954C-4165-BCBE-529D48C5ED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FAF-B889-423C-AFA5-DC076D375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Dynam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fail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 in routing module to reflect routing cha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Trace &lt;config_file&gt;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Exponential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Deterministic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-at &lt;time&gt; up|down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er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[&lt;start&gt;] &lt;up_interval&gt; &lt;down_interval&gt; [&lt;finish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1F0-6793-47AB-8C88-AAFA4477CB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up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Static, Session, DV, cost, multi-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ulticast (right after [new Simulato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CtrMcast, DM, ST, B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000-4A4E-4733-97FF-3836597247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udp [new Agent/UD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ull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ud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udp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4AF-9084-47BB-883B-B37B548BB3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UD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B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CB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onential or Pareto on-o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Exponentia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Pareto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C23-ADD8-4A59-95BC-F19BAB1529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TC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sink [new Agent/TCPSink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tcp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E1E-6D47-4210-95E2-21ECEEC7E5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TC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ftp [new Application/FT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ftp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elnet [new Application/Telnet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telnet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330-E411-4D2C-BE29-0802B2CD45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Traffic: Trace Driv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e dr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tfile [new Tracefil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tfile filename &lt;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src [new Application/Traffic/Trac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src attach-tracefile $t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file&gt;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ary format (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native!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-packet time (msec) and packet size (byt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FE0-27BB-4F32-804C-6EE0ED594D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-Level Si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on top of existing transport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user data, e.g., HTTP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different 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: Application/TcpA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DP: Agent/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B4E-AE58-4B06-9429-B85788436C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9000" y="3949200"/>
            <a:ext cx="6019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: TCP as a FIFO pi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fore sending: S notifies about R data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fter receiving: R gets data (arbitrary string) from 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24400">
            <a:off x="32004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24400">
            <a:off x="495288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24400">
            <a:off x="64008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17040" y="4254480"/>
            <a:ext cx="1690560" cy="1557000"/>
            <a:chOff x="6917040" y="4254480"/>
            <a:chExt cx="1690560" cy="1557000"/>
          </a:xfrm>
        </p:grpSpPr>
        <p:sp>
          <p:nvSpPr>
            <p:cNvPr id="339" name=""/>
            <p:cNvSpPr/>
            <p:nvPr/>
          </p:nvSpPr>
          <p:spPr>
            <a:xfrm>
              <a:off x="6917040" y="4254480"/>
              <a:ext cx="76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48760" y="4788000"/>
              <a:ext cx="115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Out-of-b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95280" y="3048120"/>
            <a:ext cx="6827760" cy="557640"/>
            <a:chOff x="1295280" y="3048120"/>
            <a:chExt cx="6827760" cy="557640"/>
          </a:xfrm>
        </p:grpSpPr>
        <p:sp>
          <p:nvSpPr>
            <p:cNvPr id="342" name=""/>
            <p:cNvSpPr/>
            <p:nvPr/>
          </p:nvSpPr>
          <p:spPr>
            <a:xfrm>
              <a:off x="1295280" y="3048120"/>
              <a:ext cx="5639040" cy="53316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8480" y="3206880"/>
              <a:ext cx="192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Expec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71240" y="1897200"/>
            <a:ext cx="7893360" cy="617400"/>
            <a:chOff x="1371240" y="1897200"/>
            <a:chExt cx="7893360" cy="617400"/>
          </a:xfrm>
        </p:grpSpPr>
        <p:sp>
          <p:nvSpPr>
            <p:cNvPr id="345" name=""/>
            <p:cNvSpPr/>
            <p:nvPr/>
          </p:nvSpPr>
          <p:spPr>
            <a:xfrm rot="10800000">
              <a:off x="1371240" y="1980720"/>
              <a:ext cx="5638680" cy="53352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64360" y="189720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Get firs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 of 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0000" y="2119320"/>
            <a:ext cx="1601640" cy="703800"/>
            <a:chOff x="1440000" y="2119320"/>
            <a:chExt cx="1601640" cy="703800"/>
          </a:xfrm>
        </p:grpSpPr>
        <p:sp>
          <p:nvSpPr>
            <p:cNvPr id="348" name=""/>
            <p:cNvSpPr/>
            <p:nvPr/>
          </p:nvSpPr>
          <p:spPr>
            <a:xfrm rot="21524400">
              <a:off x="1600200" y="2590920"/>
              <a:ext cx="219240" cy="11412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000" y="2119320"/>
              <a:ext cx="16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pkt (empt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05280" y="2895480"/>
            <a:ext cx="581400" cy="467280"/>
            <a:chOff x="5705280" y="2895480"/>
            <a:chExt cx="581400" cy="467280"/>
          </a:xfrm>
        </p:grpSpPr>
        <p:sp>
          <p:nvSpPr>
            <p:cNvPr id="351" name=""/>
            <p:cNvSpPr/>
            <p:nvPr/>
          </p:nvSpPr>
          <p:spPr>
            <a:xfrm rot="10800000">
              <a:off x="5866920" y="2895480"/>
              <a:ext cx="219240" cy="1144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f7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05280" y="29638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ac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10800000">
            <a:off x="44197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2971440" y="2895480"/>
            <a:ext cx="21924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765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7E0-D43F-453B-A7FA-24EC798645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ullTcp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1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2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1 $tcp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2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connect $tcp1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2 list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860-179B-420A-A090-44E1451EC9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Tcl,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ments of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4AD-7F0C-4A03-9804-CE23F1140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reliable, in-ord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user data trans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1 [new Application/TcpApp $tcp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2 [new Application/TcpApp $tcp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app1 connect $app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&lt;ns-2 command&gt;: will be executed when received at the receiver TcpA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1.0 “$app1 send &lt;data_byte&gt; \”&lt;ns-2 command&gt;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0FA-52C5-4E6D-93AA-67B5E78909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’ll give an example tomorr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24400">
            <a:off x="31399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24400">
            <a:off x="4892760" y="2590920"/>
            <a:ext cx="21888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24400">
            <a:off x="63403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24400">
            <a:off x="15397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A5E-0EF7-4E88-9ED5-0EC2DA2918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: Generic Script Structu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374-A069-41C9-99C0-B5C5FC88F7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EBE-D0B3-470B-B32F-24005E6F29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996120" y="3378240"/>
            <a:ext cx="2090520" cy="825480"/>
            <a:chOff x="996120" y="3378240"/>
            <a:chExt cx="2090520" cy="825480"/>
          </a:xfrm>
        </p:grpSpPr>
        <p:sp>
          <p:nvSpPr>
            <p:cNvPr id="376" name=""/>
            <p:cNvSpPr/>
            <p:nvPr/>
          </p:nvSpPr>
          <p:spPr>
            <a:xfrm flipH="1">
              <a:off x="1834560" y="3535200"/>
              <a:ext cx="53820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2"/>
              <a:endCxn id="378" idx="6"/>
            </p:cNvCxnSpPr>
            <p:nvPr/>
          </p:nvCxnSpPr>
          <p:spPr>
            <a:xfrm>
              <a:off x="2374920" y="3803760"/>
              <a:ext cx="71208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99612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4680" y="3378240"/>
            <a:ext cx="2089080" cy="825480"/>
            <a:chOff x="994680" y="3378240"/>
            <a:chExt cx="208908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1833480" y="3535200"/>
              <a:ext cx="1250280" cy="538200"/>
              <a:chOff x="1833480" y="3535200"/>
              <a:chExt cx="1250280" cy="53820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1833480" y="3535200"/>
                <a:ext cx="537840" cy="5382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G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82" idx="2"/>
                <a:endCxn id="384" idx="6"/>
              </p:cNvCxnSpPr>
              <p:nvPr/>
            </p:nvCxnSpPr>
            <p:spPr>
              <a:xfrm>
                <a:off x="2372400" y="3803400"/>
                <a:ext cx="7117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  <p:sp>
          <p:nvSpPr>
            <p:cNvPr id="385" name=""/>
            <p:cNvSpPr/>
            <p:nvPr/>
          </p:nvSpPr>
          <p:spPr>
            <a:xfrm>
              <a:off x="99468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2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05480" y="3382920"/>
            <a:ext cx="2070720" cy="825480"/>
            <a:chOff x="1005480" y="3382920"/>
            <a:chExt cx="2070720" cy="825480"/>
          </a:xfrm>
        </p:grpSpPr>
        <p:sp>
          <p:nvSpPr>
            <p:cNvPr id="387" name=""/>
            <p:cNvSpPr/>
            <p:nvPr/>
          </p:nvSpPr>
          <p:spPr>
            <a:xfrm flipH="1">
              <a:off x="1825560" y="3539880"/>
              <a:ext cx="53784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>
              <a:off x="2364840" y="3808440"/>
              <a:ext cx="71172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005480" y="3382920"/>
              <a:ext cx="93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5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Multicast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group membership under Dens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339440" y="4356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130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83760" y="3535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83760" y="5272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2" idx="2"/>
            <a:endCxn id="393" idx="6"/>
          </p:cNvCxnSpPr>
          <p:nvPr/>
        </p:nvCxnSpPr>
        <p:spPr>
          <a:xfrm>
            <a:off x="4879800" y="4624560"/>
            <a:ext cx="1253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92" idx="6"/>
            <a:endCxn id="384" idx="3"/>
          </p:cNvCxnSpPr>
          <p:nvPr/>
        </p:nvCxnSpPr>
        <p:spPr>
          <a:xfrm flipH="1" flipV="1">
            <a:off x="3544560" y="3993480"/>
            <a:ext cx="797760" cy="6310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92" idx="6"/>
            <a:endCxn id="378" idx="1"/>
          </p:cNvCxnSpPr>
          <p:nvPr/>
        </p:nvCxnSpPr>
        <p:spPr>
          <a:xfrm flipH="1">
            <a:off x="3544560" y="462420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97" name=""/>
          <p:cNvSpPr/>
          <p:nvPr/>
        </p:nvSpPr>
        <p:spPr>
          <a:xfrm flipH="1">
            <a:off x="4803120" y="4240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728160" y="49989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25640" y="43578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6"/>
            <a:endCxn id="393" idx="2"/>
          </p:cNvCxnSpPr>
          <p:nvPr/>
        </p:nvCxnSpPr>
        <p:spPr>
          <a:xfrm flipH="1">
            <a:off x="6670080" y="4625640"/>
            <a:ext cx="657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056600" y="4251240"/>
            <a:ext cx="9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25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080" y="52704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2"/>
            <a:endCxn id="378" idx="6"/>
          </p:cNvCxnSpPr>
          <p:nvPr/>
        </p:nvCxnSpPr>
        <p:spPr>
          <a:xfrm>
            <a:off x="2368440" y="5538960"/>
            <a:ext cx="7185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 flipH="1">
            <a:off x="3701160" y="39337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EA9-7763-4CE0-A737-3AEE386EEE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, tracing, and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cast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8F4-54BD-4070-B7C1-FD4C2FED607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3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1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2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3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4BA-7BCA-4393-8FEF-DB7CAA9A666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 and group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rtproto D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llocate group addre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1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2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203-6830-4FA9-BA48-0128B7A1B9A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0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3EE-61E5-42E8-B6C2-18F38D9549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3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1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3D3-83B1-436F-A62B-3838A04A1B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-oriented (C++, O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+ Exte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/”data” s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C++/OTcl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ar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grained object com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359-A4DB-4C53-A2FE-B45E6A93AE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with dynamic memb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an also be Agent/Nu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Agent/LossMoni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ign it to node $n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leave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1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28-059C-426B-88C5-CACCB7F9EB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2.0 "finish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running nam...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ec nam out.nam &amp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">
            <a:hlinkClick r:id="rId2"/>
          </p:cNvPr>
          <p:cNvSpPr/>
          <p:nvPr/>
        </p:nvSpPr>
        <p:spPr>
          <a:xfrm>
            <a:off x="8169120" y="5881680"/>
            <a:ext cx="741600" cy="469800"/>
          </a:xfrm>
          <a:custGeom>
            <a:avLst/>
            <a:gdLst>
              <a:gd name="textAreaLeft" fmla="*/ 30240 w 741600"/>
              <a:gd name="textAreaRight" fmla="*/ 711360 w 74160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34087" h="21600">
                <a:moveTo>
                  <a:pt x="0" y="0"/>
                </a:moveTo>
                <a:lnTo>
                  <a:pt x="34087" y="0"/>
                </a:lnTo>
                <a:lnTo>
                  <a:pt x="34087" y="21600"/>
                </a:lnTo>
                <a:lnTo>
                  <a:pt x="0" y="21600"/>
                </a:lnTo>
                <a:close/>
              </a:path>
              <a:path fill="lightenLess" w="34087" h="21600">
                <a:moveTo>
                  <a:pt x="0" y="0"/>
                </a:moveTo>
                <a:lnTo>
                  <a:pt x="34087" y="0"/>
                </a:lnTo>
                <a:lnTo>
                  <a:pt x="32687" y="1400"/>
                </a:lnTo>
                <a:lnTo>
                  <a:pt x="1400" y="1400"/>
                </a:lnTo>
                <a:close/>
              </a:path>
              <a:path fill="darken" w="34087" h="21600">
                <a:moveTo>
                  <a:pt x="34087" y="0"/>
                </a:moveTo>
                <a:lnTo>
                  <a:pt x="34087" y="21600"/>
                </a:lnTo>
                <a:lnTo>
                  <a:pt x="32687" y="20200"/>
                </a:lnTo>
                <a:lnTo>
                  <a:pt x="32687" y="1400"/>
                </a:lnTo>
                <a:close/>
              </a:path>
              <a:path fill="darkenLess" w="34087" h="21600">
                <a:moveTo>
                  <a:pt x="34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7" y="20200"/>
                </a:lnTo>
                <a:close/>
              </a:path>
              <a:path fill="lighten" w="34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7" h="21600">
                <a:moveTo>
                  <a:pt x="10037" y="7301"/>
                </a:moveTo>
                <a:lnTo>
                  <a:pt x="10951" y="7301"/>
                </a:lnTo>
                <a:lnTo>
                  <a:pt x="11334" y="7667"/>
                </a:lnTo>
                <a:lnTo>
                  <a:pt x="20542" y="7667"/>
                </a:lnTo>
                <a:lnTo>
                  <a:pt x="21099" y="8224"/>
                </a:lnTo>
                <a:lnTo>
                  <a:pt x="21099" y="8772"/>
                </a:lnTo>
                <a:lnTo>
                  <a:pt x="22945" y="8772"/>
                </a:lnTo>
                <a:lnTo>
                  <a:pt x="23310" y="8224"/>
                </a:lnTo>
                <a:lnTo>
                  <a:pt x="24050" y="8224"/>
                </a:lnTo>
                <a:lnTo>
                  <a:pt x="24050" y="13376"/>
                </a:lnTo>
                <a:lnTo>
                  <a:pt x="23310" y="13376"/>
                </a:lnTo>
                <a:lnTo>
                  <a:pt x="22945" y="12828"/>
                </a:lnTo>
                <a:lnTo>
                  <a:pt x="21099" y="12828"/>
                </a:lnTo>
                <a:lnTo>
                  <a:pt x="21099" y="14107"/>
                </a:lnTo>
                <a:lnTo>
                  <a:pt x="11517" y="14107"/>
                </a:lnTo>
                <a:lnTo>
                  <a:pt x="11517" y="9877"/>
                </a:lnTo>
                <a:lnTo>
                  <a:pt x="11334" y="9877"/>
                </a:lnTo>
                <a:lnTo>
                  <a:pt x="10951" y="10243"/>
                </a:lnTo>
                <a:lnTo>
                  <a:pt x="1003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6C1-957A-4D16-871B-D58524D1A85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ilable in the Lab this afterno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traffic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FBF-A122-4813-84C9-6264FD44CB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wo exa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TCP, 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1A0-0D30-4F6D-84F1-182FED26A8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Visualization Too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m-1 (Network AniMator Version 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cket-level ani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ll supported by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xgrap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version from ns trace to xgraph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76F-5070-4B1D-812D-AB4E006F1B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imat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ous rep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/SRM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tor: generate ns simulation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">
            <a:hlinkClick r:id="rId5"/>
          </p:cNvPr>
          <p:cNvSpPr/>
          <p:nvPr/>
        </p:nvSpPr>
        <p:spPr>
          <a:xfrm>
            <a:off x="7942320" y="5676840"/>
            <a:ext cx="765000" cy="451080"/>
          </a:xfrm>
          <a:custGeom>
            <a:avLst/>
            <a:gdLst>
              <a:gd name="textAreaLeft" fmla="*/ 29160 w 765000"/>
              <a:gd name="textAreaRight" fmla="*/ 735840 w 765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6620" h="21600">
                <a:moveTo>
                  <a:pt x="0" y="0"/>
                </a:moveTo>
                <a:lnTo>
                  <a:pt x="36620" y="0"/>
                </a:lnTo>
                <a:lnTo>
                  <a:pt x="36620" y="21600"/>
                </a:lnTo>
                <a:lnTo>
                  <a:pt x="0" y="21600"/>
                </a:lnTo>
                <a:close/>
              </a:path>
              <a:path fill="lightenLess" w="36620" h="21600">
                <a:moveTo>
                  <a:pt x="0" y="0"/>
                </a:moveTo>
                <a:lnTo>
                  <a:pt x="36620" y="0"/>
                </a:lnTo>
                <a:lnTo>
                  <a:pt x="35220" y="1400"/>
                </a:lnTo>
                <a:lnTo>
                  <a:pt x="1400" y="1400"/>
                </a:lnTo>
                <a:close/>
              </a:path>
              <a:path fill="darken" w="36620" h="21600">
                <a:moveTo>
                  <a:pt x="36620" y="0"/>
                </a:moveTo>
                <a:lnTo>
                  <a:pt x="36620" y="21600"/>
                </a:lnTo>
                <a:lnTo>
                  <a:pt x="35220" y="20200"/>
                </a:lnTo>
                <a:lnTo>
                  <a:pt x="35220" y="1400"/>
                </a:lnTo>
                <a:close/>
              </a:path>
              <a:path fill="darkenLess" w="36620" h="21600">
                <a:moveTo>
                  <a:pt x="3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0" y="20200"/>
                </a:lnTo>
                <a:close/>
              </a:path>
              <a:path fill="lighten" w="3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20" h="21600">
                <a:moveTo>
                  <a:pt x="11304" y="7301"/>
                </a:moveTo>
                <a:lnTo>
                  <a:pt x="12217" y="7301"/>
                </a:lnTo>
                <a:lnTo>
                  <a:pt x="12600" y="7667"/>
                </a:lnTo>
                <a:lnTo>
                  <a:pt x="21809" y="7667"/>
                </a:lnTo>
                <a:lnTo>
                  <a:pt x="22366" y="8224"/>
                </a:lnTo>
                <a:lnTo>
                  <a:pt x="22366" y="8772"/>
                </a:lnTo>
                <a:lnTo>
                  <a:pt x="24211" y="8772"/>
                </a:lnTo>
                <a:lnTo>
                  <a:pt x="24577" y="8224"/>
                </a:lnTo>
                <a:lnTo>
                  <a:pt x="25317" y="8224"/>
                </a:lnTo>
                <a:lnTo>
                  <a:pt x="25317" y="13376"/>
                </a:lnTo>
                <a:lnTo>
                  <a:pt x="24577" y="13376"/>
                </a:lnTo>
                <a:lnTo>
                  <a:pt x="24211" y="12828"/>
                </a:lnTo>
                <a:lnTo>
                  <a:pt x="22366" y="12828"/>
                </a:lnTo>
                <a:lnTo>
                  <a:pt x="22366" y="14107"/>
                </a:lnTo>
                <a:lnTo>
                  <a:pt x="12783" y="14107"/>
                </a:lnTo>
                <a:lnTo>
                  <a:pt x="12783" y="9877"/>
                </a:lnTo>
                <a:lnTo>
                  <a:pt x="12600" y="9877"/>
                </a:lnTo>
                <a:lnTo>
                  <a:pt x="12217" y="10243"/>
                </a:lnTo>
                <a:lnTo>
                  <a:pt x="11304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A8E-C30D-43F9-BA7C-B077786082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</a:t>
            </a:r>
            <a:r>
              <a:rPr b="0" lang="en-US" sz="44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st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D09-CA3B-4517-AA6D-E99422D78C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m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low id assoc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E23-B4A7-435A-B39C-717B25CDE5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color 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pe (can’t be changed after sim st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shape box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;# circle, box, hexag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ks (concentric “shapes”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“$n0 add-mark m0 blue box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2.0 “$n0 delete-mark m0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el (single str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“$n0 label \”web cache 0\”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F0E-7D3F-4C12-BE70-D3B101EEC9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s: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s (automatically handle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mmetric links not allow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35C-7109-4A64-B265-59A4B99C7B9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-Orien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(speed and memo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ful planning of modu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BEB-7E3E-4D92-8C0A-B691B062CE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Topo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nual” layout: specify everything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1) $n(2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2) $n(3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f anything missing </a:t>
            </a:r>
            <a:r>
              <a:rPr b="0" lang="en-US" sz="3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automatic layou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CAB-45B3-4359-B795-0317CA2EE8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Protocol St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values of agent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FB2-91D7-41B4-9F94-A8B21E68879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Mis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textual explaination to your 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t animation r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4D9-3B7D-4159-802A-7C76BAC130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ulticast Example: nam-Enhanc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2F3-D6D0-426D-99B4-7C154E1EC1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0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am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olors for packets from two mcast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0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1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Prune packets 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predefine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0 pur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Graf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1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8DA-2FD9-47FF-B629-DEC207DBFCF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yout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Manual layout: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order of the link is significan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2 orient right-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3 orient right-d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how queue on simplex link n0-&gt;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queuePos 0.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676-436C-42F8-98CC-55D39DFAF3E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.1, 5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lo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0 set fid_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color bl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label “Source for group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1 set fid_ 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color 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label “Source for group 1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22A-E3D0-451A-BF01-32AD375D56A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label “Receive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 "$n2 join-group $rcvr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0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5 "$n2 leave-group $rcvr 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delete-mark m0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 "$n2 join-group $rcvr \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1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5 "$n2 join-group $rcvr $group1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2 blu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0E4-EC7A-4BFB-ADC7-CF0D0999735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final twe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Animation was too fast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set-animation-rate 0.8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">
            <a:hlinkClick r:id="rId2"/>
          </p:cNvPr>
          <p:cNvSpPr/>
          <p:nvPr/>
        </p:nvSpPr>
        <p:spPr>
          <a:xfrm>
            <a:off x="8078760" y="5800680"/>
            <a:ext cx="831960" cy="519120"/>
          </a:xfrm>
          <a:custGeom>
            <a:avLst/>
            <a:gdLst>
              <a:gd name="textAreaLeft" fmla="*/ 33480 w 831960"/>
              <a:gd name="textAreaRight" fmla="*/ 798480 w 83196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34608" h="21600">
                <a:moveTo>
                  <a:pt x="0" y="0"/>
                </a:moveTo>
                <a:lnTo>
                  <a:pt x="34608" y="0"/>
                </a:lnTo>
                <a:lnTo>
                  <a:pt x="34608" y="21600"/>
                </a:lnTo>
                <a:lnTo>
                  <a:pt x="0" y="21600"/>
                </a:lnTo>
                <a:close/>
              </a:path>
              <a:path fill="lightenLess" w="34608" h="21600">
                <a:moveTo>
                  <a:pt x="0" y="0"/>
                </a:moveTo>
                <a:lnTo>
                  <a:pt x="34608" y="0"/>
                </a:lnTo>
                <a:lnTo>
                  <a:pt x="33208" y="1400"/>
                </a:lnTo>
                <a:lnTo>
                  <a:pt x="1400" y="1400"/>
                </a:lnTo>
                <a:close/>
              </a:path>
              <a:path fill="darken" w="34608" h="21600">
                <a:moveTo>
                  <a:pt x="34608" y="0"/>
                </a:moveTo>
                <a:lnTo>
                  <a:pt x="34608" y="21600"/>
                </a:lnTo>
                <a:lnTo>
                  <a:pt x="33208" y="20200"/>
                </a:lnTo>
                <a:lnTo>
                  <a:pt x="33208" y="1400"/>
                </a:lnTo>
                <a:close/>
              </a:path>
              <a:path fill="darkenLess" w="34608" h="21600">
                <a:moveTo>
                  <a:pt x="3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8" y="20200"/>
                </a:lnTo>
                <a:close/>
              </a:path>
              <a:path fill="lighten" w="3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8" h="21600">
                <a:moveTo>
                  <a:pt x="10297" y="7301"/>
                </a:moveTo>
                <a:lnTo>
                  <a:pt x="11211" y="7301"/>
                </a:lnTo>
                <a:lnTo>
                  <a:pt x="11594" y="7667"/>
                </a:lnTo>
                <a:lnTo>
                  <a:pt x="20803" y="7667"/>
                </a:lnTo>
                <a:lnTo>
                  <a:pt x="21360" y="8224"/>
                </a:lnTo>
                <a:lnTo>
                  <a:pt x="21360" y="8772"/>
                </a:lnTo>
                <a:lnTo>
                  <a:pt x="23205" y="8772"/>
                </a:lnTo>
                <a:lnTo>
                  <a:pt x="23571" y="8224"/>
                </a:lnTo>
                <a:lnTo>
                  <a:pt x="24310" y="8224"/>
                </a:lnTo>
                <a:lnTo>
                  <a:pt x="24310" y="13376"/>
                </a:lnTo>
                <a:lnTo>
                  <a:pt x="23571" y="13376"/>
                </a:lnTo>
                <a:lnTo>
                  <a:pt x="23205" y="12828"/>
                </a:lnTo>
                <a:lnTo>
                  <a:pt x="21360" y="12828"/>
                </a:lnTo>
                <a:lnTo>
                  <a:pt x="21360" y="14107"/>
                </a:lnTo>
                <a:lnTo>
                  <a:pt x="11777" y="14107"/>
                </a:lnTo>
                <a:lnTo>
                  <a:pt x="11777" y="9877"/>
                </a:lnTo>
                <a:lnTo>
                  <a:pt x="11594" y="9877"/>
                </a:lnTo>
                <a:lnTo>
                  <a:pt x="11211" y="10243"/>
                </a:lnTo>
                <a:lnTo>
                  <a:pt x="1029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4B4-607E-4585-A8A0-952ECCDC0F5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 and OTcl Sepa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for “data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packet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cl for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iodic or triggered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romise between composibility and spe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ing and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4AE-2A92-48A2-87D9-09C15C2D9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A1B-CA4E-4615-809F-3EC3176E4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Tcl Interpre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15760"/>
            <a:ext cx="4289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: object-oriented 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CL: C++ and 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etwork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4441680"/>
            <a:ext cx="10666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59520" y="3908520"/>
            <a:ext cx="1523880" cy="1218960"/>
            <a:chOff x="5159520" y="3908520"/>
            <a:chExt cx="1523880" cy="1218960"/>
          </a:xfrm>
        </p:grpSpPr>
        <p:sp>
          <p:nvSpPr>
            <p:cNvPr id="279" name=""/>
            <p:cNvSpPr/>
            <p:nvPr/>
          </p:nvSpPr>
          <p:spPr>
            <a:xfrm>
              <a:off x="5159520" y="3908520"/>
              <a:ext cx="1523880" cy="12189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7120" y="39765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57720" y="3375000"/>
            <a:ext cx="2447640" cy="1752480"/>
            <a:chOff x="5157720" y="3375000"/>
            <a:chExt cx="2447640" cy="1752480"/>
          </a:xfrm>
        </p:grpSpPr>
        <p:sp>
          <p:nvSpPr>
            <p:cNvPr id="282" name=""/>
            <p:cNvSpPr/>
            <p:nvPr/>
          </p:nvSpPr>
          <p:spPr>
            <a:xfrm>
              <a:off x="5157720" y="3375000"/>
              <a:ext cx="2447640" cy="1752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360" y="34434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119920" y="575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59520" y="2460600"/>
            <a:ext cx="3568680" cy="2666880"/>
            <a:chOff x="5159520" y="2460600"/>
            <a:chExt cx="3568680" cy="2666880"/>
          </a:xfrm>
        </p:grpSpPr>
        <p:sp>
          <p:nvSpPr>
            <p:cNvPr id="286" name=""/>
            <p:cNvSpPr/>
            <p:nvPr/>
          </p:nvSpPr>
          <p:spPr>
            <a:xfrm rot="5400000">
              <a:off x="7292520" y="3791880"/>
              <a:ext cx="16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vent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chedul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9520" y="2460600"/>
              <a:ext cx="3568680" cy="2666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2520" y="25034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ponen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159520" y="5130720"/>
            <a:ext cx="3568680" cy="555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3560" y="5176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/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B50-39C6-4AA2-8B8E-8AA6AC1D9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Interactive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323-2482-4F0E-A36A-114CB7970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8T23:36:37Z</dcterms:modified>
  <cp:revision>698</cp:revision>
  <dc:subject/>
  <dc:title>ns-2 tutorial for IEC'00 workshop</dc:title>
</cp:coreProperties>
</file>