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CF155D-BEC2-443C-84B7-063784AD10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ed: LL (1 packet only, drop due to arp), I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: colli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: Carier Sense threshold, Receive Threshold. Packets above CSThresh are able to cause a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Q: can be any queue, droptail or priorit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ay it’s GT-ITM transit-stub networ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ore abs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link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225-DA55-4113-9636-E7461733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3CD-A035-4068-B73B-525CDB89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0A0-3FF5-4475-B73F-8F6AD8AB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2C0-5632-4EFA-8596-2E561F64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D1ED-E3FA-4E94-B518-0F1B25C7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27D2-67B2-417C-B4A2-18AE1CED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EA76-65A3-4D79-B8CA-3A9316D8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FF2D-F0A8-4FE3-B719-ACCBFD7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E933-5C7C-4F89-89F9-8122BAF6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6710-32BA-4C31-9C3B-6881B5A1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A59F-9D75-494E-8355-F36CEEB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9A6-88CE-4081-91ED-206A348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2849-B293-463A-A219-479F9BF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3EE8-70FB-4A4A-8662-88CD5869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579-F3E1-4F25-831C-31ADEF32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4092-A340-4D02-977C-6C00C339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D78E-C942-4A28-A598-8D760258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B3A-E4D9-4113-A8DF-F5479AA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959-19BC-4AC8-830D-CAB12D2B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DB3-1AC2-4E23-BDEB-E8FA7153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7FB-FD48-480D-A8AD-6D65E42D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66A-2E07-4086-9602-DA124E0F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218-7C4F-4B1E-AFB3-668A97B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7F1-955D-4053-9296-23C44727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BB9B-902C-4E8E-BC80-03F75A8FA49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E82-3823-4B1C-B114-B37F7B2534FE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353E-43A2-4BB5-AC3B-831C3A608EF3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B008-F61E-4757-A38C-0CD91A454B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: 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BC12-2BDF-4366-B427-764ED97EAB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 OTcl methods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 point: OTcl method cmd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 all arguments after cmd{} call to TclObject::comma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473-B74F-44C2-9DC4-6D0022F70F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6176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TcpAgent::command(int argc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onst char*const* argv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argc == 3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strcmp(argv[1], 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) == 0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newseq = atoi(argv[2]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(TCL_O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 (Agent::command(argc,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565-D7B3-4D74-BD78-5FC60021F4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2400" y="1936800"/>
            <a:ext cx="10749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73400" y="1963800"/>
            <a:ext cx="24591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Object::unknown{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963800"/>
            <a:ext cx="17067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cmd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3"/>
            <a:endCxn id="313" idx="1"/>
          </p:cNvCxnSpPr>
          <p:nvPr/>
        </p:nvCxnSpPr>
        <p:spPr>
          <a:xfrm>
            <a:off x="1827000" y="2185920"/>
            <a:ext cx="134640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1734480" y="182736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su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d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3"/>
            <a:endCxn id="314" idx="1"/>
          </p:cNvCxnSpPr>
          <p:nvPr/>
        </p:nvCxnSpPr>
        <p:spPr>
          <a:xfrm>
            <a:off x="5632560" y="2193480"/>
            <a:ext cx="67680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201840" y="3240000"/>
            <a:ext cx="24447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2"/>
            <a:endCxn id="318" idx="0"/>
          </p:cNvCxnSpPr>
          <p:nvPr/>
        </p:nvCxnSpPr>
        <p:spPr>
          <a:xfrm rot="5400000">
            <a:off x="5384160" y="1461600"/>
            <a:ext cx="818280" cy="2739240"/>
          </a:xfrm>
          <a:prstGeom prst="bentConnector3">
            <a:avLst>
              <a:gd name="adj1" fmla="val 498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562200" y="4102200"/>
            <a:ext cx="1721160" cy="83340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tch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”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  <a:endCxn id="320" idx="0"/>
          </p:cNvCxnSpPr>
          <p:nvPr/>
        </p:nvCxnSpPr>
        <p:spPr>
          <a:xfrm flipH="1">
            <a:off x="4421880" y="3738600"/>
            <a:ext cx="2520" cy="364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5315040" y="5388120"/>
            <a:ext cx="2820960" cy="67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 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4240" y="5415120"/>
            <a:ext cx="2109600" cy="49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and retur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1"/>
            <a:endCxn id="323" idx="0"/>
          </p:cNvCxnSpPr>
          <p:nvPr/>
        </p:nvCxnSpPr>
        <p:spPr>
          <a:xfrm flipV="1" rot="10800000">
            <a:off x="2309040" y="4519080"/>
            <a:ext cx="1253160" cy="896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3"/>
            <a:endCxn id="322" idx="0"/>
          </p:cNvCxnSpPr>
          <p:nvPr/>
        </p:nvCxnSpPr>
        <p:spPr>
          <a:xfrm>
            <a:off x="5283360" y="4519080"/>
            <a:ext cx="1443600" cy="869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0884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76440" y="4186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8800" y="1654200"/>
            <a:ext cx="8082000" cy="981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2640" y="15955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946240"/>
            <a:ext cx="8080560" cy="338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12040" y="2981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096-8735-450D-ADE1-FB14A1D59C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 procedures: new{}, delete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ete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18E-BC88-460C-9E19-5CF9C5DE63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159040" y="399888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00000" y="34448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3939840"/>
            <a:ext cx="8082000" cy="1260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968400" y="2406600"/>
            <a:ext cx="1519200" cy="604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46000" y="1716120"/>
            <a:ext cx="1774800" cy="2020680"/>
            <a:chOff x="846000" y="1716120"/>
            <a:chExt cx="1774800" cy="2020680"/>
          </a:xfrm>
        </p:grpSpPr>
        <p:sp>
          <p:nvSpPr>
            <p:cNvPr id="340" name=""/>
            <p:cNvSpPr/>
            <p:nvPr/>
          </p:nvSpPr>
          <p:spPr>
            <a:xfrm>
              <a:off x="846000" y="1720800"/>
              <a:ext cx="1774800" cy="2016000"/>
            </a:xfrm>
            <a:custGeom>
              <a:avLst/>
              <a:gdLst>
                <a:gd name="textAreaLeft" fmla="*/ 86400 w 1774800"/>
                <a:gd name="textAreaRight" fmla="*/ 1688400 w 1774800"/>
                <a:gd name="textAreaTop" fmla="*/ 86400 h 2016000"/>
                <a:gd name="textAreaBottom" fmla="*/ 1929600 h 2016000"/>
              </a:gdLst>
              <a:ahLst/>
              <a:rect l="textAreaLeft" t="textAreaTop" r="textAreaRight" b="textAreaBottom"/>
              <a:pathLst>
                <a:path w="21600" h="24535">
                  <a:moveTo>
                    <a:pt x="3600" y="0"/>
                  </a:moveTo>
                  <a:arcTo wR="3600" hR="3600" stAng="16200000" swAng="-5400000"/>
                  <a:lnTo>
                    <a:pt x="0" y="20935"/>
                  </a:lnTo>
                  <a:arcTo wR="3600" hR="3600" stAng="10800000" swAng="-5400000"/>
                  <a:lnTo>
                    <a:pt x="18000" y="245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8720" y="171612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gent/TC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87240" y="1706400"/>
            <a:ext cx="2777040" cy="2021040"/>
            <a:chOff x="2487240" y="1706400"/>
            <a:chExt cx="2777040" cy="2021040"/>
          </a:xfrm>
        </p:grpSpPr>
        <p:grpSp>
          <p:nvGrpSpPr>
            <p:cNvPr id="343" name=""/>
            <p:cNvGrpSpPr/>
            <p:nvPr/>
          </p:nvGrpSpPr>
          <p:grpSpPr>
            <a:xfrm>
              <a:off x="3489480" y="1706400"/>
              <a:ext cx="1774800" cy="2021040"/>
              <a:chOff x="3489480" y="1706400"/>
              <a:chExt cx="1774800" cy="202104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948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220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87240" y="2409840"/>
              <a:ext cx="2653200" cy="604800"/>
              <a:chOff x="2487240" y="2409840"/>
              <a:chExt cx="2653200" cy="60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3621240" y="240984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8" name=""/>
              <p:cNvCxnSpPr>
                <a:stCxn id="338" idx="3"/>
                <a:endCxn id="347" idx="1"/>
              </p:cNvCxnSpPr>
              <p:nvPr/>
            </p:nvCxnSpPr>
            <p:spPr>
              <a:xfrm>
                <a:off x="2487240" y="2709360"/>
                <a:ext cx="113436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5140440" y="1706400"/>
            <a:ext cx="3046320" cy="2021040"/>
            <a:chOff x="5140440" y="1706400"/>
            <a:chExt cx="3046320" cy="2021040"/>
          </a:xfrm>
        </p:grpSpPr>
        <p:grpSp>
          <p:nvGrpSpPr>
            <p:cNvPr id="350" name=""/>
            <p:cNvGrpSpPr/>
            <p:nvPr/>
          </p:nvGrpSpPr>
          <p:grpSpPr>
            <a:xfrm>
              <a:off x="6411960" y="1706400"/>
              <a:ext cx="1774800" cy="2021040"/>
              <a:chOff x="6411960" y="1706400"/>
              <a:chExt cx="1774800" cy="2021040"/>
            </a:xfrm>
          </p:grpSpPr>
          <p:sp>
            <p:nvSpPr>
              <p:cNvPr id="351" name=""/>
              <p:cNvSpPr/>
              <p:nvPr/>
            </p:nvSpPr>
            <p:spPr>
              <a:xfrm>
                <a:off x="641196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32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140440" y="2413080"/>
              <a:ext cx="2923920" cy="604800"/>
              <a:chOff x="5140440" y="2413080"/>
              <a:chExt cx="2923920" cy="604800"/>
            </a:xfrm>
          </p:grpSpPr>
          <p:sp>
            <p:nvSpPr>
              <p:cNvPr id="354" name=""/>
              <p:cNvSpPr/>
              <p:nvPr/>
            </p:nvSpPr>
            <p:spPr>
              <a:xfrm>
                <a:off x="6545160" y="241308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reate C++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7" idx="3"/>
                <a:endCxn id="354" idx="1"/>
              </p:cNvCxnSpPr>
              <p:nvPr/>
            </p:nvCxnSpPr>
            <p:spPr>
              <a:xfrm>
                <a:off x="5140440" y="2712600"/>
                <a:ext cx="140544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6480000" y="2715840"/>
            <a:ext cx="1872000" cy="3548160"/>
            <a:chOff x="6480000" y="2715840"/>
            <a:chExt cx="1872000" cy="3548160"/>
          </a:xfrm>
        </p:grpSpPr>
        <p:grpSp>
          <p:nvGrpSpPr>
            <p:cNvPr id="357" name=""/>
            <p:cNvGrpSpPr/>
            <p:nvPr/>
          </p:nvGrpSpPr>
          <p:grpSpPr>
            <a:xfrm>
              <a:off x="6480000" y="4243320"/>
              <a:ext cx="1774800" cy="2020680"/>
              <a:chOff x="6480000" y="4243320"/>
              <a:chExt cx="1774800" cy="2020680"/>
            </a:xfrm>
          </p:grpSpPr>
          <p:sp>
            <p:nvSpPr>
              <p:cNvPr id="358" name=""/>
              <p:cNvSpPr/>
              <p:nvPr/>
            </p:nvSpPr>
            <p:spPr>
              <a:xfrm>
                <a:off x="6480000" y="424800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2720" y="424332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gentTCP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602400" y="2715840"/>
              <a:ext cx="1749600" cy="2848320"/>
              <a:chOff x="6602400" y="2715840"/>
              <a:chExt cx="1749600" cy="2848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602400" y="4940280"/>
                <a:ext cx="1519200" cy="62388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62" name=""/>
              <p:cNvCxnSpPr>
                <a:stCxn id="354" idx="3"/>
                <a:endCxn id="361" idx="3"/>
              </p:cNvCxnSpPr>
              <p:nvPr/>
            </p:nvCxnSpPr>
            <p:spPr>
              <a:xfrm>
                <a:off x="8064000" y="2715840"/>
                <a:ext cx="57960" cy="2537640"/>
              </a:xfrm>
              <a:prstGeom prst="bentConnector3">
                <a:avLst>
                  <a:gd name="adj1" fmla="val 50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3514680" y="4259160"/>
            <a:ext cx="3087720" cy="2020680"/>
            <a:chOff x="3514680" y="4259160"/>
            <a:chExt cx="3087720" cy="2020680"/>
          </a:xfrm>
        </p:grpSpPr>
        <p:sp>
          <p:nvSpPr>
            <p:cNvPr id="364" name=""/>
            <p:cNvSpPr/>
            <p:nvPr/>
          </p:nvSpPr>
          <p:spPr>
            <a:xfrm>
              <a:off x="3648240" y="4944960"/>
              <a:ext cx="1519200" cy="611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voke par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514680" y="4259160"/>
              <a:ext cx="1774800" cy="2020680"/>
              <a:chOff x="3514680" y="4259160"/>
              <a:chExt cx="1774800" cy="20206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4680" y="42638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3320" y="425916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 (Agent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"/>
            <p:cNvCxnSpPr>
              <a:stCxn id="361" idx="1"/>
              <a:endCxn id="364" idx="3"/>
            </p:cNvCxnSpPr>
            <p:nvPr/>
          </p:nvCxnSpPr>
          <p:spPr>
            <a:xfrm flipH="1" flipV="1">
              <a:off x="5167440" y="5250600"/>
              <a:ext cx="1435320" cy="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855360" y="4255920"/>
            <a:ext cx="2792880" cy="2016360"/>
            <a:chOff x="855360" y="4255920"/>
            <a:chExt cx="2792880" cy="2016360"/>
          </a:xfrm>
        </p:grpSpPr>
        <p:sp>
          <p:nvSpPr>
            <p:cNvPr id="370" name=""/>
            <p:cNvSpPr/>
            <p:nvPr/>
          </p:nvSpPr>
          <p:spPr>
            <a:xfrm>
              <a:off x="976320" y="5102280"/>
              <a:ext cx="1519200" cy="9144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o nothing,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855360" y="4255920"/>
              <a:ext cx="1793880" cy="2016360"/>
              <a:chOff x="855360" y="4255920"/>
              <a:chExt cx="1793880" cy="201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55360" y="4255920"/>
                <a:ext cx="1774440" cy="2016360"/>
              </a:xfrm>
              <a:custGeom>
                <a:avLst/>
                <a:gdLst>
                  <a:gd name="textAreaLeft" fmla="*/ 86400 w 1774440"/>
                  <a:gd name="textAreaRight" fmla="*/ 1688040 w 1774440"/>
                  <a:gd name="textAreaTop" fmla="*/ 86400 h 2016360"/>
                  <a:gd name="textAreaBottom" fmla="*/ 1929960 h 20163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3600" y="0"/>
                    </a:moveTo>
                    <a:arcTo wR="3600" hR="3600" stAng="16200000" swAng="-5400000"/>
                    <a:lnTo>
                      <a:pt x="0" y="20944"/>
                    </a:lnTo>
                    <a:arcTo wR="3600" hR="3600" stAng="10800000" swAng="-5400000"/>
                    <a:lnTo>
                      <a:pt x="18000" y="2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69760" y="4317840"/>
                <a:ext cx="177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 (C++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>
              <a:stCxn id="364" idx="1"/>
              <a:endCxn id="370" idx="3"/>
            </p:cNvCxnSpPr>
            <p:nvPr/>
          </p:nvCxnSpPr>
          <p:spPr>
            <a:xfrm flipV="1" rot="10800000">
              <a:off x="2494800" y="5250960"/>
              <a:ext cx="1153440" cy="30888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495520" y="5556240"/>
            <a:ext cx="2671920" cy="604800"/>
            <a:chOff x="2495520" y="5556240"/>
            <a:chExt cx="2671920" cy="604800"/>
          </a:xfrm>
        </p:grpSpPr>
        <p:sp>
          <p:nvSpPr>
            <p:cNvPr id="376" name=""/>
            <p:cNvSpPr/>
            <p:nvPr/>
          </p:nvSpPr>
          <p:spPr>
            <a:xfrm>
              <a:off x="3648240" y="55562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0" idx="3"/>
              <a:endCxn id="376" idx="1"/>
            </p:cNvCxnSpPr>
            <p:nvPr/>
          </p:nvCxnSpPr>
          <p:spPr>
            <a:xfrm>
              <a:off x="2495520" y="5559120"/>
              <a:ext cx="1153440" cy="3006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5167440" y="5564160"/>
            <a:ext cx="2954160" cy="592200"/>
            <a:chOff x="5167440" y="5564160"/>
            <a:chExt cx="2954160" cy="592200"/>
          </a:xfrm>
        </p:grpSpPr>
        <p:sp>
          <p:nvSpPr>
            <p:cNvPr id="379" name=""/>
            <p:cNvSpPr/>
            <p:nvPr/>
          </p:nvSpPr>
          <p:spPr>
            <a:xfrm>
              <a:off x="6602400" y="5564160"/>
              <a:ext cx="1519200" cy="59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6" idx="3"/>
              <a:endCxn id="379" idx="1"/>
            </p:cNvCxnSpPr>
            <p:nvPr/>
          </p:nvCxnSpPr>
          <p:spPr>
            <a:xfrm>
              <a:off x="5167440" y="5859000"/>
              <a:ext cx="1435320" cy="252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6545160" y="3017880"/>
            <a:ext cx="1995120" cy="2843280"/>
            <a:chOff x="6545160" y="3017880"/>
            <a:chExt cx="1995120" cy="2843280"/>
          </a:xfrm>
        </p:grpSpPr>
        <p:sp>
          <p:nvSpPr>
            <p:cNvPr id="382" name=""/>
            <p:cNvSpPr/>
            <p:nvPr/>
          </p:nvSpPr>
          <p:spPr>
            <a:xfrm>
              <a:off x="6545160" y="301788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eate OTc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hadow obje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9" idx="3"/>
              <a:endCxn id="382" idx="3"/>
            </p:cNvCxnSpPr>
            <p:nvPr/>
          </p:nvCxnSpPr>
          <p:spPr>
            <a:xfrm flipH="1" flipV="1">
              <a:off x="8063640" y="3320640"/>
              <a:ext cx="57960" cy="2540880"/>
            </a:xfrm>
            <a:prstGeom prst="bentConnector3">
              <a:avLst>
                <a:gd name="adj1" fmla="val -727500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621240" y="3014640"/>
            <a:ext cx="2923920" cy="604800"/>
            <a:chOff x="3621240" y="3014640"/>
            <a:chExt cx="2923920" cy="604800"/>
          </a:xfrm>
        </p:grpSpPr>
        <p:sp>
          <p:nvSpPr>
            <p:cNvPr id="385" name=""/>
            <p:cNvSpPr/>
            <p:nvPr/>
          </p:nvSpPr>
          <p:spPr>
            <a:xfrm>
              <a:off x="3621240" y="30146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2" idx="1"/>
              <a:endCxn id="385" idx="3"/>
            </p:cNvCxnSpPr>
            <p:nvPr/>
          </p:nvCxnSpPr>
          <p:spPr>
            <a:xfrm flipH="1" flipV="1">
              <a:off x="5140080" y="3317040"/>
              <a:ext cx="140544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968400" y="3011400"/>
            <a:ext cx="2652480" cy="617760"/>
            <a:chOff x="968400" y="3011400"/>
            <a:chExt cx="2652480" cy="617760"/>
          </a:xfrm>
        </p:grpSpPr>
        <p:sp>
          <p:nvSpPr>
            <p:cNvPr id="388" name=""/>
            <p:cNvSpPr/>
            <p:nvPr/>
          </p:nvSpPr>
          <p:spPr>
            <a:xfrm>
              <a:off x="968400" y="3011400"/>
              <a:ext cx="1519200" cy="617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5" idx="1"/>
              <a:endCxn id="388" idx="3"/>
            </p:cNvCxnSpPr>
            <p:nvPr/>
          </p:nvCxnSpPr>
          <p:spPr>
            <a:xfrm flipH="1">
              <a:off x="2486880" y="3317400"/>
              <a:ext cx="113436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3294000" y="2568600"/>
            <a:ext cx="2903400" cy="1976400"/>
            <a:chOff x="3294000" y="2568600"/>
            <a:chExt cx="2903400" cy="1976400"/>
          </a:xfrm>
        </p:grpSpPr>
        <p:sp>
          <p:nvSpPr>
            <p:cNvPr id="391" name=""/>
            <p:cNvSpPr/>
            <p:nvPr/>
          </p:nvSpPr>
          <p:spPr>
            <a:xfrm>
              <a:off x="3294000" y="2568600"/>
              <a:ext cx="2849400" cy="1976400"/>
            </a:xfrm>
            <a:prstGeom prst="cloudCallout">
              <a:avLst>
                <a:gd name="adj1" fmla="val 58800"/>
                <a:gd name="adj2" fmla="val -34416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5160" y="2936880"/>
              <a:ext cx="26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hich C++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 to create?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– </a:t>
              </a:r>
              <a:r>
                <a:rPr b="0" lang="en-US" sz="2400" spc="-1" strike="noStrike">
                  <a:solidFill>
                    <a:srgbClr val="ff5050"/>
                  </a:solidFill>
                  <a:latin typeface="Tahoma"/>
                </a:rPr>
                <a:t>TclCla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E96-6604-4BE0-B72C-A1CA5A052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744560"/>
            <a:ext cx="4648320" cy="4046760"/>
            <a:chOff x="685800" y="1744560"/>
            <a:chExt cx="4648320" cy="4046760"/>
          </a:xfrm>
        </p:grpSpPr>
        <p:grpSp>
          <p:nvGrpSpPr>
            <p:cNvPr id="395" name=""/>
            <p:cNvGrpSpPr/>
            <p:nvPr/>
          </p:nvGrpSpPr>
          <p:grpSpPr>
            <a:xfrm>
              <a:off x="3810240" y="2438280"/>
              <a:ext cx="1523880" cy="3353040"/>
              <a:chOff x="3810240" y="2438280"/>
              <a:chExt cx="1523880" cy="3353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024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1024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10240" y="52578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800" y="2438280"/>
              <a:ext cx="1371600" cy="3353040"/>
              <a:chOff x="685800" y="2438280"/>
              <a:chExt cx="1371600" cy="335304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80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5257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p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800" y="33526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Ns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286000" y="27432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0" y="3657600"/>
              <a:ext cx="76212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0" y="449568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0040" y="54864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21920" y="33861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?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29718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38862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040" y="2971800"/>
              <a:ext cx="0" cy="1295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604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051200" y="1744560"/>
              <a:ext cx="4282920" cy="509040"/>
              <a:chOff x="1051200" y="1744560"/>
              <a:chExt cx="4282920" cy="509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63400" y="178596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Tc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51200" y="1793880"/>
                <a:ext cx="42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++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74456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irroring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271600" y="1805040"/>
            <a:ext cx="64929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tatic class TcpClass : public TclClass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pClass() : TclClass(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gent/TC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cpAgen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 class_tc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929-43B3-4594-9315-612C4C7629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: Mechan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at runtime star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5479920" y="3800520"/>
            <a:ext cx="2797200" cy="890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litObject::register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 and regis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lass Agent/TC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97000" y="3470400"/>
            <a:ext cx="2016000" cy="13208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init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ach static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ed TclCla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0" y="2716200"/>
            <a:ext cx="1789200" cy="446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Class::bi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2" idx="3"/>
            <a:endCxn id="423" idx="1"/>
          </p:cNvCxnSpPr>
          <p:nvPr/>
        </p:nvCxnSpPr>
        <p:spPr>
          <a:xfrm flipV="1">
            <a:off x="3212640" y="2939400"/>
            <a:ext cx="2770920" cy="1191240"/>
          </a:xfrm>
          <a:prstGeom prst="bentConnector3">
            <a:avLst>
              <a:gd name="adj1" fmla="val 4996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469320" y="36417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2200" y="5214960"/>
            <a:ext cx="3213000" cy="72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ent/TCP::create-shadow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create_shadow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21" idx="0"/>
          </p:cNvCxnSpPr>
          <p:nvPr/>
        </p:nvCxnSpPr>
        <p:spPr>
          <a:xfrm>
            <a:off x="6878160" y="3161880"/>
            <a:ext cx="1080" cy="639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2"/>
            <a:endCxn id="426" idx="0"/>
          </p:cNvCxnSpPr>
          <p:nvPr/>
        </p:nvCxnSpPr>
        <p:spPr>
          <a:xfrm>
            <a:off x="6878160" y="4690800"/>
            <a:ext cx="1080" cy="524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1"/>
            <a:endCxn id="422" idx="3"/>
          </p:cNvCxnSpPr>
          <p:nvPr/>
        </p:nvCxnSpPr>
        <p:spPr>
          <a:xfrm rot="10800000">
            <a:off x="3212280" y="4129920"/>
            <a:ext cx="2059920" cy="1450080"/>
          </a:xfrm>
          <a:prstGeom prst="bentConnector3">
            <a:avLst>
              <a:gd name="adj1" fmla="val 4995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BDA-5A7C-44AF-B025-7DFFB60900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gleton class with a handle to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voke OTcl proced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OTcl evaluation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 result string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success/failure code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019-C01C-4F86-A8B8-D8BE1054BC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&amp; tcl =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::inst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argc == 2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strcmp(argv[1], “now”) == 0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%g”, clock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rr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command not found”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ERRO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else if (argc == 3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va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argv[2]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ck_ = atof(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778-5805-4D4D-AA53-530EE2956B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5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 implementation of global O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RandomCommand : public TclCommand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andomCommand() : TclCommand("ns-random") {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t RandomCommand::command(int argc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argc == 1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printf(tcl.buffer(), "%u", Random::random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.result(tcl.buff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E13-09F5-489B-8EC6-4CBC813571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object: C++/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8AD-232A-495C-AF7F-BE60468816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-load OTcl scripts at ns runtime star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ively load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~ns/tcl/lib/ns-lib.tc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utoconf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ddress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node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everything into a single C++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ecute this string at runtime start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::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tclcl/tcl-objec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_App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AD1-8489-4003-BFDC-3A24EBD1C1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i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2c++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provided by TclCL, converts tcl scripts into a C++ static character arr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.i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sh8.0 bin/tcl-expand.tcl tcl/lib/ns-lib.tcl | tcl2c++ et_ns_lib &gt; gen/ns_tcl.c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9DE-42BC-4D2E-96C1-3C9315E05D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interpreted (OTcl) and compiled (C++) class hierarch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access (procedure call and variable access) between OTcl and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mechanism that makes TclObject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: primitives to access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E13-614A-47CA-A167-982A8E9E9C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E68-0FBD-42AF-BAD8-AC0E1092AB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l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C67-6A0E-43C1-A95A-C5C3C19044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crete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97080" y="2639880"/>
            <a:ext cx="533520" cy="1143000"/>
            <a:chOff x="2197080" y="2639880"/>
            <a:chExt cx="533520" cy="1143000"/>
          </a:xfrm>
        </p:grpSpPr>
        <p:sp>
          <p:nvSpPr>
            <p:cNvPr id="448" name=""/>
            <p:cNvSpPr/>
            <p:nvPr/>
          </p:nvSpPr>
          <p:spPr>
            <a:xfrm>
              <a:off x="2197080" y="26398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97080" y="28684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7080" y="30970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97080" y="33256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7080" y="3554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925800" y="1793880"/>
            <a:ext cx="4056120" cy="459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96480" y="2300400"/>
            <a:ext cx="1734120" cy="398880"/>
            <a:chOff x="996480" y="2300400"/>
            <a:chExt cx="1734120" cy="398880"/>
          </a:xfrm>
        </p:grpSpPr>
        <p:sp>
          <p:nvSpPr>
            <p:cNvPr id="455" name=""/>
            <p:cNvSpPr/>
            <p:nvPr/>
          </p:nvSpPr>
          <p:spPr>
            <a:xfrm>
              <a:off x="2197080" y="2411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6480" y="23004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197080" y="309708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480" y="2529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ad_ -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7080" y="3782880"/>
            <a:ext cx="533520" cy="2286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4541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types of schedul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: simple linked list, order-preserving, O(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p: O(log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endar: hash-based, fastest, O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439520" y="2260440"/>
            <a:ext cx="3030480" cy="893160"/>
            <a:chOff x="4439520" y="2260440"/>
            <a:chExt cx="3030480" cy="893160"/>
          </a:xfrm>
        </p:grpSpPr>
        <p:sp>
          <p:nvSpPr>
            <p:cNvPr id="462" name=""/>
            <p:cNvSpPr/>
            <p:nvPr/>
          </p:nvSpPr>
          <p:spPr>
            <a:xfrm>
              <a:off x="4439520" y="269388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3" idx="2"/>
              <a:endCxn id="462" idx="0"/>
            </p:cNvCxnSpPr>
            <p:nvPr/>
          </p:nvCxnSpPr>
          <p:spPr>
            <a:xfrm>
              <a:off x="5954400" y="2260440"/>
              <a:ext cx="1080" cy="434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925800" y="3151080"/>
            <a:ext cx="4056120" cy="1007640"/>
            <a:chOff x="3925800" y="3151080"/>
            <a:chExt cx="4056120" cy="1007640"/>
          </a:xfrm>
        </p:grpSpPr>
        <p:sp>
          <p:nvSpPr>
            <p:cNvPr id="465" name=""/>
            <p:cNvSpPr/>
            <p:nvPr/>
          </p:nvSpPr>
          <p:spPr>
            <a:xfrm>
              <a:off x="3925800" y="369900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3040" y="32097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schedu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954400" y="3151080"/>
              <a:ext cx="1080" cy="5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5" idx="3"/>
            <a:endCxn id="453" idx="1"/>
          </p:cNvCxnSpPr>
          <p:nvPr/>
        </p:nvCxnSpPr>
        <p:spPr>
          <a:xfrm flipV="1">
            <a:off x="2730600" y="2026440"/>
            <a:ext cx="1219680" cy="49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730240" y="3211200"/>
            <a:ext cx="1219320" cy="859680"/>
            <a:chOff x="2730240" y="3211200"/>
            <a:chExt cx="1219320" cy="859680"/>
          </a:xfrm>
        </p:grpSpPr>
        <p:sp>
          <p:nvSpPr>
            <p:cNvPr id="470" name=""/>
            <p:cNvSpPr/>
            <p:nvPr/>
          </p:nvSpPr>
          <p:spPr>
            <a:xfrm>
              <a:off x="2778120" y="36720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inser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7" idx="3"/>
            </p:cNvCxnSpPr>
            <p:nvPr/>
          </p:nvCxnSpPr>
          <p:spPr>
            <a:xfrm flipH="1" flipV="1">
              <a:off x="2730240" y="3211200"/>
              <a:ext cx="1219680" cy="72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009-AF46-4931-8A93-4EF104E391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59092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2133720"/>
            <a:ext cx="5638320" cy="914400"/>
            <a:chOff x="2133720" y="2133720"/>
            <a:chExt cx="5638320" cy="914400"/>
          </a:xfrm>
        </p:grpSpPr>
        <p:sp>
          <p:nvSpPr>
            <p:cNvPr id="475" name=""/>
            <p:cNvSpPr/>
            <p:nvPr/>
          </p:nvSpPr>
          <p:spPr>
            <a:xfrm>
              <a:off x="213372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460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292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9320" y="2514600"/>
            <a:ext cx="3691800" cy="3352320"/>
            <a:chOff x="499320" y="2514600"/>
            <a:chExt cx="3691800" cy="3352320"/>
          </a:xfrm>
        </p:grpSpPr>
        <p:sp>
          <p:nvSpPr>
            <p:cNvPr id="480" name=""/>
            <p:cNvSpPr/>
            <p:nvPr/>
          </p:nvSpPr>
          <p:spPr>
            <a:xfrm>
              <a:off x="2133720" y="4190760"/>
              <a:ext cx="30492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840" y="3657240"/>
              <a:ext cx="30456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4240" y="3276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1600" y="38098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57400" y="327636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4495680"/>
              <a:ext cx="30492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440" y="464796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46479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438640" y="4114440"/>
              <a:ext cx="4572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3280" y="5024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02000" y="441468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7200" y="4719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320" y="4262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00200" y="2514600"/>
              <a:ext cx="533520" cy="15998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440" y="2514600"/>
              <a:ext cx="838080" cy="129528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09880" y="32767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 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253840" y="2475000"/>
            <a:ext cx="3691800" cy="3441600"/>
            <a:chOff x="5253840" y="2475000"/>
            <a:chExt cx="3691800" cy="3441600"/>
          </a:xfrm>
        </p:grpSpPr>
        <p:sp>
          <p:nvSpPr>
            <p:cNvPr id="497" name=""/>
            <p:cNvSpPr/>
            <p:nvPr/>
          </p:nvSpPr>
          <p:spPr>
            <a:xfrm flipH="1">
              <a:off x="6306840" y="2527200"/>
              <a:ext cx="469800" cy="1828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253840" y="3249720"/>
              <a:ext cx="3691800" cy="2666880"/>
              <a:chOff x="5253840" y="3249720"/>
              <a:chExt cx="3691800" cy="26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69120" y="370692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31240" y="347832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8400" y="3326040"/>
                <a:ext cx="2667240" cy="259056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1400" y="4849920"/>
                <a:ext cx="115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ast Classifie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26120" y="45450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92600" y="4697640"/>
                <a:ext cx="533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574040" y="3858840"/>
                <a:ext cx="45720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37440" y="3854520"/>
                <a:ext cx="98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08800" y="3397320"/>
                <a:ext cx="7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dmux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1720" y="476892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entry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53840" y="431172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Node entr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8040" y="3249720"/>
                <a:ext cx="138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ulticast No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59640" y="424044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69120" y="477360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64200" y="4240080"/>
                <a:ext cx="30492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4200" y="4926240"/>
                <a:ext cx="30492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02360" y="560700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31040" y="4697640"/>
                <a:ext cx="2286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759800" y="2475000"/>
              <a:ext cx="952560" cy="1423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459-1216-4742-87BF-BD587245A1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Lin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787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797120" y="1828800"/>
            <a:ext cx="5638320" cy="914400"/>
            <a:chOff x="1797120" y="1828800"/>
            <a:chExt cx="5638320" cy="914400"/>
          </a:xfrm>
        </p:grpSpPr>
        <p:sp>
          <p:nvSpPr>
            <p:cNvPr id="521" name=""/>
            <p:cNvSpPr/>
            <p:nvPr/>
          </p:nvSpPr>
          <p:spPr>
            <a:xfrm>
              <a:off x="1797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45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98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6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0640" y="3352680"/>
            <a:ext cx="8811360" cy="2743200"/>
            <a:chOff x="170640" y="3352680"/>
            <a:chExt cx="8811360" cy="2743200"/>
          </a:xfrm>
        </p:grpSpPr>
        <p:sp>
          <p:nvSpPr>
            <p:cNvPr id="526" name=""/>
            <p:cNvSpPr/>
            <p:nvPr/>
          </p:nvSpPr>
          <p:spPr>
            <a:xfrm>
              <a:off x="14749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65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81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5800" y="5410080"/>
              <a:ext cx="139860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5424480"/>
              <a:ext cx="7984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97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13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17720" y="3809880"/>
              <a:ext cx="7162560" cy="22860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1400" y="4724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3680" y="4800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16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48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564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28000" y="480060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8480" y="407520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0640" y="433404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9800" y="50292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8800" y="5665680"/>
              <a:ext cx="290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17360" y="3352680"/>
              <a:ext cx="60948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51680" y="3352680"/>
              <a:ext cx="22860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9680" y="4370400"/>
              <a:ext cx="4127400" cy="162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6400" y="554184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trac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2840" y="563580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sim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36560" y="2286000"/>
            <a:ext cx="6324480" cy="1066680"/>
            <a:chOff x="1636560" y="2286000"/>
            <a:chExt cx="6324480" cy="1066680"/>
          </a:xfrm>
        </p:grpSpPr>
        <p:grpSp>
          <p:nvGrpSpPr>
            <p:cNvPr id="552" name=""/>
            <p:cNvGrpSpPr/>
            <p:nvPr/>
          </p:nvGrpSpPr>
          <p:grpSpPr>
            <a:xfrm>
              <a:off x="1636560" y="2286000"/>
              <a:ext cx="6324480" cy="1066680"/>
              <a:chOff x="1636560" y="2286000"/>
              <a:chExt cx="6324480" cy="106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1636560" y="335268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6560" y="320040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712520" y="2286000"/>
                <a:ext cx="10666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37160" y="2286000"/>
                <a:ext cx="15238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803040" y="275760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u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A81-EF73-45FB-A65C-8F6AF98336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561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89720" y="2209680"/>
            <a:ext cx="3691800" cy="3353040"/>
            <a:chOff x="189720" y="2209680"/>
            <a:chExt cx="3691800" cy="3353040"/>
          </a:xfrm>
        </p:grpSpPr>
        <p:sp>
          <p:nvSpPr>
            <p:cNvPr id="566" name=""/>
            <p:cNvSpPr/>
            <p:nvPr/>
          </p:nvSpPr>
          <p:spPr>
            <a:xfrm>
              <a:off x="182412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8624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464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2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47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884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2904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7368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9240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9720" y="395748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484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58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28680" y="3848040"/>
            <a:ext cx="7010280" cy="1333440"/>
            <a:chOff x="2128680" y="3848040"/>
            <a:chExt cx="7010280" cy="1333440"/>
          </a:xfrm>
        </p:grpSpPr>
        <p:sp>
          <p:nvSpPr>
            <p:cNvPr id="586" name=""/>
            <p:cNvSpPr/>
            <p:nvPr/>
          </p:nvSpPr>
          <p:spPr>
            <a:xfrm>
              <a:off x="4443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976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640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3680" y="4781520"/>
              <a:ext cx="83664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56080" y="478152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304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91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3760" y="3848040"/>
              <a:ext cx="4370400" cy="1333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7680" y="4381560"/>
              <a:ext cx="9216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9840" y="4425840"/>
              <a:ext cx="233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9400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064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28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03920" y="4425840"/>
              <a:ext cx="18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2000" y="4425840"/>
              <a:ext cx="231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720" y="3892680"/>
              <a:ext cx="66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3600" y="40338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3040" y="4559400"/>
              <a:ext cx="0" cy="22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70320" y="491508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128680" y="4419360"/>
              <a:ext cx="19810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00E-3B33-4CB2-8B97-78E4F35438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609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3520" y="2209680"/>
            <a:ext cx="3352680" cy="3353040"/>
            <a:chOff x="533520" y="2209680"/>
            <a:chExt cx="3352680" cy="3353040"/>
          </a:xfrm>
        </p:grpSpPr>
        <p:sp>
          <p:nvSpPr>
            <p:cNvPr id="614" name=""/>
            <p:cNvSpPr/>
            <p:nvPr/>
          </p:nvSpPr>
          <p:spPr>
            <a:xfrm>
              <a:off x="182880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160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13372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36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708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28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29528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952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6640" y="3954600"/>
            <a:ext cx="326880" cy="779760"/>
            <a:chOff x="1826640" y="3954600"/>
            <a:chExt cx="326880" cy="779760"/>
          </a:xfrm>
        </p:grpSpPr>
        <p:sp>
          <p:nvSpPr>
            <p:cNvPr id="630" name=""/>
            <p:cNvSpPr/>
            <p:nvPr/>
          </p:nvSpPr>
          <p:spPr>
            <a:xfrm>
              <a:off x="182664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664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33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15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632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504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0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648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65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8480" y="563868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 n1-n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E4C-DFB4-42BF-852A-A49CFFF4A9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6DA-82ED-455A-92E6-227AFBC0B3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661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674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95480" y="3505320"/>
            <a:ext cx="1447920" cy="606960"/>
            <a:chOff x="2895480" y="3505320"/>
            <a:chExt cx="1447920" cy="606960"/>
          </a:xfrm>
        </p:grpSpPr>
        <p:grpSp>
          <p:nvGrpSpPr>
            <p:cNvPr id="686" name=""/>
            <p:cNvGrpSpPr/>
            <p:nvPr/>
          </p:nvGrpSpPr>
          <p:grpSpPr>
            <a:xfrm>
              <a:off x="2895480" y="3505320"/>
              <a:ext cx="1447920" cy="313200"/>
              <a:chOff x="2895480" y="3505320"/>
              <a:chExt cx="1447920" cy="31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3505320"/>
                <a:ext cx="12193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35680" y="35114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95480" y="3657600"/>
                <a:ext cx="228600" cy="76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58480" y="380520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gents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9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0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1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543800" y="3505320"/>
            <a:ext cx="1600200" cy="606960"/>
            <a:chOff x="7543800" y="3505320"/>
            <a:chExt cx="1600200" cy="606960"/>
          </a:xfrm>
        </p:grpSpPr>
        <p:sp>
          <p:nvSpPr>
            <p:cNvPr id="720" name=""/>
            <p:cNvSpPr/>
            <p:nvPr/>
          </p:nvSpPr>
          <p:spPr>
            <a:xfrm flipV="1">
              <a:off x="7543800" y="3657600"/>
              <a:ext cx="2286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606800" y="3505320"/>
              <a:ext cx="1537200" cy="606960"/>
              <a:chOff x="7606800" y="3505320"/>
              <a:chExt cx="1537200" cy="606960"/>
            </a:xfrm>
          </p:grpSpPr>
          <p:sp>
            <p:nvSpPr>
              <p:cNvPr id="722" name=""/>
              <p:cNvSpPr/>
              <p:nvPr/>
            </p:nvSpPr>
            <p:spPr>
              <a:xfrm>
                <a:off x="7772400" y="3505320"/>
                <a:ext cx="1371600" cy="38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00840" y="3527280"/>
                <a:ext cx="1343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Sink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06800" y="380520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s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26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29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3A2-47A7-4C4C-9FDD-5E6F8EB257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: Traffic Genera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73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74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5848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76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7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8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0680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94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97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920760" y="2960640"/>
            <a:ext cx="1486800" cy="620640"/>
            <a:chOff x="3920760" y="2960640"/>
            <a:chExt cx="1486800" cy="620640"/>
          </a:xfrm>
        </p:grpSpPr>
        <p:sp>
          <p:nvSpPr>
            <p:cNvPr id="800" name=""/>
            <p:cNvSpPr/>
            <p:nvPr/>
          </p:nvSpPr>
          <p:spPr>
            <a:xfrm>
              <a:off x="3978360" y="2960640"/>
              <a:ext cx="1355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96712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pplication/FT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66720" y="3276720"/>
              <a:ext cx="381240" cy="3045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86D-2D23-4A32-8300-001EFD2854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umbing: Packet 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805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81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834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844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852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860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863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978360" y="2960640"/>
            <a:ext cx="13557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20760" y="2967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66720" y="3276720"/>
            <a:ext cx="381240" cy="3045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3526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26668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259092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144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34290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39625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41148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43434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42670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1911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4038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0" y="36576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33526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7240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15200" y="26668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2720" y="35053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4952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43434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199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1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524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8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4800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200400" y="3124080"/>
            <a:ext cx="304920" cy="381240"/>
            <a:chOff x="3200400" y="3124080"/>
            <a:chExt cx="304920" cy="381240"/>
          </a:xfrm>
        </p:grpSpPr>
        <p:sp>
          <p:nvSpPr>
            <p:cNvPr id="915" name=""/>
            <p:cNvSpPr/>
            <p:nvPr/>
          </p:nvSpPr>
          <p:spPr>
            <a:xfrm>
              <a:off x="3200400" y="3124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0400" y="33526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52B-A602-4D25-B4F3-4AA203F68F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1058760" y="26528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8760" y="33386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797200" y="2251080"/>
            <a:ext cx="766800" cy="38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22400" y="3338640"/>
            <a:ext cx="741600" cy="275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562200" y="2209680"/>
            <a:ext cx="2143080" cy="3888720"/>
            <a:chOff x="3562200" y="2209680"/>
            <a:chExt cx="2143080" cy="3888720"/>
          </a:xfrm>
        </p:grpSpPr>
        <p:sp>
          <p:nvSpPr>
            <p:cNvPr id="923" name=""/>
            <p:cNvSpPr/>
            <p:nvPr/>
          </p:nvSpPr>
          <p:spPr>
            <a:xfrm>
              <a:off x="3562200" y="28954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62200" y="35812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c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42670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rt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62200" y="49528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race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62200" y="22096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cmn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62200" y="5638680"/>
              <a:ext cx="2143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05640" y="1980720"/>
            <a:ext cx="2666520" cy="3353400"/>
            <a:chOff x="5705640" y="1980720"/>
            <a:chExt cx="2666520" cy="3353400"/>
          </a:xfrm>
        </p:grpSpPr>
        <p:sp>
          <p:nvSpPr>
            <p:cNvPr id="930" name=""/>
            <p:cNvSpPr/>
            <p:nvPr/>
          </p:nvSpPr>
          <p:spPr>
            <a:xfrm>
              <a:off x="6619680" y="198108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9680" y="25909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19680" y="32767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9680" y="39625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9680" y="46483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705640" y="1980720"/>
              <a:ext cx="91404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5640" y="2895480"/>
              <a:ext cx="91404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6B6-CC9C-42BE-A39A-9AEDBEBDD0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8EE-009F-4C4C-8596-51FA132FC3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tract the Real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hea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n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less chann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ing and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129-F13D-4863-B5C4-73881CE481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ireless 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238400" y="22050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38400" y="28908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990880" y="1824120"/>
            <a:ext cx="60948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2040" y="2889360"/>
            <a:ext cx="598320" cy="3278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89440" y="1593360"/>
            <a:ext cx="2667240" cy="3353400"/>
            <a:chOff x="5689440" y="1593360"/>
            <a:chExt cx="2667240" cy="3353400"/>
          </a:xfrm>
        </p:grpSpPr>
        <p:sp>
          <p:nvSpPr>
            <p:cNvPr id="947" name=""/>
            <p:cNvSpPr/>
            <p:nvPr/>
          </p:nvSpPr>
          <p:spPr>
            <a:xfrm>
              <a:off x="6603840" y="159372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03840" y="22035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03840" y="28893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3840" y="35751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03840" y="42609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89440" y="1593360"/>
              <a:ext cx="9144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89440" y="2508120"/>
              <a:ext cx="91440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00360" y="1822320"/>
            <a:ext cx="2088360" cy="4345560"/>
            <a:chOff x="3600360" y="1822320"/>
            <a:chExt cx="2088360" cy="4345560"/>
          </a:xfrm>
        </p:grpSpPr>
        <p:grpSp>
          <p:nvGrpSpPr>
            <p:cNvPr id="955" name=""/>
            <p:cNvGrpSpPr/>
            <p:nvPr/>
          </p:nvGrpSpPr>
          <p:grpSpPr>
            <a:xfrm>
              <a:off x="3600360" y="1822320"/>
              <a:ext cx="2088360" cy="1828800"/>
              <a:chOff x="3600360" y="1822320"/>
              <a:chExt cx="2088360" cy="1828800"/>
            </a:xfrm>
          </p:grpSpPr>
          <p:sp>
            <p:nvSpPr>
              <p:cNvPr id="956" name=""/>
              <p:cNvSpPr/>
              <p:nvPr/>
            </p:nvSpPr>
            <p:spPr>
              <a:xfrm>
                <a:off x="3600360" y="25081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IP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00360" y="3193920"/>
                <a:ext cx="20883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00360" y="18223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cmn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600360" y="3651120"/>
              <a:ext cx="2088360" cy="2516760"/>
              <a:chOff x="3600360" y="3651120"/>
              <a:chExt cx="2088360" cy="251676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0360" y="365112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L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00360" y="43365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MAC 802_1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00360" y="5708160"/>
                <a:ext cx="2088360" cy="4597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0360" y="50223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AR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715000" y="3657600"/>
            <a:ext cx="1710720" cy="2502000"/>
            <a:chOff x="5715000" y="3657600"/>
            <a:chExt cx="1710720" cy="2502000"/>
          </a:xfrm>
        </p:grpSpPr>
        <p:sp>
          <p:nvSpPr>
            <p:cNvPr id="965" name=""/>
            <p:cNvSpPr/>
            <p:nvPr/>
          </p:nvSpPr>
          <p:spPr>
            <a:xfrm>
              <a:off x="5715000" y="3657600"/>
              <a:ext cx="295200" cy="2502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04440" y="4454640"/>
              <a:ext cx="142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ireless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eader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20D-7692-485F-A3F2-0E7FF26287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ordinates (x,y,z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ed, direction, starting/ending location, time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755-EED0-4DF6-8898-77769C927B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rait of A Mobile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1084320" y="1757520"/>
            <a:ext cx="3124080" cy="17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8000" y="269064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6640" y="176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c1eb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48000" y="3649680"/>
            <a:ext cx="838080" cy="398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7400" y="5162400"/>
            <a:ext cx="12063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pagation and antenna model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8240" y="1609560"/>
            <a:ext cx="3706920" cy="436428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99840" y="56498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c1eb"/>
                </a:solidFill>
                <a:latin typeface="Tahoma"/>
              </a:rPr>
              <a:t>MobileN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4818240"/>
            <a:ext cx="10666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5342040"/>
            <a:ext cx="106668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3720" y="4178160"/>
            <a:ext cx="457200" cy="457200"/>
            <a:chOff x="2133720" y="417816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2133720" y="417816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433044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3720" y="448272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5400" y="6095880"/>
            <a:ext cx="3276720" cy="276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22800" y="2654280"/>
            <a:ext cx="53352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13240" y="326376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6040" y="3832200"/>
            <a:ext cx="106704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160960" y="4357800"/>
            <a:ext cx="457200" cy="457200"/>
            <a:chOff x="5160960" y="4357800"/>
            <a:chExt cx="457200" cy="457200"/>
          </a:xfrm>
        </p:grpSpPr>
        <p:sp>
          <p:nvSpPr>
            <p:cNvPr id="990" name=""/>
            <p:cNvSpPr/>
            <p:nvPr/>
          </p:nvSpPr>
          <p:spPr>
            <a:xfrm>
              <a:off x="5160960" y="435780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60960" y="451008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0960" y="46623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56040" y="5016600"/>
            <a:ext cx="10670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56040" y="5549760"/>
            <a:ext cx="106704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10200" y="1863720"/>
            <a:ext cx="3133800" cy="4034160"/>
            <a:chOff x="6010200" y="1863720"/>
            <a:chExt cx="3133800" cy="4034160"/>
          </a:xfrm>
        </p:grpSpPr>
        <p:sp>
          <p:nvSpPr>
            <p:cNvPr id="996" name=""/>
            <p:cNvSpPr/>
            <p:nvPr/>
          </p:nvSpPr>
          <p:spPr>
            <a:xfrm>
              <a:off x="6010200" y="1863720"/>
              <a:ext cx="28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Classifier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Forwarding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10200" y="2549520"/>
              <a:ext cx="29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Agent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Protocol Ent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0200" y="3159000"/>
              <a:ext cx="25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0200" y="3746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LL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Link layer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0200" y="4356000"/>
              <a:ext cx="31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IFQ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Interface que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0200" y="496584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MAC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Mac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10200" y="5499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PHY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Net interf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1003" name=""/>
          <p:cNvCxnSpPr>
            <a:stCxn id="984" idx="1"/>
            <a:endCxn id="971" idx="2"/>
          </p:cNvCxnSpPr>
          <p:nvPr/>
        </p:nvCxnSpPr>
        <p:spPr>
          <a:xfrm rot="10800000">
            <a:off x="1007280" y="2766960"/>
            <a:ext cx="821520" cy="1078200"/>
          </a:xfrm>
          <a:prstGeom prst="bentConnector3">
            <a:avLst>
              <a:gd name="adj1" fmla="val 119508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79" idx="2"/>
            <a:endCxn id="985" idx="0"/>
          </p:cNvCxnSpPr>
          <p:nvPr/>
        </p:nvCxnSpPr>
        <p:spPr>
          <a:xfrm>
            <a:off x="2362320" y="5625720"/>
            <a:ext cx="2160" cy="470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5" name=""/>
          <p:cNvCxnSpPr>
            <a:stCxn id="979" idx="3"/>
            <a:endCxn id="974" idx="1"/>
          </p:cNvCxnSpPr>
          <p:nvPr/>
        </p:nvCxnSpPr>
        <p:spPr>
          <a:xfrm>
            <a:off x="2895480" y="5484960"/>
            <a:ext cx="332640" cy="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78" idx="2"/>
            <a:endCxn id="979" idx="0"/>
          </p:cNvCxnSpPr>
          <p:nvPr/>
        </p:nvCxnSpPr>
        <p:spPr>
          <a:xfrm>
            <a:off x="2361960" y="5102280"/>
            <a:ext cx="1080" cy="2404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7" name=""/>
          <p:cNvCxnSpPr>
            <a:stCxn id="981" idx="2"/>
            <a:endCxn id="978" idx="0"/>
          </p:cNvCxnSpPr>
          <p:nvPr/>
        </p:nvCxnSpPr>
        <p:spPr>
          <a:xfrm>
            <a:off x="2361960" y="4635360"/>
            <a:ext cx="1080" cy="18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84" idx="2"/>
            <a:endCxn id="981" idx="0"/>
          </p:cNvCxnSpPr>
          <p:nvPr/>
        </p:nvCxnSpPr>
        <p:spPr>
          <a:xfrm>
            <a:off x="2361960" y="3985920"/>
            <a:ext cx="1080" cy="192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 rot="5400000">
            <a:off x="1155600" y="26636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1733400" y="22874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71" idx="6"/>
            <a:endCxn id="1009" idx="1"/>
          </p:cNvCxnSpPr>
          <p:nvPr/>
        </p:nvCxnSpPr>
        <p:spPr>
          <a:xfrm flipV="1">
            <a:off x="1160640" y="2765160"/>
            <a:ext cx="25920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2" name=""/>
          <p:cNvSpPr/>
          <p:nvPr/>
        </p:nvSpPr>
        <p:spPr>
          <a:xfrm rot="5400000">
            <a:off x="5075640" y="1971000"/>
            <a:ext cx="577800" cy="160200"/>
          </a:xfrm>
          <a:custGeom>
            <a:avLst/>
            <a:gdLst>
              <a:gd name="textAreaLeft" fmla="*/ 133200 w 577800"/>
              <a:gd name="textAreaRight" fmla="*/ 444600 w 577800"/>
              <a:gd name="textAreaTop" fmla="*/ 36720 h 160200"/>
              <a:gd name="textAreaBottom" fmla="*/ 1234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984" idx="3"/>
            <a:endCxn id="973" idx="1"/>
          </p:cNvCxnSpPr>
          <p:nvPr/>
        </p:nvCxnSpPr>
        <p:spPr>
          <a:xfrm>
            <a:off x="2895120" y="3844800"/>
            <a:ext cx="45324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2903400" y="1895400"/>
            <a:ext cx="8604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toco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30400" y="2905200"/>
            <a:ext cx="8748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34000" y="29606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21600" y="16160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09" idx="3"/>
            <a:endCxn id="1010" idx="1"/>
          </p:cNvCxnSpPr>
          <p:nvPr/>
        </p:nvCxnSpPr>
        <p:spPr>
          <a:xfrm flipV="1">
            <a:off x="1649160" y="2388600"/>
            <a:ext cx="347760" cy="376920"/>
          </a:xfrm>
          <a:prstGeom prst="bentConnector3">
            <a:avLst>
              <a:gd name="adj1" fmla="val 4932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09" idx="3"/>
            <a:endCxn id="1015" idx="1"/>
          </p:cNvCxnSpPr>
          <p:nvPr/>
        </p:nvCxnSpPr>
        <p:spPr>
          <a:xfrm>
            <a:off x="1649520" y="2765520"/>
            <a:ext cx="1281600" cy="356400"/>
          </a:xfrm>
          <a:prstGeom prst="bentConnector3">
            <a:avLst>
              <a:gd name="adj1" fmla="val 1362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1010" idx="3"/>
            <a:endCxn id="1015" idx="1"/>
          </p:cNvCxnSpPr>
          <p:nvPr/>
        </p:nvCxnSpPr>
        <p:spPr>
          <a:xfrm>
            <a:off x="2226960" y="2388960"/>
            <a:ext cx="703800" cy="732600"/>
          </a:xfrm>
          <a:prstGeom prst="bentConnector3">
            <a:avLst>
              <a:gd name="adj1" fmla="val 4872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0" idx="3"/>
            <a:endCxn id="1014" idx="1"/>
          </p:cNvCxnSpPr>
          <p:nvPr/>
        </p:nvCxnSpPr>
        <p:spPr>
          <a:xfrm flipV="1">
            <a:off x="2227320" y="2111400"/>
            <a:ext cx="676800" cy="278280"/>
          </a:xfrm>
          <a:prstGeom prst="bentConnector3">
            <a:avLst>
              <a:gd name="adj1" fmla="val 504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2" name=""/>
          <p:cNvSpPr/>
          <p:nvPr/>
        </p:nvSpPr>
        <p:spPr>
          <a:xfrm>
            <a:off x="2511360" y="25606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5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45240" y="4254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72840" y="4430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14760" y="3979800"/>
            <a:ext cx="0" cy="833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4" idx="0"/>
            <a:endCxn id="971" idx="2"/>
          </p:cNvCxnSpPr>
          <p:nvPr/>
        </p:nvCxnSpPr>
        <p:spPr>
          <a:xfrm rot="5400000">
            <a:off x="1734480" y="1167480"/>
            <a:ext cx="872280" cy="2326320"/>
          </a:xfrm>
          <a:prstGeom prst="bentConnector4">
            <a:avLst>
              <a:gd name="adj1" fmla="val -26218"/>
              <a:gd name="adj2" fmla="val 10681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1015" idx="2"/>
            <a:endCxn id="984" idx="0"/>
          </p:cNvCxnSpPr>
          <p:nvPr/>
        </p:nvCxnSpPr>
        <p:spPr>
          <a:xfrm rot="5400000">
            <a:off x="2681280" y="3015360"/>
            <a:ext cx="367200" cy="1006920"/>
          </a:xfrm>
          <a:prstGeom prst="bentConnector3">
            <a:avLst>
              <a:gd name="adj1" fmla="val 4975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8" name=""/>
          <p:cNvSpPr/>
          <p:nvPr/>
        </p:nvSpPr>
        <p:spPr>
          <a:xfrm>
            <a:off x="1751400" y="306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defaulttarget_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412-90AB-4CE3-84C5-F5EAC3BD25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me as LAN, but with a separate ARP mod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que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 priority to routing protocol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EEE 802.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/CTS/DATA/ACK for all uni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for all broad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84E-A41D-4D2B-9725-53B9E6EAAD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Link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58960" y="1649520"/>
          <a:ext cx="791532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649520"/>
                    <a:ext cx="7915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887-3B11-46CC-BDBC-EFCF4FDD6A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twork interface (P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based on Direct Sequence Spread Spectrum (WaveLa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with: antenna and propagation mod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pdate energy: transmission and rece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ne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-ray Ground 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f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ni-directional, unity-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CAB-58F0-4914-8B00-51A4671BA5D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reless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packets to all mobile nodes attached to the channel except the sen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 is the receiver’s responsibility to decide if it will accept the pack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ision is handled at individual recei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 messag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rid kee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F50-4E54-48BD-A349-A95D368480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keeper: An Optimiza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95280" y="1981080"/>
            <a:ext cx="6782040" cy="4267440"/>
            <a:chOff x="1295280" y="1981080"/>
            <a:chExt cx="6782040" cy="4267440"/>
          </a:xfrm>
        </p:grpSpPr>
        <p:sp>
          <p:nvSpPr>
            <p:cNvPr id="1037" name=""/>
            <p:cNvSpPr/>
            <p:nvPr/>
          </p:nvSpPr>
          <p:spPr>
            <a:xfrm>
              <a:off x="1981080" y="2514600"/>
              <a:ext cx="3581640" cy="32767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280" y="1981080"/>
              <a:ext cx="6782040" cy="4267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280" y="41148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1814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95280" y="5791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47920" y="5181480"/>
              <a:ext cx="6629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83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195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4008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9810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6576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5627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2388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5280" y="30481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95280" y="35812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2819520"/>
              <a:ext cx="2895840" cy="2666880"/>
            </a:xfrm>
            <a:prstGeom prst="ellipse">
              <a:avLst/>
            </a:prstGeom>
            <a:noFill/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09880" y="41148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48769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240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67080" y="44956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98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3657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3400" y="51055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06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4800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358128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51814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004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62520" y="50292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7080" y="32767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52680" y="38098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419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1280" y="53341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05320" y="44197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9625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19920" y="6172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86600" y="52578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57400" y="22860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0120" y="3886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728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006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724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29400" y="26668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9680" y="5562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49528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48120" y="59436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24280" y="6019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752480" y="27432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05720" y="5867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0020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9920" y="4876920"/>
              <a:ext cx="7596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2320" y="22096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43800" y="5867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8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22860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10280" y="3276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91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67480" y="4876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96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2819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20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38280" y="5486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76920" y="5105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5715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81480" y="5410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81080" y="2514600"/>
              <a:ext cx="838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81080" y="5181480"/>
              <a:ext cx="8384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334-AC93-4557-8544-A7D38D9E470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59F-C3A2-47C0-8DA0-94BB3B1B27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Sca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s to simulation s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tuning (next sess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27D-2DD7-499A-B80D-92E6FF055C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828720" y="1623960"/>
            <a:ext cx="7324560" cy="438624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2779200" y="326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2101680" y="1716120"/>
            <a:ext cx="6340680" cy="3421080"/>
            <a:chOff x="2101680" y="1716120"/>
            <a:chExt cx="6340680" cy="3421080"/>
          </a:xfrm>
        </p:grpSpPr>
        <p:sp>
          <p:nvSpPr>
            <p:cNvPr id="1119" name=""/>
            <p:cNvSpPr/>
            <p:nvPr/>
          </p:nvSpPr>
          <p:spPr>
            <a:xfrm>
              <a:off x="2101680" y="2887560"/>
              <a:ext cx="5589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67280" y="27241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128M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1870200"/>
              <a:ext cx="0" cy="326700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37280" y="1716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43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836-89CA-45D2-9962-71090A0C29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3" name=""/>
          <p:cNvGraphicFramePr/>
          <p:nvPr/>
        </p:nvGraphicFramePr>
        <p:xfrm>
          <a:off x="844560" y="1649520"/>
          <a:ext cx="780876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49520"/>
                    <a:ext cx="78087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236400" y="1976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300-B60C-421D-862E-2E9AA8BDF3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lprit: Details,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nse mode tries to capture packet-level behavi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es, Joi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abstract it 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D9B-352D-44C9-8503-D86C718BB7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 flipH="1" flipV="1">
            <a:off x="6045120" y="3865320"/>
            <a:ext cx="976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45120" y="3865320"/>
            <a:ext cx="2308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80240" y="3665520"/>
            <a:ext cx="1295280" cy="15271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13560" y="4254480"/>
            <a:ext cx="5968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91440" y="3684600"/>
            <a:ext cx="1249200" cy="150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6070320" y="3870360"/>
            <a:ext cx="1571400" cy="38736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21440" y="3297240"/>
            <a:ext cx="3938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210440" y="4254480"/>
            <a:ext cx="5284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8720" y="4041720"/>
            <a:ext cx="392040" cy="40644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45320" y="4049640"/>
            <a:ext cx="37476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912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31160" y="5006880"/>
            <a:ext cx="3744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534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520000">
            <a:off x="6900480" y="363024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520000">
            <a:off x="6733800" y="383040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8990000">
            <a:off x="7443720" y="361440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9197600">
            <a:off x="7604280" y="383976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9768800">
            <a:off x="6675480" y="457488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9523400">
            <a:off x="6833880" y="481464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56280" y="3878280"/>
            <a:ext cx="385920" cy="27288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879880" y="3892680"/>
            <a:ext cx="168120" cy="108720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043680" y="3557520"/>
            <a:ext cx="968400" cy="311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1240" y="562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04480" y="1752480"/>
            <a:ext cx="33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32800" y="2731320"/>
            <a:ext cx="1121040" cy="11919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7520" y="2454120"/>
            <a:ext cx="39204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43000" y="3198960"/>
            <a:ext cx="39240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9600" y="3208320"/>
            <a:ext cx="374760" cy="3888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3273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5440" y="4164120"/>
            <a:ext cx="376200" cy="3902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743800">
            <a:off x="2572560" y="282024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733600">
            <a:off x="2392920" y="29818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2520000">
            <a:off x="1882440" y="3619080"/>
            <a:ext cx="842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2580000">
            <a:off x="1671480" y="3838680"/>
            <a:ext cx="860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8798000">
            <a:off x="3060000" y="2817000"/>
            <a:ext cx="871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8840000">
            <a:off x="3264120" y="29905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9005600">
            <a:off x="3736440" y="36223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8934800">
            <a:off x="3935520" y="3828600"/>
            <a:ext cx="8892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8902400">
            <a:off x="2733480" y="38304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2556600">
            <a:off x="2080800" y="383652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564400">
            <a:off x="1882800" y="405396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8889200">
            <a:off x="3539880" y="3806640"/>
            <a:ext cx="8424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8840000">
            <a:off x="3782880" y="4024440"/>
            <a:ext cx="84240" cy="19512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8925800">
            <a:off x="2522160" y="362556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957320" y="3924360"/>
            <a:ext cx="333360" cy="406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434400" y="3925080"/>
            <a:ext cx="384480" cy="3571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391760" y="2676240"/>
            <a:ext cx="1062360" cy="11354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8920" y="3557160"/>
            <a:ext cx="365400" cy="3754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stCxn id="1157" idx="4"/>
            <a:endCxn id="1159" idx="0"/>
          </p:cNvCxnSpPr>
          <p:nvPr/>
        </p:nvCxnSpPr>
        <p:spPr>
          <a:xfrm flipH="1">
            <a:off x="2854080" y="3596760"/>
            <a:ext cx="613440" cy="567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0" name=""/>
          <p:cNvCxnSpPr>
            <a:stCxn id="1157" idx="4"/>
            <a:endCxn id="1178" idx="1"/>
          </p:cNvCxnSpPr>
          <p:nvPr/>
        </p:nvCxnSpPr>
        <p:spPr>
          <a:xfrm>
            <a:off x="3466800" y="359712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1" name=""/>
          <p:cNvCxnSpPr>
            <a:stCxn id="1155" idx="4"/>
            <a:endCxn id="1157" idx="1"/>
          </p:cNvCxnSpPr>
          <p:nvPr/>
        </p:nvCxnSpPr>
        <p:spPr>
          <a:xfrm>
            <a:off x="2854440" y="28623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2" name=""/>
          <p:cNvCxnSpPr>
            <a:stCxn id="1155" idx="4"/>
            <a:endCxn id="1156" idx="7"/>
          </p:cNvCxnSpPr>
          <p:nvPr/>
        </p:nvCxnSpPr>
        <p:spPr>
          <a:xfrm flipH="1">
            <a:off x="2377440" y="2862360"/>
            <a:ext cx="477000" cy="39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3" name=""/>
          <p:cNvCxnSpPr>
            <a:stCxn id="1156" idx="4"/>
            <a:endCxn id="1158" idx="7"/>
          </p:cNvCxnSpPr>
          <p:nvPr/>
        </p:nvCxnSpPr>
        <p:spPr>
          <a:xfrm flipH="1">
            <a:off x="1661400" y="3606480"/>
            <a:ext cx="578520" cy="610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4" name=""/>
          <p:cNvCxnSpPr>
            <a:stCxn id="1156" idx="4"/>
            <a:endCxn id="1159" idx="0"/>
          </p:cNvCxnSpPr>
          <p:nvPr/>
        </p:nvCxnSpPr>
        <p:spPr>
          <a:xfrm>
            <a:off x="2239560" y="3606840"/>
            <a:ext cx="61524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4919760" y="3370320"/>
            <a:ext cx="1369800" cy="72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mput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Uni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90400" y="4888080"/>
            <a:ext cx="1506960" cy="1390320"/>
            <a:chOff x="590400" y="4888080"/>
            <a:chExt cx="1506960" cy="1390320"/>
          </a:xfrm>
        </p:grpSpPr>
        <p:sp>
          <p:nvSpPr>
            <p:cNvPr id="1187" name=""/>
            <p:cNvSpPr/>
            <p:nvPr/>
          </p:nvSpPr>
          <p:spPr>
            <a:xfrm>
              <a:off x="603360" y="538632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340000">
              <a:off x="682920" y="6013800"/>
              <a:ext cx="88920" cy="18900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140000">
              <a:off x="681480" y="575352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0400" y="495288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4080" y="5229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69200" y="55706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54440" y="5910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pru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54440" y="48880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BC8-FFCE-40A0-8DDF-2A094947955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$ns mrtproto CtrM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act dynamic behavior, e.g., routing convergence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mean to replace D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350-C1E8-4FAD-9E13-5900E4B4DFC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hierarchy in ns for spli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ed in both C++ and O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set packetSize_ 10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advanceby 50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0F8-6261-4E80-8494-6F141967D5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404136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ove all intermediate nodes and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queue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elive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2254320" y="1690560"/>
          <a:ext cx="4829040" cy="215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690560"/>
                    <a:ext cx="4829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793-FF1D-4509-8421-941A295DD3C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675400" y="3300480"/>
            <a:ext cx="2246400" cy="14666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53120" y="36511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pl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T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02560" y="3129120"/>
            <a:ext cx="0" cy="2743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13160" y="4540320"/>
            <a:ext cx="592200" cy="3157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67360" y="4540320"/>
            <a:ext cx="541440" cy="322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07960" y="3336840"/>
            <a:ext cx="183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ssion Helper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0800" y="5546880"/>
            <a:ext cx="265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3240" y="182088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140000">
            <a:off x="60044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140000">
            <a:off x="60044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140000">
            <a:off x="6004440" y="39722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140000">
            <a:off x="6004440" y="37436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140000">
            <a:off x="73760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140000">
            <a:off x="73760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95280" y="2659680"/>
            <a:ext cx="353160" cy="317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89120" y="2413080"/>
            <a:ext cx="3920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74960" y="315756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11560" y="3166920"/>
            <a:ext cx="37476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5892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412272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2743800">
            <a:off x="2503800" y="2778840"/>
            <a:ext cx="8568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2733600">
            <a:off x="2324520" y="29404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8798000">
            <a:off x="2991600" y="2775240"/>
            <a:ext cx="8748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8840000">
            <a:off x="3195720" y="29491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8902400">
            <a:off x="2665080" y="37890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8925800">
            <a:off x="2454120" y="3584160"/>
            <a:ext cx="860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168280" y="2713320"/>
            <a:ext cx="309240" cy="272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40520" y="3515760"/>
            <a:ext cx="365400" cy="3758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1968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stCxn id="1219" idx="4"/>
            <a:endCxn id="1221" idx="0"/>
          </p:cNvCxnSpPr>
          <p:nvPr/>
        </p:nvCxnSpPr>
        <p:spPr>
          <a:xfrm flipH="1">
            <a:off x="2785680" y="3556080"/>
            <a:ext cx="613440" cy="567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2" name=""/>
          <p:cNvCxnSpPr>
            <a:stCxn id="1219" idx="4"/>
            <a:endCxn id="1230" idx="1"/>
          </p:cNvCxnSpPr>
          <p:nvPr/>
        </p:nvCxnSpPr>
        <p:spPr>
          <a:xfrm>
            <a:off x="3398400" y="355608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3" name=""/>
          <p:cNvCxnSpPr>
            <a:stCxn id="1217" idx="4"/>
            <a:endCxn id="1219" idx="1"/>
          </p:cNvCxnSpPr>
          <p:nvPr/>
        </p:nvCxnSpPr>
        <p:spPr>
          <a:xfrm>
            <a:off x="2786040" y="28209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4" name=""/>
          <p:cNvCxnSpPr>
            <a:stCxn id="1217" idx="4"/>
            <a:endCxn id="1218" idx="7"/>
          </p:cNvCxnSpPr>
          <p:nvPr/>
        </p:nvCxnSpPr>
        <p:spPr>
          <a:xfrm flipH="1">
            <a:off x="2309040" y="2820600"/>
            <a:ext cx="477000" cy="397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5" name=""/>
          <p:cNvCxnSpPr>
            <a:stCxn id="1218" idx="4"/>
            <a:endCxn id="1220" idx="7"/>
          </p:cNvCxnSpPr>
          <p:nvPr/>
        </p:nvCxnSpPr>
        <p:spPr>
          <a:xfrm flipH="1">
            <a:off x="1593360" y="3565440"/>
            <a:ext cx="578880" cy="610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6" name=""/>
          <p:cNvCxnSpPr>
            <a:stCxn id="1218" idx="4"/>
            <a:endCxn id="1221" idx="0"/>
          </p:cNvCxnSpPr>
          <p:nvPr/>
        </p:nvCxnSpPr>
        <p:spPr>
          <a:xfrm>
            <a:off x="2171880" y="3565440"/>
            <a:ext cx="61488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1237" name=""/>
          <p:cNvGrpSpPr/>
          <p:nvPr/>
        </p:nvGrpSpPr>
        <p:grpSpPr>
          <a:xfrm>
            <a:off x="576360" y="5170320"/>
            <a:ext cx="1506960" cy="1050840"/>
            <a:chOff x="576360" y="5170320"/>
            <a:chExt cx="1506960" cy="1050840"/>
          </a:xfrm>
        </p:grpSpPr>
        <p:sp>
          <p:nvSpPr>
            <p:cNvPr id="1238" name=""/>
            <p:cNvSpPr/>
            <p:nvPr/>
          </p:nvSpPr>
          <p:spPr>
            <a:xfrm>
              <a:off x="589320" y="566856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140000">
              <a:off x="667440" y="603576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6360" y="523512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0040" y="551160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55160" y="5852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0" y="517032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921280" y="486576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6000" y="4867200"/>
            <a:ext cx="37440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03840" y="2701800"/>
            <a:ext cx="39240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83F-35B5-4548-9BB3-81C8F760354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essionSi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orted end-to-end de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loss due to conges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BFC-281E-4ACC-8309-2DD21CCB432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17560" y="1649520"/>
          <a:ext cx="77677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649520"/>
                    <a:ext cx="7767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4533480" y="24494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2560" y="3681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233040" y="4365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C90-4F2E-49AD-B95F-29D870A2514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723960" y="1596960"/>
          <a:ext cx="807732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596960"/>
                    <a:ext cx="80773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4844880" y="23274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7000" y="267984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aliz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50200" y="367992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97A-5A77-430B-B65A-3BE9AAEDDFE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istortion of Centralized Multica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831960" y="1703520"/>
          <a:ext cx="77803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03520"/>
                    <a:ext cx="7780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4" name=""/>
          <p:cNvGrpSpPr/>
          <p:nvPr/>
        </p:nvGrpSpPr>
        <p:grpSpPr>
          <a:xfrm>
            <a:off x="2130480" y="2944800"/>
            <a:ext cx="4646520" cy="973080"/>
            <a:chOff x="2130480" y="2944800"/>
            <a:chExt cx="4646520" cy="973080"/>
          </a:xfrm>
        </p:grpSpPr>
        <p:sp>
          <p:nvSpPr>
            <p:cNvPr id="1265" name=""/>
            <p:cNvSpPr/>
            <p:nvPr/>
          </p:nvSpPr>
          <p:spPr>
            <a:xfrm>
              <a:off x="2130480" y="29448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168720" y="31510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9800" y="361332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138560" y="3809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349360" y="3797280"/>
            <a:ext cx="3916440" cy="1365120"/>
            <a:chOff x="2349360" y="3797280"/>
            <a:chExt cx="3916440" cy="1365120"/>
          </a:xfrm>
        </p:grpSpPr>
        <p:sp>
          <p:nvSpPr>
            <p:cNvPr id="1270" name=""/>
            <p:cNvSpPr/>
            <p:nvPr/>
          </p:nvSpPr>
          <p:spPr>
            <a:xfrm>
              <a:off x="2349360" y="485784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37972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24D-0A04-4AE5-87C6-F1EAD04FE5C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ortion of 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831960" y="1676520"/>
          <a:ext cx="779436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76520"/>
                    <a:ext cx="77943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039-5383-41F3-86F4-E9B3A3117BA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ot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sim still uses too much memory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 want large detailed simulation, e.g., Web traffic patte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your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’ll cover it this afterno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DA4-4CDC-4B5E-A152-07BA501DAED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clObject: Hierarchy and Shadow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0" idx="2"/>
            <a:endCxn id="281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2"/>
            <a:endCxn id="282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2" idx="2"/>
            <a:endCxn id="283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3"/>
            <a:endCxn id="288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2"/>
            <a:endCxn id="292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2"/>
            <a:endCxn id="293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3" idx="2"/>
            <a:endCxn id="288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4631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7016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D7E-0C3A-453F-96A2-944247E4E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bi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C++ member variables to OTcl object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pAgent::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bind(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, &amp;wnd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d_time(), bind_bool(), bind_bw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D21-928D-4181-9A3B-2E62B93A7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itialization of Bou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through OTcl class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Agent/TCP set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 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all initialization of bound variables in ~ns/lib/ns-default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 a warning will be issued when the shadow object is cre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9AF-E6C1-4089-8B1B-8FA0DE531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lementation of Boun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ass InstV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object per bound variable –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expensiv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VarInt, InstVarReal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d by TclObject::bi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stance variable in OTcl st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p read/write to OTcl variable using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_TraceVar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 to C++ variable in the tr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CE0-3045-4DE2-BB2A-487A71E133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9T06:01:53Z</dcterms:modified>
  <cp:revision>670</cp:revision>
  <dc:subject/>
  <dc:title>ns-2 tutorial for IEC'00 workshop</dc:title>
</cp:coreProperties>
</file>