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EE1-6822-48DD-A22E-67B71D19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CF5-7546-478A-BDE5-F93192A4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F14-67F5-40F4-9D66-F0B112BA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697-108E-40F4-94CC-87D134C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5EA-9F05-4521-8216-3E85A26F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D89-A78A-4C09-8409-4518F60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485-1094-49AC-A36A-E3CBA06D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950-387A-4125-A2EC-D371F082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B6AC-57BE-4CFF-A859-75B3D43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FA8C-C317-473A-9E81-BE1CF6E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907-1F5B-4C61-8B10-013689A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132-4756-442B-9D66-7878649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3EC5-5249-4E97-A0BD-6A6BD3C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E2F-C6E3-425B-8836-F39DF53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F8B8-E3F0-477F-B019-22171DF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16D-392D-42DD-9007-A6005631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898-827F-46F3-83A6-02352125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819-F0DD-4085-8BFC-2891F04B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B62-B8E4-4102-904B-7C8F13B2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A38-8085-4C25-85E7-6553554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A25-1C2D-4000-A2A3-B454B96E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6CB-E317-480C-BD84-19B4F79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952-B520-4E68-B390-4C3D199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0F6-4F3A-4114-8C45-6CA46F1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4B2-A39E-43AB-83EB-94750626AB2A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20D-B087-4007-A68D-4837C930E708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CF3-70B3-4116-90EB-D0E76610156A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13B-995A-48F5-AD83-4992427A92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ev.scriptics.com/" TargetMode="External"/><Relationship Id="rId3" Type="http://schemas.openxmlformats.org/officeDocument/2006/relationships/hyperlink" Target="http://www.isi.edu/nsnam/dist" TargetMode="External"/><Relationship Id="rId4" Type="http://schemas.openxmlformats.org/officeDocument/2006/relationships/hyperlink" Target="http://www.isi.edu/nsnam/dist" TargetMode="External"/><Relationship Id="rId5" Type="http://schemas.openxmlformats.org/officeDocument/2006/relationships/hyperlink" Target="http://www.isi.edu/nsnam/dis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ns-users@isi.edu" TargetMode="External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mailto:ns-users@isi.edu" TargetMode="External"/><Relationship Id="rId6" Type="http://schemas.openxmlformats.org/officeDocument/2006/relationships/hyperlink" Target="mailto:ns-users@mash.cs.berkeley.edu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-2 Tutori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obo Yu, Nader Saleh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haoboy,salehi}@isi.ed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455-F2BC-4F0C-AE7F-97829569D7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cl (Tool Command Language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dev.scriptics.com/scrip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Tcl (MIT Object Tcl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~otcl/doc/tutorial.html (in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d in distribution: ~ns/d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~salehi/ns_doc.ps.g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6A8-A63A-42EA-A099-C7432568B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u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tried best to validate ns with regression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Howe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 abstraction of the real world is necessary for a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5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must justify the usage of this simulator based on your research 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5B8-7448-4FD7-98E7-70C222CAFA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ability of the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examples of its 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try to avoi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ed research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D75-8B6C-4E66-83BC-A09FB4D5B1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Sched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1: OTcl-based simu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damentals: wired and wireless wor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porting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2: C++ and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inter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544-342E-4850-BCE2-C30E3E9EC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s from approximat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00 institut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0 count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e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odic releases (currently 2.1b6, Jan 200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ightly snapshots (probably compiles and works, but “unst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ilable from: USC/ISI, UC Berkeley, UK mirr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228-10E2-4676-BF75-B154E9DBFF4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ality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int-to-point link, 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/multicast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bile 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ing, visualization, various 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B33-11BB-40D2-94E9-59A485960A9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goals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minar sche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3DE-D518-44A1-97B9-F7BE89ACB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NT: Virtual InterNet Test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collabora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imulation platfo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de common reference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mote sha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suite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crease confidence in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nded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duc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2AC-3B4E-4B3E-A9C8-D5836925B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-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d and wirel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91E-C4DD-4F87-AED5-34BC7D851F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bia N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B RE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0K lines of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0K lines of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K lines of test su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K lines of docu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03E-9225-44A7-8A29-00E51E7B9E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tfo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NIX and UNIX-like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BSD or *BS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n Solar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Symbol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P, SG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95/98/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 work, some does n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Emulation only for FreeBSD for now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C5F-7556-47F9-A252-2D7EFAF60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ed Re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7841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serv/diffser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gest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A97-8F06-4C50-A8E5-532179360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tting the pie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TK 8.x (8.0.5 preferred)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dev.scriptics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, TclCL, ns-2, nam-1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://www.isi.edu/nsnam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-debug, GT-ITM, xgraph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B4D-D0F9-4570-AB9C-205953A06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ns-2 build questio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ns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users@isi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previously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ns-users@mash.cs.berkeley.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-users-request@isi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cribe ns-users” in b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ve: http://www.isi.edu/nsnam/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FF2-9D28-47ED-9550-6241E3FB38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7T16:47:47Z</dcterms:modified>
  <cp:revision>643</cp:revision>
  <dc:subject/>
  <dc:title>ns-2 tutorial for IEC'00 workshop</dc:title>
</cp:coreProperties>
</file>