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C94ACD-1F98-49B2-8104-530FA31C52C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to use tap agents: incompatible ns/IP addr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eal network: encap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al network: decap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implification: we do not show how ARP cache is don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Mb, 10ms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95 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y line: advertised 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line: highest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B4D-B5DE-4EEA-BEF0-9D5CBC3D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4AA-0890-40F6-817C-92A48E6E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80A-55C6-45FF-9DE6-B64ED996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B8E-92F2-4ED6-AAD2-1D3098D3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D98C-D63D-4CC5-A403-36C16434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A3E4-67E2-4C3C-977B-2471A02F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F017-BBDA-4F58-BE0E-39A7AE5B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025B-A1EF-43EA-9F8E-39B53B36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E73A-40B7-4A73-80A2-98395425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DFE5-9B58-4077-8E2C-C8EB1998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D46D-6227-4536-9FEF-B9D1ED2A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8B7-5FD4-45A1-B1A4-628F4BD1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C23C-5261-4E54-85E9-82311327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2237-59FD-4E9C-A3C3-AB89DEDF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311B-CAC2-4D4D-8C0C-589F4623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9A9E-68E2-412F-8BA6-20CE6A3E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5E41-AB45-4334-BED9-15D4C235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7A0-0FCE-4638-8C8A-C34EB0FC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35D-D09F-4300-AD21-865D3234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946-14E5-48F9-B958-BD177AB5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917-069C-4536-AF76-75A462E2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728-186E-486F-921D-48CC123B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A3F-1CF2-4770-AEDD-84867E37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F22A-59D5-4D9F-82C3-D71329DC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4E20-D6C8-48E4-8F92-C19EF41146B4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12E8-DD2E-4282-8262-4215AEBCF43F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DC59-F7AA-41C8-85A4-13AD8B6842F6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5788-DC92-4937-AC9E-7758DA4E5A1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C:\research\vint\nam-1.0a9\nam.exe &quot;C:/research/slides/vint/DSDV.nam&quot;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xpect.nist.gov/tcl-debu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si.edu/nsnam/ns/ns-topogen.html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c:\research\vint\nam-1.0a9\nam &quot;C:/research/slides/vint/ts26.nam&quot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: Fundamentals (con’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636D-C61A-437F-859B-D1237D1711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5200" y="1730520"/>
            <a:ext cx="8308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Courier New"/>
              </a:rPr>
              <a:t># </a:t>
            </a: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Define node movement mode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ource movement-scenario-file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Define traffic mod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ource traffic-scenario-fi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0D8-0A6B-444A-9AE1-6E884E5ED2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enario Generator: Mov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bile Movement Gener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dest -n &lt;num_of_nodes&gt; -p pausetime -s &lt;maxspeed&gt; -t &lt;simtime&gt; -x &lt;maxx&gt; -y &lt;maxy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andom mov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ode sta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: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ns-2/indep-utils/cmu-scen-gen/setdest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9CF4-9A10-4950-8765-219BFDAD34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Movement Fi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2) set Z_ 0.00000000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2) set Y_ 199.37330681680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2) set X_ 591.25656009383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1) set Z_ 0.00000000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1) set Y_ 345.35773177920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1) set X_ 257.04629832315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0) set Z_ 0.00000000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0) set Y_ 239.43800983126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0) set X_ 83.36441841624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50.000000000000 "$node_(2) setdest 369.463244915743 170.519203111152 3.371785899154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51.000000000000 "$node_(1) setdest 221.826585497093 80.855495003839 14.909259208114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33.000000000000 "$node_(0) setdest 89.663708107313 283.494644426442 19.153832288917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4D8-F03F-4D9C-BE8A-549604CC05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enario Generator: Traffi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enerating traffic pattern fi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BR traff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ns cbrgen.tcl [-type cbf|tcp] [-nn nodes] [-seed seed] [-mc connections] [-rate rat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 traff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ns tcpgen.tcl [-nn nodes] [-seed seed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ource: </a:t>
            </a: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ns-2/indep-utils/cmu-scen-gen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1D6-BA9C-44B2-92C3-772128DFF5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Traffic Scen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t udp_(0) [new Agent/UDP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tach-agent $node_(0) $udp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t null_(0) [new Agent/Null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tach-agent $node_(2) $null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t cbr_(0) [new Application/Traffic/CBR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packetSize_ 51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interval_ 4.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random_ 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maxpkts_ 1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attach-agent $udp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connect $udp_(0) $null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127.93667922166023 "$cbr_(0) start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……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EF0-F4F1-4316-9155-9258A385C7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5200" y="1730520"/>
            <a:ext cx="83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Define node initial position in na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for {set i 0} {$i &lt; 3 } { incr i}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initial_node_position $node($i) 2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Tell ns/nam the simulation stop tim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200.0 “$ns nam-end-wireless 200.0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200.0 “$ns halt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Start your simulation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EAB-2A61-4606-B931-399E968E63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ergy Exten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is energy-a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node by adding new option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_ node-config \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–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energyModel EnergyMod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-initialEnergy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100.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-txPower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0.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-rxPower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0.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4531-0091-4CDF-82DC-FCDB4AAB22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Visual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nam to visualiz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bile node pos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bile node moving direction and spe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ergy consumption at nodes (color keye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650-A939-4410-BA12-987C4F6558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Visual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l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namtrace-all $f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t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namtrace-all-wireless $f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t the end of simulation, 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nam-end-wireless [$ns now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e an example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">
            <a:hlinkClick r:id="rId3"/>
          </p:cNvPr>
          <p:cNvSpPr/>
          <p:nvPr/>
        </p:nvSpPr>
        <p:spPr>
          <a:xfrm>
            <a:off x="4643280" y="534816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7301"/>
                </a:moveTo>
                <a:lnTo>
                  <a:pt x="17300" y="7301"/>
                </a:lnTo>
                <a:lnTo>
                  <a:pt x="17683" y="7667"/>
                </a:lnTo>
                <a:lnTo>
                  <a:pt x="26892" y="7667"/>
                </a:lnTo>
                <a:lnTo>
                  <a:pt x="27449" y="8224"/>
                </a:lnTo>
                <a:lnTo>
                  <a:pt x="27449" y="8772"/>
                </a:lnTo>
                <a:lnTo>
                  <a:pt x="29294" y="8772"/>
                </a:lnTo>
                <a:lnTo>
                  <a:pt x="29660" y="8224"/>
                </a:lnTo>
                <a:lnTo>
                  <a:pt x="30399" y="8224"/>
                </a:lnTo>
                <a:lnTo>
                  <a:pt x="30399" y="13376"/>
                </a:lnTo>
                <a:lnTo>
                  <a:pt x="29660" y="13376"/>
                </a:lnTo>
                <a:lnTo>
                  <a:pt x="29294" y="12828"/>
                </a:lnTo>
                <a:lnTo>
                  <a:pt x="27449" y="12828"/>
                </a:lnTo>
                <a:lnTo>
                  <a:pt x="27449" y="14107"/>
                </a:lnTo>
                <a:lnTo>
                  <a:pt x="17866" y="14107"/>
                </a:lnTo>
                <a:lnTo>
                  <a:pt x="17866" y="9877"/>
                </a:lnTo>
                <a:lnTo>
                  <a:pt x="17683" y="9877"/>
                </a:lnTo>
                <a:lnTo>
                  <a:pt x="17300" y="10243"/>
                </a:lnTo>
                <a:lnTo>
                  <a:pt x="16386" y="10243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A7F-A4F6-4F54-B09B-E6FDB0F6B28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c Layer: IEEE 802.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ress Resolution Protocol (ARP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 hoc routing protocols: DSDV, DSR,TORA, AODV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dio Propagation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iss-space attenuation at near distan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wo ray ground at far distan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tenna: an omni-directional antenna having unity ga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E9B2-4CD2-40FC-AD25-810C7CCC1F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ssenti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im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E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0A6-4DAC-411A-AC4E-EAAAC0A7E3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ergy consumption model for sensor net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ization of node movement, reachability, and ener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idation test sui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D53-7534-4B69-A765-AFB58590DF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d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M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C Berkele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n Microsystem In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C/I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C6B-54AB-4AA8-ACBC-1D40FE9882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Brief on Satellite Network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veloped by Tom Henderson (UCB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pported mode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eostationary satellites: bent-pipe and processing-paylo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w-Earth-Orbit satelli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: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tcl/ex/sat-*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ch in-develop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57A0-4E69-4A92-8F29-C70230D98D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Brief on MobileIP Suppor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ed by Su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re a different Node structure than the MobileN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-exists with wired world in 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ndard MobileI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e Agent, Foreign Agent, MobileHosts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ns/tcl/ex/wired-cum-wireless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7AA1-D721-41BD-9E23-22591F9591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ssenti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im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D25-60FF-475F-BF65-566695D122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ulation in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mulator </a:t>
            </a:r>
            <a:r>
              <a:rPr b="0" lang="en-U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real networ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ject received packets into simul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mit packets on to live net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ject real implementations to controlled conditions in the si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ject simulations to real-world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Currently only works on FreeBS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BCF-E8A6-46B7-9727-654F14F46E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Environ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429000"/>
            <a:ext cx="1752480" cy="1752480"/>
          </a:xfrm>
          <a:prstGeom prst="octagon">
            <a:avLst>
              <a:gd name="adj" fmla="val 29287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mul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ch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2743200"/>
            <a:ext cx="2362320" cy="2590920"/>
          </a:xfrm>
          <a:prstGeom prst="irregularSeal2">
            <a:avLst/>
          </a:pr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d882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32480" y="3976560"/>
            <a:ext cx="1828800" cy="1219320"/>
          </a:xfrm>
          <a:prstGeom prst="rect">
            <a:avLst/>
          </a:prstGeom>
          <a:solidFill>
            <a:srgbClr val="b2b2b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ch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88" idx="3"/>
            <a:endCxn id="290" idx="1"/>
          </p:cNvCxnSpPr>
          <p:nvPr/>
        </p:nvCxnSpPr>
        <p:spPr>
          <a:xfrm>
            <a:off x="5486400" y="4304880"/>
            <a:ext cx="946800" cy="28188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cap="sq" w="12600">
            <a:solidFill>
              <a:srgbClr val="40458c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292" name=""/>
          <p:cNvCxnSpPr>
            <a:stCxn id="289" idx="3"/>
            <a:endCxn id="288" idx="1"/>
          </p:cNvCxnSpPr>
          <p:nvPr/>
        </p:nvCxnSpPr>
        <p:spPr>
          <a:xfrm>
            <a:off x="3276720" y="3539880"/>
            <a:ext cx="457920" cy="765720"/>
          </a:xfrm>
          <a:prstGeom prst="bentConnector3">
            <a:avLst>
              <a:gd name="adj1" fmla="val 49960"/>
            </a:avLst>
          </a:prstGeom>
          <a:ln cap="sq" w="12600">
            <a:solidFill>
              <a:srgbClr val="40458c"/>
            </a:solidFill>
            <a:miter/>
            <a:headEnd len="sm" type="triangle" w="sm"/>
            <a:tailEnd len="sm" type="triangle" w="sm"/>
          </a:ln>
        </p:spPr>
      </p:cxnSp>
      <p:sp>
        <p:nvSpPr>
          <p:cNvPr id="293" name=""/>
          <p:cNvSpPr/>
          <p:nvPr/>
        </p:nvSpPr>
        <p:spPr>
          <a:xfrm>
            <a:off x="5405400" y="2295360"/>
            <a:ext cx="255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HCP for address/rou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62360" y="3124080"/>
            <a:ext cx="533160" cy="99072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02280" y="180972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xy ARP f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 Mach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81280" y="2590920"/>
            <a:ext cx="76320" cy="114300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57040" y="4893840"/>
            <a:ext cx="7599600" cy="1222920"/>
            <a:chOff x="257040" y="4893840"/>
            <a:chExt cx="7599600" cy="1222920"/>
          </a:xfrm>
        </p:grpSpPr>
        <p:sp>
          <p:nvSpPr>
            <p:cNvPr id="298" name=""/>
            <p:cNvSpPr/>
            <p:nvPr/>
          </p:nvSpPr>
          <p:spPr>
            <a:xfrm>
              <a:off x="257040" y="5122800"/>
              <a:ext cx="955800" cy="6843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web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server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981000" y="4893840"/>
              <a:ext cx="243000" cy="2286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32440" y="5607000"/>
              <a:ext cx="1024200" cy="5097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browser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01" name=""/>
            <p:cNvCxnSpPr>
              <a:stCxn id="300" idx="0"/>
              <a:endCxn id="290" idx="2"/>
            </p:cNvCxnSpPr>
            <p:nvPr/>
          </p:nvCxnSpPr>
          <p:spPr>
            <a:xfrm flipV="1">
              <a:off x="7345440" y="5195520"/>
              <a:ext cx="2160" cy="4118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sp>
        <p:nvSpPr>
          <p:cNvPr id="302" name=""/>
          <p:cNvSpPr/>
          <p:nvPr/>
        </p:nvSpPr>
        <p:spPr>
          <a:xfrm>
            <a:off x="7140600" y="52592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30800" y="46274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00600" y="44258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2200" y="36050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357840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357840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94000" y="39956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0800" y="36464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7000" y="42782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19200" y="44798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87400" y="47354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73E-7B7D-49E0-819B-26A8531431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39800" y="5486400"/>
            <a:ext cx="7597800" cy="0"/>
          </a:xfrm>
          <a:prstGeom prst="line">
            <a:avLst/>
          </a:prstGeom>
          <a:ln w="381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708280" y="5270040"/>
            <a:ext cx="1992600" cy="1150920"/>
            <a:chOff x="2708280" y="5270040"/>
            <a:chExt cx="1992600" cy="1150920"/>
          </a:xfrm>
        </p:grpSpPr>
        <p:sp>
          <p:nvSpPr>
            <p:cNvPr id="315" name=""/>
            <p:cNvSpPr/>
            <p:nvPr/>
          </p:nvSpPr>
          <p:spPr>
            <a:xfrm>
              <a:off x="2708280" y="5961240"/>
              <a:ext cx="199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real networ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16" name=""/>
            <p:cNvCxnSpPr>
              <a:stCxn id="317" idx="2"/>
              <a:endCxn id="315" idx="0"/>
            </p:cNvCxnSpPr>
            <p:nvPr/>
          </p:nvCxnSpPr>
          <p:spPr>
            <a:xfrm flipH="1">
              <a:off x="3704400" y="5270040"/>
              <a:ext cx="3960" cy="691560"/>
            </a:xfrm>
            <a:prstGeom prst="straightConnector1">
              <a:avLst/>
            </a:prstGeom>
            <a:ln w="38160">
              <a:solidFill>
                <a:srgbClr val="ff505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ulation Mach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612800" y="1841400"/>
            <a:ext cx="4191120" cy="3429000"/>
          </a:xfrm>
          <a:prstGeom prst="octagon">
            <a:avLst>
              <a:gd name="adj" fmla="val 29287"/>
            </a:avLst>
          </a:prstGeom>
          <a:solidFill>
            <a:srgbClr val="993366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12800" y="3898800"/>
            <a:ext cx="4191120" cy="0"/>
          </a:xfrm>
          <a:prstGeom prst="line">
            <a:avLst/>
          </a:prstGeom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603520" y="3898800"/>
            <a:ext cx="0" cy="1371600"/>
          </a:xfrm>
          <a:prstGeom prst="line">
            <a:avLst/>
          </a:prstGeom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813200" y="3898800"/>
            <a:ext cx="0" cy="1371600"/>
          </a:xfrm>
          <a:prstGeom prst="line">
            <a:avLst/>
          </a:prstGeom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65440" y="40514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P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49960" y="40435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BP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5960" y="400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4040" y="40435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BP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7120" y="43480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Tahoma"/>
              </a:rPr>
              <a:t>RAW 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82800" y="2187720"/>
            <a:ext cx="1905120" cy="121896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46320" y="2527200"/>
            <a:ext cx="533520" cy="1295640"/>
          </a:xfrm>
          <a:custGeom>
            <a:avLst/>
            <a:gdLst>
              <a:gd name="textAreaLeft" fmla="*/ 0 w 533520"/>
              <a:gd name="textAreaRight" fmla="*/ 533880 w 5335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9966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65640" y="344160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736520" y="2527200"/>
            <a:ext cx="533160" cy="129564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9966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15280" y="258444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mula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983200" y="3898800"/>
            <a:ext cx="1600200" cy="1371600"/>
            <a:chOff x="5983200" y="3898800"/>
            <a:chExt cx="1600200" cy="1371600"/>
          </a:xfrm>
        </p:grpSpPr>
        <p:sp>
          <p:nvSpPr>
            <p:cNvPr id="333" name=""/>
            <p:cNvSpPr/>
            <p:nvPr/>
          </p:nvSpPr>
          <p:spPr>
            <a:xfrm>
              <a:off x="5983200" y="3898800"/>
              <a:ext cx="149400" cy="1371600"/>
            </a:xfrm>
            <a:custGeom>
              <a:avLst/>
              <a:gdLst>
                <a:gd name="textAreaLeft" fmla="*/ 0 w 149400"/>
                <a:gd name="textAreaRight" fmla="*/ 54000 w 1494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75800" y="4170240"/>
              <a:ext cx="140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bject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002200" y="5435640"/>
            <a:ext cx="2173320" cy="713880"/>
            <a:chOff x="5002200" y="5435640"/>
            <a:chExt cx="2173320" cy="713880"/>
          </a:xfrm>
        </p:grpSpPr>
        <p:sp>
          <p:nvSpPr>
            <p:cNvPr id="336" name=""/>
            <p:cNvSpPr/>
            <p:nvPr/>
          </p:nvSpPr>
          <p:spPr>
            <a:xfrm>
              <a:off x="5002200" y="5435640"/>
              <a:ext cx="2097000" cy="498600"/>
            </a:xfrm>
            <a:prstGeom prst="wedgeRoundRectCallout">
              <a:avLst>
                <a:gd name="adj1" fmla="val -45004"/>
                <a:gd name="adj2" fmla="val -177069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0640" y="5506920"/>
              <a:ext cx="214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Network/Pcap/Liv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131840" y="5381640"/>
            <a:ext cx="1625760" cy="713880"/>
            <a:chOff x="1131840" y="5381640"/>
            <a:chExt cx="1625760" cy="713880"/>
          </a:xfrm>
        </p:grpSpPr>
        <p:sp>
          <p:nvSpPr>
            <p:cNvPr id="339" name=""/>
            <p:cNvSpPr/>
            <p:nvPr/>
          </p:nvSpPr>
          <p:spPr>
            <a:xfrm>
              <a:off x="1131840" y="5381640"/>
              <a:ext cx="1625760" cy="498600"/>
            </a:xfrm>
            <a:prstGeom prst="wedgeRoundRectCallout">
              <a:avLst>
                <a:gd name="adj1" fmla="val 58787"/>
                <a:gd name="adj2" fmla="val -106689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79440" y="5452920"/>
              <a:ext cx="139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Network/I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024600" y="2836800"/>
            <a:ext cx="1874880" cy="1022400"/>
            <a:chOff x="6024600" y="2836800"/>
            <a:chExt cx="1874880" cy="1022400"/>
          </a:xfrm>
        </p:grpSpPr>
        <p:sp>
          <p:nvSpPr>
            <p:cNvPr id="342" name=""/>
            <p:cNvSpPr/>
            <p:nvPr/>
          </p:nvSpPr>
          <p:spPr>
            <a:xfrm>
              <a:off x="6024600" y="2836800"/>
              <a:ext cx="88920" cy="102240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26640 h 1022400"/>
                <a:gd name="textAreaBottom" fmla="*/ 995760 h 10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25120" y="3054240"/>
              <a:ext cx="167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Agent/Ta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356000" y="1600200"/>
            <a:ext cx="2329560" cy="523800"/>
            <a:chOff x="4356000" y="1600200"/>
            <a:chExt cx="2329560" cy="523800"/>
          </a:xfrm>
        </p:grpSpPr>
        <p:sp>
          <p:nvSpPr>
            <p:cNvPr id="345" name=""/>
            <p:cNvSpPr/>
            <p:nvPr/>
          </p:nvSpPr>
          <p:spPr>
            <a:xfrm>
              <a:off x="4356000" y="1600200"/>
              <a:ext cx="2286000" cy="523800"/>
            </a:xfrm>
            <a:prstGeom prst="wedgeRoundRectCallout">
              <a:avLst>
                <a:gd name="adj1" fmla="val -52569"/>
                <a:gd name="adj2" fmla="val 100606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60680" y="1676520"/>
              <a:ext cx="232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cheduler/RealTim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7601040" y="50054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89520" y="547704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orl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1A9C-E7C7-4DB0-AF13-F31D84E011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altime Schedu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ded from Scheduler/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nchronizes simulation time to real ti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ails when simulation time falls behin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use-scheduler Real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353-49C5-413C-93D5-F372FA67F7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 of real traffic source/sin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e class for various network typ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ened read-only, write-only, or read-wr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w IP and UDP/IP network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d/receive raw IP packets or UDP/I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P multicast supp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cap network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d/receive link-layer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 BPF/libpcap filtering langua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4D7-4A62-4FFA-9366-8E11F7E71D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less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 hoc 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bile I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Satellite networ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551-74DD-4A53-877E-03C668A125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p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332000" y="4208400"/>
            <a:ext cx="1666800" cy="768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30200" y="2217600"/>
            <a:ext cx="1667160" cy="76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97360" y="2583000"/>
            <a:ext cx="5497200" cy="0"/>
          </a:xfrm>
          <a:prstGeom prst="line">
            <a:avLst/>
          </a:prstGeom>
          <a:ln w="284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98760" y="201924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 packets:  to/from other nod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79480" y="1816200"/>
            <a:ext cx="7840800" cy="352404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77400" y="48704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83000" y="312120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r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83000" y="352584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83000" y="392904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83000" y="433224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serd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378400" y="3308400"/>
            <a:ext cx="1074960" cy="11844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53360" y="3308400"/>
            <a:ext cx="1169640" cy="1882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ylo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82640" y="2570040"/>
            <a:ext cx="995760" cy="550800"/>
            <a:chOff x="4382640" y="2570040"/>
            <a:chExt cx="995760" cy="550800"/>
          </a:xfrm>
        </p:grpSpPr>
        <p:sp>
          <p:nvSpPr>
            <p:cNvPr id="367" name=""/>
            <p:cNvSpPr/>
            <p:nvPr/>
          </p:nvSpPr>
          <p:spPr>
            <a:xfrm flipH="1">
              <a:off x="4382640" y="2582640"/>
              <a:ext cx="484200" cy="538200"/>
            </a:xfrm>
            <a:prstGeom prst="line">
              <a:avLst/>
            </a:prstGeom>
            <a:ln w="936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79800" y="2570040"/>
              <a:ext cx="498600" cy="550800"/>
            </a:xfrm>
            <a:prstGeom prst="line">
              <a:avLst/>
            </a:prstGeom>
            <a:ln w="936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162080" y="583884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al networ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55" idx="2"/>
            <a:endCxn id="354" idx="0"/>
          </p:cNvCxnSpPr>
          <p:nvPr/>
        </p:nvCxnSpPr>
        <p:spPr>
          <a:xfrm>
            <a:off x="2163240" y="2985840"/>
            <a:ext cx="2520" cy="12229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1" name=""/>
          <p:cNvCxnSpPr>
            <a:stCxn id="354" idx="2"/>
            <a:endCxn id="369" idx="0"/>
          </p:cNvCxnSpPr>
          <p:nvPr/>
        </p:nvCxnSpPr>
        <p:spPr>
          <a:xfrm flipH="1">
            <a:off x="2158560" y="4976280"/>
            <a:ext cx="7200" cy="862920"/>
          </a:xfrm>
          <a:prstGeom prst="straightConnector1">
            <a:avLst/>
          </a:prstGeom>
          <a:ln w="381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2153520" y="335772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P/UD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acke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DE6-40F8-4880-86F0-2F3F4A1A19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ulation Mo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tocol m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mulator interpret/generate live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isting agents: ICMP ECHO, ICMP Redirect, ARP, TCP N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paque m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mulator does not interpret network da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erations: packet drop/reordering/delay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BFD-155E-427B-ACB6-649F0BF30A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6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tocol Mode: Ping Respon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436440" y="35496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688560" y="22050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688560" y="501804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6" idx="6"/>
            <a:endCxn id="377" idx="3"/>
          </p:cNvCxnSpPr>
          <p:nvPr/>
        </p:nvCxnSpPr>
        <p:spPr>
          <a:xfrm flipH="1" flipV="1">
            <a:off x="4149000" y="2663280"/>
            <a:ext cx="2289960" cy="11545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0" name=""/>
          <p:cNvCxnSpPr>
            <a:stCxn id="376" idx="6"/>
            <a:endCxn id="378" idx="1"/>
          </p:cNvCxnSpPr>
          <p:nvPr/>
        </p:nvCxnSpPr>
        <p:spPr>
          <a:xfrm flipH="1">
            <a:off x="4149000" y="3817800"/>
            <a:ext cx="2289960" cy="1278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81" name=""/>
          <p:cNvSpPr/>
          <p:nvPr/>
        </p:nvSpPr>
        <p:spPr>
          <a:xfrm flipH="1">
            <a:off x="4862520" y="4637160"/>
            <a:ext cx="169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0Mb, 100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862520" y="2765520"/>
            <a:ext cx="169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0Mb, 100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68880" y="34257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CMP ECH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pond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0440" y="1717560"/>
            <a:ext cx="135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put tap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76440" y="5119560"/>
            <a:ext cx="155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utput tap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2247840" y="2487240"/>
            <a:ext cx="1436760" cy="127620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2233080" y="3793680"/>
            <a:ext cx="1451160" cy="14893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44400" y="3376440"/>
            <a:ext cx="102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a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ffi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3400" y="3402000"/>
            <a:ext cx="1413000" cy="7668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al P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10000" y="1666800"/>
            <a:ext cx="5164200" cy="4384800"/>
          </a:xfrm>
          <a:prstGeom prst="rect">
            <a:avLst/>
          </a:prstGeom>
          <a:noFill/>
          <a:ln w="93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97840" y="55562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F45-A9F6-42DB-B862-E50348EE6F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ge se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Create simula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use-scheduler RealTi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Emulator addres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me [exec hostnam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Or an arbitrary one (may require ARP suppo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et me “10.11.12.13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79A-242E-491A-A58F-4E854A352D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I/O network 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Packet inpu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bpf0 [new Network/Pcap/Liv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bpf0 set promisc_ tru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d0 [$bpf0 open readonly fxp0]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filt “(not ip host $me)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bpf0 filter $fil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Packet outpu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ipnet [new Network/I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ipnet open writeon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240-7F7E-421B-B9A6-37C4596E64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g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Input 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pfa [new Agent/Ta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pfa network $bpf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Output 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ipa [new Agent/Ta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ipa network $ipn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ICMP ECHO 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echoagent [new Agent/PingResponde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E5B-D8AB-41CB-A9A2-9A88C93E48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network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0 [$ns nod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1 [$ns nod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2 [$ns nod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link $n0 $n2 100Mb 1000ms DropTa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link $n2 $n1 100Mb 1000ms DropTa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0 $pf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1 $ip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2 $echo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connect $pfa $echo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connect $ipa $echo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F04-D8F0-4F0C-AF2E-E5BD1173124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# Wait for ping to come in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000.052ms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± 1.021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10C-CF3C-4945-8333-D5328C8437B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foob" descr=""/>
          <p:cNvPicPr/>
          <p:nvPr/>
        </p:nvPicPr>
        <p:blipFill>
          <a:blip r:embed="rId1"/>
          <a:stretch/>
        </p:blipFill>
        <p:spPr>
          <a:xfrm>
            <a:off x="950760" y="1789200"/>
            <a:ext cx="7705800" cy="45482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aque Mode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(TCP: 10 packet periodic drop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295720" y="44625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ropped SY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703240" y="4938840"/>
            <a:ext cx="152280" cy="45720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3320" y="35434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CK of SYN+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84920" y="476712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transmitte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59520" y="5297400"/>
            <a:ext cx="1143000" cy="38124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67440" y="3903840"/>
            <a:ext cx="1353960" cy="150156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72480" y="2556000"/>
            <a:ext cx="6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Los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2819520"/>
            <a:ext cx="1806480" cy="46188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2979720"/>
            <a:ext cx="1076400" cy="160992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AD1-5581-47CC-B6EE-8F7344C26B7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e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~ns/emulat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 scrip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tocol mode: ~ns/emulate/empaper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aque mode: ~ns/emulate/em3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B7F-4E55-43CD-A01C-363EB582A8E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 Hoc Routing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ahoma"/>
              </a:rPr>
              <a:t>–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An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Scenari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 mobile no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ving within 670mX670m flat topolog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ing DSDV ad hoc routing protoc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ndom Waypoint mobility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P and CBR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ns-2/tcl/ex/wireless-demo-csci694.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192-EB7D-4216-8522-8673BCA598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ssenti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im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E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49A-46E1-45FE-ADD3-8D4C44694EC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til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 debugg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 gene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enario gene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cache trace conver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E8C-990A-4E33-84DA-01C8841FF33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Your ns Scrip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-debug 1.9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expect.nist.gov/tcl-debug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orks with Tcl 8.0.4 and bel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stal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make distclean] in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/configure --with-tcldebug=&lt;dir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8166-424C-4B98-8F99-4A80B53CD95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Your ns Scrip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ing tcl-debu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sert “debug 1” into your scripts, e.g.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ebug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tcp set window_ 20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n “debug 1” is executed, ns drops t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vint/ns-2(121): ./ns t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2: lappend auto_path $dbg_libra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bg2.0&gt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195-3764-43EB-89B6-6505553B50B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Your ns Scrip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622160"/>
            <a:ext cx="7772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dbg2.0&gt; h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s [#]           step into procedur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n [#]           step over procedur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N [#]           step over procedures, commands, and argume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c               continu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r               continue until return to calle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u [#]           move scope up leve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d [#]           move scope down leve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go to absolute frame if # is prefaced by "#"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w               show stack ("where")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w -w [#]        show/set width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w -c [0|1]      show/set compres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              show breakpoi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[-r regexp-pattern] [if expr] [then command]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[-g glob-pattern]   [if expr] [then command]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[[file:]#]          [if expr] [then command]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pattern given, break if command resembles pattern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# given, break on line #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expr given, break if expr tru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command given, execute command at breakpoi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-#            delete breakpoi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-             delete all breakpoi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CE8-309A-47FE-A9AF-15A7FFF8273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opology Gener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isi.edu/nsnam/ns/ns-topogen.htm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181160" y="3059280"/>
          <a:ext cx="7378560" cy="3420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3059280"/>
                    <a:ext cx="7378560" cy="34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003-6231-4C5F-B6CE-9AE6A4E394B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all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es with ns-allin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re Knuth’s cweb and SG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tm &lt;config_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e graph mod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lat random: Waxm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-level hierarc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it-stu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3D0-3DCB-4AA4-BF5C-ED129CF8EC6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: Transit-Stub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585800" y="2835360"/>
            <a:ext cx="2286000" cy="10764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67560" y="2622600"/>
            <a:ext cx="1722240" cy="10350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00400" y="2932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78200" y="29988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70040" y="35370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35800" y="27558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01840" y="34686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65240" y="34434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3000" y="3094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32440" y="328284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34" idx="3"/>
            <a:endCxn id="439" idx="7"/>
          </p:cNvCxnSpPr>
          <p:nvPr/>
        </p:nvCxnSpPr>
        <p:spPr>
          <a:xfrm flipH="1">
            <a:off x="2147400" y="3127320"/>
            <a:ext cx="185040" cy="34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3" name=""/>
          <p:cNvCxnSpPr>
            <a:stCxn id="439" idx="7"/>
            <a:endCxn id="436" idx="1"/>
          </p:cNvCxnSpPr>
          <p:nvPr/>
        </p:nvCxnSpPr>
        <p:spPr>
          <a:xfrm>
            <a:off x="2147760" y="3476520"/>
            <a:ext cx="455040" cy="94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4" name=""/>
          <p:cNvCxnSpPr>
            <a:stCxn id="434" idx="5"/>
            <a:endCxn id="435" idx="3"/>
          </p:cNvCxnSpPr>
          <p:nvPr/>
        </p:nvCxnSpPr>
        <p:spPr>
          <a:xfrm>
            <a:off x="2482920" y="3126960"/>
            <a:ext cx="427680" cy="67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5" name=""/>
          <p:cNvCxnSpPr>
            <a:stCxn id="436" idx="0"/>
            <a:endCxn id="435" idx="3"/>
          </p:cNvCxnSpPr>
          <p:nvPr/>
        </p:nvCxnSpPr>
        <p:spPr>
          <a:xfrm flipV="1">
            <a:off x="2678040" y="3193200"/>
            <a:ext cx="232560" cy="343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6" name=""/>
          <p:cNvCxnSpPr>
            <a:stCxn id="438" idx="2"/>
            <a:endCxn id="436" idx="0"/>
          </p:cNvCxnSpPr>
          <p:nvPr/>
        </p:nvCxnSpPr>
        <p:spPr>
          <a:xfrm flipH="1" flipV="1">
            <a:off x="2677680" y="3536640"/>
            <a:ext cx="524160" cy="46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7" name=""/>
          <p:cNvCxnSpPr>
            <a:stCxn id="435" idx="5"/>
            <a:endCxn id="438" idx="1"/>
          </p:cNvCxnSpPr>
          <p:nvPr/>
        </p:nvCxnSpPr>
        <p:spPr>
          <a:xfrm>
            <a:off x="3060360" y="3193920"/>
            <a:ext cx="17388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8" name=""/>
          <p:cNvCxnSpPr>
            <a:stCxn id="440" idx="6"/>
            <a:endCxn id="441" idx="1"/>
          </p:cNvCxnSpPr>
          <p:nvPr/>
        </p:nvCxnSpPr>
        <p:spPr>
          <a:xfrm>
            <a:off x="6307200" y="3208320"/>
            <a:ext cx="558000" cy="108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9" name=""/>
          <p:cNvCxnSpPr>
            <a:stCxn id="440" idx="6"/>
            <a:endCxn id="437" idx="3"/>
          </p:cNvCxnSpPr>
          <p:nvPr/>
        </p:nvCxnSpPr>
        <p:spPr>
          <a:xfrm flipV="1">
            <a:off x="6306840" y="2950920"/>
            <a:ext cx="261000" cy="2577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50" name=""/>
          <p:cNvCxnSpPr>
            <a:stCxn id="437" idx="5"/>
            <a:endCxn id="441" idx="1"/>
          </p:cNvCxnSpPr>
          <p:nvPr/>
        </p:nvCxnSpPr>
        <p:spPr>
          <a:xfrm>
            <a:off x="6718320" y="2951280"/>
            <a:ext cx="146880" cy="3657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1425600" y="49626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06800" y="4800600"/>
            <a:ext cx="1384200" cy="927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4200" y="3925800"/>
            <a:ext cx="806400" cy="6447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00000" y="19494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94400" y="17496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8200" y="16956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38" idx="6"/>
            <a:endCxn id="440" idx="2"/>
          </p:cNvCxnSpPr>
          <p:nvPr/>
        </p:nvCxnSpPr>
        <p:spPr>
          <a:xfrm flipV="1">
            <a:off x="3416040" y="3207600"/>
            <a:ext cx="2677320" cy="3754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754200" y="4048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19040" y="226044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82640" y="516564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50166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31000" y="1978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67800" y="1897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17840" y="5110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7000" y="5326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6"/>
            <a:endCxn id="461" idx="2"/>
          </p:cNvCxnSpPr>
          <p:nvPr/>
        </p:nvCxnSpPr>
        <p:spPr>
          <a:xfrm flipV="1">
            <a:off x="3632040" y="5130360"/>
            <a:ext cx="364320" cy="94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67" name=""/>
          <p:cNvCxnSpPr>
            <a:stCxn id="461" idx="2"/>
            <a:endCxn id="465" idx="0"/>
          </p:cNvCxnSpPr>
          <p:nvPr/>
        </p:nvCxnSpPr>
        <p:spPr>
          <a:xfrm flipH="1">
            <a:off x="3914280" y="5130360"/>
            <a:ext cx="81360" cy="196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68" name=""/>
          <p:cNvCxnSpPr>
            <a:stCxn id="464" idx="6"/>
            <a:endCxn id="465" idx="0"/>
          </p:cNvCxnSpPr>
          <p:nvPr/>
        </p:nvCxnSpPr>
        <p:spPr>
          <a:xfrm>
            <a:off x="3631680" y="5223960"/>
            <a:ext cx="283320" cy="1026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3510000" y="5338800"/>
            <a:ext cx="54000" cy="214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3213000" y="5137200"/>
            <a:ext cx="216000" cy="39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882800" y="5217840"/>
            <a:ext cx="241200" cy="12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95400" y="5230800"/>
            <a:ext cx="1350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4262400"/>
            <a:ext cx="162000" cy="147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685800" y="4276800"/>
            <a:ext cx="201600" cy="18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1155600" y="2111400"/>
            <a:ext cx="1764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034640" y="2352600"/>
            <a:ext cx="282600" cy="414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07000" y="40212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4400" y="422424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064200" y="4276440"/>
            <a:ext cx="241200" cy="12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76800" y="4289400"/>
            <a:ext cx="1350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926400" y="4599000"/>
            <a:ext cx="1384200" cy="927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815240" y="48150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237440" y="49086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26240" y="51246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3" idx="6"/>
            <a:endCxn id="482" idx="2"/>
          </p:cNvCxnSpPr>
          <p:nvPr/>
        </p:nvCxnSpPr>
        <p:spPr>
          <a:xfrm flipV="1">
            <a:off x="7451640" y="4928760"/>
            <a:ext cx="364320" cy="94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6" name=""/>
          <p:cNvCxnSpPr>
            <a:stCxn id="482" idx="2"/>
            <a:endCxn id="484" idx="0"/>
          </p:cNvCxnSpPr>
          <p:nvPr/>
        </p:nvCxnSpPr>
        <p:spPr>
          <a:xfrm flipH="1">
            <a:off x="7733880" y="4928760"/>
            <a:ext cx="81360" cy="196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7" name=""/>
          <p:cNvCxnSpPr>
            <a:stCxn id="483" idx="6"/>
            <a:endCxn id="484" idx="0"/>
          </p:cNvCxnSpPr>
          <p:nvPr/>
        </p:nvCxnSpPr>
        <p:spPr>
          <a:xfrm>
            <a:off x="7451280" y="5022360"/>
            <a:ext cx="283320" cy="1026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7867800" y="5270400"/>
            <a:ext cx="161640" cy="106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8028000" y="4962600"/>
            <a:ext cx="216000" cy="39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39" idx="3"/>
            <a:endCxn id="458" idx="7"/>
          </p:cNvCxnSpPr>
          <p:nvPr/>
        </p:nvCxnSpPr>
        <p:spPr>
          <a:xfrm flipH="1">
            <a:off x="936000" y="3638520"/>
            <a:ext cx="1060920" cy="4435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1" name=""/>
          <p:cNvCxnSpPr>
            <a:stCxn id="439" idx="3"/>
            <a:endCxn id="460" idx="0"/>
          </p:cNvCxnSpPr>
          <p:nvPr/>
        </p:nvCxnSpPr>
        <p:spPr>
          <a:xfrm flipH="1">
            <a:off x="1789920" y="3638520"/>
            <a:ext cx="207000" cy="1527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2" name=""/>
          <p:cNvCxnSpPr>
            <a:stCxn id="434" idx="1"/>
            <a:endCxn id="459" idx="5"/>
          </p:cNvCxnSpPr>
          <p:nvPr/>
        </p:nvCxnSpPr>
        <p:spPr>
          <a:xfrm flipH="1" flipV="1">
            <a:off x="1501560" y="2455200"/>
            <a:ext cx="830880" cy="510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3" name=""/>
          <p:cNvCxnSpPr>
            <a:stCxn id="436" idx="5"/>
            <a:endCxn id="464" idx="1"/>
          </p:cNvCxnSpPr>
          <p:nvPr/>
        </p:nvCxnSpPr>
        <p:spPr>
          <a:xfrm>
            <a:off x="2752560" y="3731760"/>
            <a:ext cx="697680" cy="14122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2352600" y="17622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10000" y="196524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809800" y="2017440"/>
            <a:ext cx="241200" cy="12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22400" y="2030400"/>
            <a:ext cx="1350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98" name=""/>
          <p:cNvCxnSpPr>
            <a:stCxn id="435" idx="0"/>
            <a:endCxn id="495" idx="4"/>
          </p:cNvCxnSpPr>
          <p:nvPr/>
        </p:nvCxnSpPr>
        <p:spPr>
          <a:xfrm flipH="1" flipV="1">
            <a:off x="2717280" y="2193480"/>
            <a:ext cx="269280" cy="8056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9" name=""/>
          <p:cNvCxnSpPr>
            <a:stCxn id="461" idx="6"/>
            <a:endCxn id="483" idx="2"/>
          </p:cNvCxnSpPr>
          <p:nvPr/>
        </p:nvCxnSpPr>
        <p:spPr>
          <a:xfrm flipV="1">
            <a:off x="4209840" y="5022360"/>
            <a:ext cx="3027960" cy="108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0" name=""/>
          <p:cNvCxnSpPr>
            <a:stCxn id="440" idx="4"/>
            <a:endCxn id="478" idx="0"/>
          </p:cNvCxnSpPr>
          <p:nvPr/>
        </p:nvCxnSpPr>
        <p:spPr>
          <a:xfrm flipH="1">
            <a:off x="5971320" y="3322800"/>
            <a:ext cx="229320" cy="90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1" name=""/>
          <p:cNvCxnSpPr>
            <a:stCxn id="437" idx="0"/>
            <a:endCxn id="462" idx="5"/>
          </p:cNvCxnSpPr>
          <p:nvPr/>
        </p:nvCxnSpPr>
        <p:spPr>
          <a:xfrm flipH="1" flipV="1">
            <a:off x="6112800" y="2172960"/>
            <a:ext cx="531000" cy="583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2" name=""/>
          <p:cNvCxnSpPr>
            <a:stCxn id="437" idx="0"/>
            <a:endCxn id="463" idx="3"/>
          </p:cNvCxnSpPr>
          <p:nvPr/>
        </p:nvCxnSpPr>
        <p:spPr>
          <a:xfrm flipV="1">
            <a:off x="6643800" y="2091600"/>
            <a:ext cx="1256400" cy="664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3" name=""/>
          <p:cNvCxnSpPr>
            <a:stCxn id="441" idx="5"/>
            <a:endCxn id="483" idx="0"/>
          </p:cNvCxnSpPr>
          <p:nvPr/>
        </p:nvCxnSpPr>
        <p:spPr>
          <a:xfrm>
            <a:off x="7014960" y="3477960"/>
            <a:ext cx="330840" cy="1430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4041360" y="5551560"/>
            <a:ext cx="121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ai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76160" y="2336760"/>
            <a:ext cx="121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ai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21109200">
            <a:off x="3944520" y="3441600"/>
            <a:ext cx="19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ransit-transit lin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21545400">
            <a:off x="4832280" y="5041440"/>
            <a:ext cx="19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tub-stub lin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0AC-EF9F-4EF7-82A8-EE2D81050E0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: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it-stub net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fig file (e.g., ts1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&lt;method keyword&gt; &lt;number of graphs&gt; [&lt;initial seed&gt;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&lt;# stubs/trans node&gt; &lt;#rand. t-s edges&gt; &lt;#rand. s-s edges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{&lt;n&gt; &lt;scale&gt; &lt;edgemethod&gt; &lt;alpha&gt; [&lt;beta&gt;] [&lt;gamma&gt;]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(average!) number of nodes = 1x2x(1+3x4) = 2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ts 10 47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10 graphs, init seed 4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3 0 0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2 stubs per transit nod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1 20 3 1.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n. of transit domains (pure random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2 20 3 0.5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n. of nodes per transit doma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4 10 3 0.5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n. nodes in each stub doma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57F-4760-4153-8BA1-E3F4DE3350E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: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itm ts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ult: ts1-{0-9}.g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 files in SGB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7CE-998A-4E07-82E9-CA15849F7A4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5200" y="1717560"/>
            <a:ext cx="796608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# Define Global Variab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create simula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s [new Simulator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create a topology in a 670m x 670m are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topo [new Topography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topo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load_flatgrid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670 67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BB4-E0CC-4F52-B382-29EC2BBE96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verters for GT-IT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gb2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vert SGB format to ns config 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gb2ns &lt;SGB_file&gt; &lt;OTcl_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ts2n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output lists of transit and stub no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gb2hi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vert transit-stub information into hierarchical addres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gb2hierns &lt;SGBFile&gt; &lt;Tcl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051-857A-4314-B853-CFD97CCC3AE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verters for GT-IT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mat of generated ns config 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roc create-topology {nsns node linkBW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up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node 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up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nsns 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nodes, link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...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&lt;OTcl_file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reate-topology ns nodes 1.5M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196-6B60-4E19-8991-B3347BCF4CC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e Your Top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an ns wrapp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Assume you’ve done “sgb2ns ts1-0.gb ts1.tcl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ts1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namtrace-config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[open ts1.nam w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reate-topology ns node 1.5M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0 “exit 0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">
            <a:hlinkClick r:id="rId2"/>
          </p:cNvPr>
          <p:cNvSpPr/>
          <p:nvPr/>
        </p:nvSpPr>
        <p:spPr>
          <a:xfrm>
            <a:off x="7839000" y="5553000"/>
            <a:ext cx="754200" cy="430200"/>
          </a:xfrm>
          <a:custGeom>
            <a:avLst/>
            <a:gdLst>
              <a:gd name="textAreaLeft" fmla="*/ 27720 w 754200"/>
              <a:gd name="textAreaRight" fmla="*/ 726480 w 754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7854" h="21600">
                <a:moveTo>
                  <a:pt x="0" y="0"/>
                </a:moveTo>
                <a:lnTo>
                  <a:pt x="37854" y="0"/>
                </a:lnTo>
                <a:lnTo>
                  <a:pt x="37854" y="21600"/>
                </a:lnTo>
                <a:lnTo>
                  <a:pt x="0" y="21600"/>
                </a:lnTo>
                <a:close/>
              </a:path>
              <a:path fill="lightenLess" w="37854" h="21600">
                <a:moveTo>
                  <a:pt x="0" y="0"/>
                </a:moveTo>
                <a:lnTo>
                  <a:pt x="37854" y="0"/>
                </a:lnTo>
                <a:lnTo>
                  <a:pt x="36454" y="1400"/>
                </a:lnTo>
                <a:lnTo>
                  <a:pt x="1400" y="1400"/>
                </a:lnTo>
                <a:close/>
              </a:path>
              <a:path fill="darken" w="37854" h="21600">
                <a:moveTo>
                  <a:pt x="37854" y="0"/>
                </a:moveTo>
                <a:lnTo>
                  <a:pt x="37854" y="21600"/>
                </a:lnTo>
                <a:lnTo>
                  <a:pt x="36454" y="20200"/>
                </a:lnTo>
                <a:lnTo>
                  <a:pt x="36454" y="1400"/>
                </a:lnTo>
                <a:close/>
              </a:path>
              <a:path fill="darkenLess" w="37854" h="21600">
                <a:moveTo>
                  <a:pt x="37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54" y="20200"/>
                </a:lnTo>
                <a:close/>
              </a:path>
              <a:path fill="lighten" w="37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54" h="21600">
                <a:moveTo>
                  <a:pt x="11921" y="7301"/>
                </a:moveTo>
                <a:lnTo>
                  <a:pt x="12834" y="7301"/>
                </a:lnTo>
                <a:lnTo>
                  <a:pt x="13217" y="7667"/>
                </a:lnTo>
                <a:lnTo>
                  <a:pt x="22426" y="7667"/>
                </a:lnTo>
                <a:lnTo>
                  <a:pt x="22983" y="8224"/>
                </a:lnTo>
                <a:lnTo>
                  <a:pt x="22983" y="8772"/>
                </a:lnTo>
                <a:lnTo>
                  <a:pt x="24828" y="8772"/>
                </a:lnTo>
                <a:lnTo>
                  <a:pt x="25194" y="8224"/>
                </a:lnTo>
                <a:lnTo>
                  <a:pt x="25934" y="8224"/>
                </a:lnTo>
                <a:lnTo>
                  <a:pt x="25934" y="13376"/>
                </a:lnTo>
                <a:lnTo>
                  <a:pt x="25194" y="13376"/>
                </a:lnTo>
                <a:lnTo>
                  <a:pt x="24828" y="12828"/>
                </a:lnTo>
                <a:lnTo>
                  <a:pt x="22983" y="12828"/>
                </a:lnTo>
                <a:lnTo>
                  <a:pt x="22983" y="14107"/>
                </a:lnTo>
                <a:lnTo>
                  <a:pt x="13400" y="14107"/>
                </a:lnTo>
                <a:lnTo>
                  <a:pt x="13400" y="9877"/>
                </a:lnTo>
                <a:lnTo>
                  <a:pt x="13217" y="9877"/>
                </a:lnTo>
                <a:lnTo>
                  <a:pt x="12834" y="10243"/>
                </a:lnTo>
                <a:lnTo>
                  <a:pt x="11921" y="10243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410-69B0-4C0B-9AA6-65FE138DF50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3200" y="1744560"/>
            <a:ext cx="8308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# Define standard ns/nam 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ns 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tracefd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[open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demo.tr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w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trace-all $tracefd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nam 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amtrace [open demo.nam w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namtrace-all-wireless $namtrace 670 67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985-377D-4C18-9529-3C9D70647F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5200" y="1730520"/>
            <a:ext cx="830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Courier New"/>
              </a:rPr>
              <a:t># Create Go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set god [create-god 3]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$ns at 900.00 “$god setdist 2 3 1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345240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Go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store an array of the smallest number of hops required to reach one node to an oth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timal case against which to compare routing protocol perform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matically generated by scenario 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4E1-262C-467F-8AC5-89A3F0E3AF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3200" y="1744560"/>
            <a:ext cx="83088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Define how a mobile node should be create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$ns 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node-config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adhocRouting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DSDV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ll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LL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mac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Mac/802_11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ifqLen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50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ifq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Queue/DropTail/PriQueu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ant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Antenna/OmniAntenna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prop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Propagation/TwoRayGround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phy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Phy/WirelessPhy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channel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Channel/WirelessChannel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topoInstan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$to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agentTra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ON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routerTra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OF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macTra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OFF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1308-46ED-428D-84D9-6728BB150F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5200" y="1730520"/>
            <a:ext cx="83088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reate a mobile node, attach it to the channel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ode(0) [$ns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node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disable random motion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ode(0) random-motion 0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3855600"/>
            <a:ext cx="77724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“for” loop to create 3 nod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for {set i &lt; 0} {$i &lt; 3} {incr i}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ode($i) [$ns nod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0F1-1EC8-4CBB-87C0-0B778D2C30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7-03T16:39:01Z</dcterms:modified>
  <cp:revision>671</cp:revision>
  <dc:subject/>
  <dc:title>ns-2 tutorial for IEC'00 workshop</dc:title>
</cp:coreProperties>
</file>