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927547"/>
        <c:axId val="40048592"/>
      </c:barChart>
      <c:catAx>
        <c:axId val="849275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48592"/>
        <c:crosses val="autoZero"/>
        <c:auto val="1"/>
        <c:lblAlgn val="ctr"/>
        <c:lblOffset val="100"/>
        <c:noMultiLvlLbl val="0"/>
      </c:catAx>
      <c:valAx>
        <c:axId val="400485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275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939B-7CA6-4317-948A-3CE6C3F0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FB6A-76CA-44D4-9238-69DDAC65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0285-E365-4D5C-8162-06BFB3F3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9C44-2C43-49D5-90BF-839456EA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136E-CA0D-4E19-A92C-2B194974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E51C-7A40-4CD8-96CC-956BF22F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D60A-BE59-4F71-80B0-8A76A387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EEF9-65D0-42D5-B31E-30F16DF3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7664-D4FD-4A57-A71A-D69BD962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B5CA-70B6-4B86-8C34-D31511DE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3F4C-35E9-4458-940B-F8025997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F95-1FB5-4F1C-A36A-5F2F41C7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FFCB1-203D-4E07-9A1A-EBFA95D17E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