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93748-E8D3-4251-9C01-8EFBD3E24B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460-3074-4E8B-8956-AC05B7457A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C9D54-7E57-42CF-B7A6-0D11FF5A73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6E487-4D08-4B2B-B1CC-1540A318BE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94A12-E7E9-4B81-8D05-20954E1663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D26D8-957E-4B9F-9560-B57B13B51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911B1-61B3-4907-A2BE-27A1E0EEBC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3D96-04D9-47A6-B286-DE46D45A42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69115-9BB1-40D9-A9F9-5605F702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066E2-A567-4C67-A146-2C45FB543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F203-2F78-4EFB-9103-5B72E2166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E45E1-D6A8-4057-8269-3C4E8FDEE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7BBB5-9DA2-4027-BB3E-B95AE933BA5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VXL  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ision </a:t>
            </a:r>
            <a:r>
              <a:rPr b="0" i="1" lang="en-US" sz="2800" spc="-1" strike="noStrike">
                <a:solidFill>
                  <a:srgbClr val="000000"/>
                </a:solidFill>
                <a:latin typeface="Times New Roman"/>
              </a:rPr>
              <a:t>Something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 collection of Computer Vision librari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n Source, grass roots effort, 53 developer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27920" indent="-280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Supported by good community, fast respons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++ with pragmatic use of templat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600k lines of code (over-estimat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.0 beta release, CV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idely porte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Research to Customer delive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Logo" descr=""/>
          <p:cNvPicPr/>
          <p:nvPr/>
        </p:nvPicPr>
        <p:blipFill>
          <a:blip r:embed="rId1"/>
          <a:stretch/>
        </p:blipFill>
        <p:spPr>
          <a:xfrm>
            <a:off x="4632480" y="898560"/>
            <a:ext cx="1463400" cy="5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o Use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rown Un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tholieke Universiteit Leuven, Belgiu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nchester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xford University, 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nsselaer Polytechnic Institut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University of Otago, New Zealan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-15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VXL Library Level Concept (Perera)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652320" y="5778720"/>
            <a:ext cx="6693120" cy="538920"/>
          </a:xfrm>
          <a:prstGeom prst="roundRect">
            <a:avLst>
              <a:gd name="adj" fmla="val 28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++  compatibi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38240" y="5733720"/>
            <a:ext cx="288720" cy="655560"/>
            <a:chOff x="138240" y="5733720"/>
            <a:chExt cx="288720" cy="655560"/>
          </a:xfrm>
        </p:grpSpPr>
        <p:sp>
          <p:nvSpPr>
            <p:cNvPr id="226" name=""/>
            <p:cNvSpPr/>
            <p:nvPr/>
          </p:nvSpPr>
          <p:spPr>
            <a:xfrm flipV="1">
              <a:off x="425520" y="573372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"/>
            <p:cNvSpPr/>
            <p:nvPr/>
          </p:nvSpPr>
          <p:spPr>
            <a:xfrm rot="16200000">
              <a:off x="-22320" y="595080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0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138240" y="4920840"/>
            <a:ext cx="288720" cy="655560"/>
            <a:chOff x="138240" y="4920840"/>
            <a:chExt cx="288720" cy="655560"/>
          </a:xfrm>
        </p:grpSpPr>
        <p:sp>
          <p:nvSpPr>
            <p:cNvPr id="229" name=""/>
            <p:cNvSpPr/>
            <p:nvPr/>
          </p:nvSpPr>
          <p:spPr>
            <a:xfrm flipV="1">
              <a:off x="425520" y="4920840"/>
              <a:ext cx="1440" cy="655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"/>
            <p:cNvSpPr/>
            <p:nvPr/>
          </p:nvSpPr>
          <p:spPr>
            <a:xfrm rot="16200000">
              <a:off x="-22320" y="513432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1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138240" y="1669680"/>
            <a:ext cx="288360" cy="3110040"/>
            <a:chOff x="138240" y="1669680"/>
            <a:chExt cx="288360" cy="3110040"/>
          </a:xfrm>
        </p:grpSpPr>
        <p:sp>
          <p:nvSpPr>
            <p:cNvPr id="232" name=""/>
            <p:cNvSpPr/>
            <p:nvPr/>
          </p:nvSpPr>
          <p:spPr>
            <a:xfrm flipH="1" flipV="1">
              <a:off x="421920" y="1669680"/>
              <a:ext cx="4680" cy="3110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lg" type="diamond" w="lg"/>
              <a:tailEnd len="lg" type="diamond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 rot="16200000">
              <a:off x="-22320" y="3164760"/>
              <a:ext cx="547920" cy="226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spAutoFit/>
            </a:bodyPr>
            <a:p>
              <a:pPr algn="ctr">
                <a:lnSpc>
                  <a:spcPct val="93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Times New Roman"/>
                  <a:ea typeface="HG Mincho Light J"/>
                </a:rPr>
                <a:t>level 2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34" name=""/>
          <p:cNvSpPr/>
          <p:nvPr/>
        </p:nvSpPr>
        <p:spPr>
          <a:xfrm>
            <a:off x="61563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imag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7815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numer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0524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geomet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5232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basic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27160" y="494676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u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tilit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781520" y="4273200"/>
            <a:ext cx="1204920" cy="34020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nl alg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652320" y="4137480"/>
            <a:ext cx="1204920" cy="538920"/>
          </a:xfrm>
          <a:prstGeom prst="roundRect">
            <a:avLst>
              <a:gd name="adj" fmla="val 287"/>
            </a:avLst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v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user interfa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42880" y="4024440"/>
            <a:ext cx="6948360" cy="1595160"/>
          </a:xfrm>
          <a:prstGeom prst="roundRect">
            <a:avLst>
              <a:gd name="adj" fmla="val 97"/>
            </a:avLst>
          </a:prstGeom>
          <a:noFill/>
          <a:ln w="9360">
            <a:solidFill>
              <a:srgbClr val="00b8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856640" y="4523760"/>
            <a:ext cx="90936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netli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853400" y="499212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tiff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64560" y="545076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p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7851600" y="5915880"/>
            <a:ext cx="909720" cy="340920"/>
          </a:xfrm>
          <a:prstGeom prst="roundRect">
            <a:avLst>
              <a:gd name="adj" fmla="val 389"/>
            </a:avLst>
          </a:prstGeom>
          <a:solidFill>
            <a:srgbClr val="2323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imes New Roman"/>
                <a:ea typeface="HG Mincho Light J"/>
              </a:rPr>
              <a:t>jpe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7767720" y="4408560"/>
            <a:ext cx="1106280" cy="1969920"/>
          </a:xfrm>
          <a:custGeom>
            <a:avLst/>
            <a:gdLst>
              <a:gd name="textAreaLeft" fmla="*/ 360 w 1106280"/>
              <a:gd name="textAreaRight" fmla="*/ 1105920 w 1106280"/>
              <a:gd name="textAreaTop" fmla="*/ 360 h 1969920"/>
              <a:gd name="textAreaBottom" fmla="*/ 1969560 h 1969920"/>
            </a:gdLst>
            <a:ahLst/>
            <a:rect l="textAreaLeft" t="textAreaTop" r="textAreaRight" b="textAreaBottom"/>
            <a:pathLst>
              <a:path w="21600" h="38457">
                <a:moveTo>
                  <a:pt x="31" y="0"/>
                </a:moveTo>
                <a:arcTo wR="31" hR="31" stAng="16200000" swAng="-5400000"/>
                <a:lnTo>
                  <a:pt x="0" y="38426"/>
                </a:lnTo>
                <a:arcTo wR="31" hR="31" stAng="10800000" swAng="-5400000"/>
                <a:lnTo>
                  <a:pt x="21569" y="38457"/>
                </a:lnTo>
                <a:arcTo wR="31" hR="31" stAng="5400000" swAng="-5400000"/>
                <a:lnTo>
                  <a:pt x="21600" y="31"/>
                </a:lnTo>
                <a:arcTo wR="31" hR="31" stAng="0" swAng="-5400000"/>
                <a:close/>
              </a:path>
            </a:pathLst>
          </a:custGeom>
          <a:noFill/>
          <a:ln w="9360">
            <a:solidFill>
              <a:srgbClr val="2323d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1174680" y="3114360"/>
            <a:ext cx="1206720" cy="73692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ac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activ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contou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1174680" y="2300040"/>
            <a:ext cx="1206720" cy="538200"/>
          </a:xfrm>
          <a:prstGeom prst="roundRect">
            <a:avLst>
              <a:gd name="adj" fmla="val 218"/>
            </a:avLst>
          </a:prstGeom>
          <a:solidFill>
            <a:srgbClr val="99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dbm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DBM-Estimato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076400" y="2103480"/>
            <a:ext cx="1411200" cy="1825560"/>
          </a:xfrm>
          <a:custGeom>
            <a:avLst/>
            <a:gdLst>
              <a:gd name="textAreaLeft" fmla="*/ 360 w 1411200"/>
              <a:gd name="textAreaRight" fmla="*/ 1410840 w 1411200"/>
              <a:gd name="textAreaTop" fmla="*/ 360 h 1825560"/>
              <a:gd name="textAreaBottom" fmla="*/ 1825200 h 1825560"/>
            </a:gdLst>
            <a:ahLst/>
            <a:rect l="textAreaLeft" t="textAreaTop" r="textAreaRight" b="textAreaBottom"/>
            <a:pathLst>
              <a:path w="21600" h="27941">
                <a:moveTo>
                  <a:pt x="24" y="0"/>
                </a:moveTo>
                <a:arcTo wR="24" hR="24" stAng="16200000" swAng="-5400000"/>
                <a:lnTo>
                  <a:pt x="0" y="27917"/>
                </a:lnTo>
                <a:arcTo wR="24" hR="24" stAng="10800000" swAng="-5400000"/>
                <a:lnTo>
                  <a:pt x="21576" y="27941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3168720" y="310500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r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obus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estim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502160" y="310644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cc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s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patial dat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structur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079800" y="3044880"/>
            <a:ext cx="2763720" cy="874800"/>
          </a:xfrm>
          <a:prstGeom prst="roundRect">
            <a:avLst>
              <a:gd name="adj" fmla="val 181"/>
            </a:avLst>
          </a:prstGeom>
          <a:noFill/>
          <a:ln w="9360">
            <a:solidFill>
              <a:srgbClr val="cc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199200" y="226836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trac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197760" y="1336320"/>
            <a:ext cx="1206360" cy="736920"/>
          </a:xfrm>
          <a:prstGeom prst="roundRect">
            <a:avLst>
              <a:gd name="adj" fmla="val 218"/>
            </a:avLst>
          </a:prstGeom>
          <a:solidFill>
            <a:srgbClr val="99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tin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HG Mincho Light J"/>
              </a:rPr>
              <a:t>registr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080040" y="1219320"/>
            <a:ext cx="1422360" cy="1882800"/>
          </a:xfrm>
          <a:custGeom>
            <a:avLst/>
            <a:gdLst>
              <a:gd name="textAreaLeft" fmla="*/ 360 w 1422360"/>
              <a:gd name="textAreaRight" fmla="*/ 1422000 w 1422360"/>
              <a:gd name="textAreaTop" fmla="*/ 360 h 1882800"/>
              <a:gd name="textAreaBottom" fmla="*/ 1882440 h 1882800"/>
            </a:gdLst>
            <a:ahLst/>
            <a:rect l="textAreaLeft" t="textAreaTop" r="textAreaRight" b="textAreaBottom"/>
            <a:pathLst>
              <a:path w="21600" h="28590">
                <a:moveTo>
                  <a:pt x="24" y="0"/>
                </a:moveTo>
                <a:arcTo wR="24" hR="24" stAng="16200000" swAng="-5400000"/>
                <a:lnTo>
                  <a:pt x="0" y="28566"/>
                </a:lnTo>
                <a:arcTo wR="24" hR="24" stAng="10800000" swAng="-5400000"/>
                <a:lnTo>
                  <a:pt x="21576" y="28590"/>
                </a:lnTo>
                <a:arcTo wR="24" hR="24" stAng="5400000" swAng="-5400000"/>
                <a:lnTo>
                  <a:pt x="21600" y="24"/>
                </a:lnTo>
                <a:arcTo wR="24" hR="24" stAng="0" swAng="-5400000"/>
                <a:close/>
              </a:path>
            </a:pathLst>
          </a:custGeom>
          <a:noFill/>
          <a:ln w="9360">
            <a:solidFill>
              <a:srgbClr val="99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596320" y="1795320"/>
            <a:ext cx="104328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pub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99"/>
                </a:solidFill>
                <a:latin typeface="Times New Roman"/>
                <a:ea typeface="HG Mincho Light J"/>
              </a:rPr>
              <a:t>internal public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552800" y="1649520"/>
            <a:ext cx="1020240" cy="73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Retina Projec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999cc"/>
                </a:solidFill>
                <a:latin typeface="Times New Roman"/>
                <a:ea typeface="HG Mincho Light J"/>
              </a:rPr>
              <a:t>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8275680" y="3784680"/>
            <a:ext cx="59040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v3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3</a:t>
            </a:r>
            <a:r>
              <a:rPr b="0" lang="en-GB" sz="1400" spc="-1" strike="noStrike" baseline="33000">
                <a:solidFill>
                  <a:srgbClr val="2323dc"/>
                </a:solidFill>
                <a:latin typeface="Times New Roman"/>
                <a:ea typeface="HG Mincho Light J"/>
              </a:rPr>
              <a:t>rd</a:t>
            </a:r>
            <a:r>
              <a:rPr b="0" lang="en-GB" sz="1400" spc="-1" strike="noStrike">
                <a:solidFill>
                  <a:srgbClr val="2323dc"/>
                </a:solidFill>
                <a:latin typeface="Times New Roman"/>
                <a:ea typeface="HG Mincho Light J"/>
              </a:rPr>
              <a:t> par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6479280" y="3448800"/>
            <a:ext cx="5828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co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99ff"/>
                </a:solidFill>
                <a:latin typeface="Times New Roman"/>
                <a:ea typeface="HG Mincho Light J"/>
              </a:rPr>
              <a:t>vxl cor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808800" y="2459160"/>
            <a:ext cx="1409040" cy="53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sp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cccc00"/>
                </a:solidFill>
                <a:latin typeface="Times New Roman"/>
                <a:ea typeface="HG Mincho Light J"/>
              </a:rPr>
              <a:t>Rensselaer librari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1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CL: compatibility layer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/C++ Standard library interfac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3P: 3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party librari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jpeg, png, tiff, netlib, mpeg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BL: Basics libra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mart pointers, arrays, sparse array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GL: Geometry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ints, lines, planes, conic sections, bounding boxes, polygons, region scan iterators, homogeneo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IL: Imag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age memory management, file I/O, convolution, pyramids, warp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294840" indent="-294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VNL: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Vectors, matrices, basic ops, SVD, QR, eigen syste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moeba, Brent, conjugate gradient, Levenberg Marquart, LBFGS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000" indent="-24552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olynomials, FFT (v3p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Core Level 2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IDL: video sequence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AVI, mpeg2, frame iterato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SL: coordinat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artesian, cylindrical, geographic, geodetic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anipulation opera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GUI: multi-platform, OpenGL based, GU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Simple and portable, or make use of native GU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Display image in 8 li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85800" y="151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in VXL GE Contrib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85800" y="15238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RL: Dense image match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TRL: Polygon triang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SOL: Connected Spatial Obje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ST: Simplified 2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DGL: Digital Geome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TOL: 1, 2 and 3D Topology repres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KLL: Kanade-Lucas_Tomasi feature track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MAL: Multi-View Line match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VD: Van-duc region find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How does GE Use VXL (GE Private)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85800" y="16002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ptical metrology for turbine blad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 detection, reconstructio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ultiple view image enhancement and superresolu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Registration, numeric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irway tracking in C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B-Splines, flexible template match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rveill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Particle filters, articulated object modeling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ipeline inspec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ultiple hypothesis tracking, Kalman filter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E Private, project bas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egmentation in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cently ported from TargetJr to VXL (Mundy, Brow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gion segmentation based on Van-duc edge detecto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Questions that should be answered in these slid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hat is in Target that is not in VX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s there anything in the C Standard Library or STL that is not in VCL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eed to improve the listing of what is available in contrib.  Next time ask the reflector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ere is VXL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m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vxl.sourceforge.ne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ashboard (continuous and nightly test build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cs.rpi.edu/research/vision/vxl/Testing/Dashboard/MostRecentResults-Nightly/Dashboard.htm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 Private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openge.crd.ge.com/projects/vx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cumentation (Doxygen, structured comments): </a:t>
            </a:r>
            <a:r>
              <a:rPr b="0" lang="en-US" sz="2800" spc="-1" strike="noStrike">
                <a:solidFill>
                  <a:srgbClr val="3333cc"/>
                </a:solidFill>
                <a:latin typeface="Times New Roman"/>
              </a:rPr>
              <a:t>www.isbe.man.ac.uk/public_vxl_do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story of CV Environments at GE (Mundy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457200" y="1143000"/>
            <a:ext cx="8686440" cy="5333760"/>
            <a:chOff x="457200" y="1143000"/>
            <a:chExt cx="8686440" cy="5333760"/>
          </a:xfrm>
        </p:grpSpPr>
        <p:sp>
          <p:nvSpPr>
            <p:cNvPr id="48" name=""/>
            <p:cNvSpPr/>
            <p:nvPr/>
          </p:nvSpPr>
          <p:spPr>
            <a:xfrm>
              <a:off x="457200" y="1708200"/>
              <a:ext cx="8686440" cy="476856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57200" y="1143000"/>
              <a:ext cx="8686440" cy="565200"/>
            </a:xfrm>
            <a:prstGeom prst="rect">
              <a:avLst/>
            </a:prstGeom>
            <a:solidFill>
              <a:srgbClr val="cccc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0" spc="-1" strike="noStrike">
                  <a:solidFill>
                    <a:srgbClr val="cc3300"/>
                  </a:solidFill>
                  <a:latin typeface="Tahoma"/>
                </a:rPr>
                <a:t>1975     1980    1985    1990    1995    2000</a:t>
              </a:r>
              <a:endParaRPr b="0" lang="en-US" sz="3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" name=""/>
          <p:cNvSpPr/>
          <p:nvPr/>
        </p:nvSpPr>
        <p:spPr>
          <a:xfrm>
            <a:off x="457200" y="1066680"/>
            <a:ext cx="8686800" cy="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752480"/>
            <a:ext cx="198108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VIP Fortran (Flex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neric Graphics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6765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0481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34340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6386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701028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267080" y="3505320"/>
            <a:ext cx="426744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TargetJr (C++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ahoma"/>
              </a:rPr>
              <a:t>Segmentation, 3d Modeling, Video, Feature Extra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8305920" y="1066680"/>
            <a:ext cx="0" cy="533520"/>
          </a:xfrm>
          <a:prstGeom prst="line">
            <a:avLst/>
          </a:prstGeom>
          <a:ln w="381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4876920"/>
            <a:ext cx="2590920" cy="60948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Understand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 </a:t>
            </a: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Environment (IU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413160" y="1523880"/>
            <a:ext cx="1616040" cy="7279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Geometer demo fail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star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72000" y="2603520"/>
            <a:ext cx="161604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argetJr Used in DARPA Resear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6400800" y="1523880"/>
            <a:ext cx="914400" cy="92232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rse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xford Leuve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324480" y="2819520"/>
            <a:ext cx="114300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cus Projec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105520" y="1828800"/>
            <a:ext cx="1143000" cy="6771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ray Metrolog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315200" y="5715000"/>
            <a:ext cx="1828800" cy="685800"/>
          </a:xfrm>
          <a:prstGeom prst="rect">
            <a:avLst/>
          </a:prstGeom>
          <a:solidFill>
            <a:srgbClr val="cc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VXL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simple, light!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162920" y="4495680"/>
            <a:ext cx="990360" cy="4827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Dynamic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629400" y="2514600"/>
            <a:ext cx="83808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XCV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1752480" y="2514600"/>
            <a:ext cx="2743200" cy="685800"/>
          </a:xfrm>
          <a:prstGeom prst="rect">
            <a:avLst/>
          </a:pr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Image Calc (SRI) Lisp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ecff"/>
                </a:solidFill>
                <a:latin typeface="Tahoma"/>
              </a:rPr>
              <a:t>Geometer (GE) Lisp</a:t>
            </a:r>
            <a:r>
              <a:rPr b="0" lang="en-US" sz="2000" spc="-1" strike="noStrike">
                <a:solidFill>
                  <a:srgbClr val="ccec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7696080" y="5351400"/>
            <a:ext cx="99072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VAC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7238880" y="3276720"/>
            <a:ext cx="1371600" cy="288360"/>
          </a:xfrm>
          <a:prstGeom prst="rect">
            <a:avLst/>
          </a:prstGeom>
          <a:solidFill>
            <a:srgbClr val="b2b2b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Light Gau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876920"/>
            <a:ext cx="1600200" cy="1171440"/>
          </a:xfrm>
          <a:prstGeom prst="rightArrow">
            <a:avLst>
              <a:gd name="adj1" fmla="val 67481"/>
              <a:gd name="adj2" fmla="val 33069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perato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09680" y="5305320"/>
            <a:ext cx="3353040" cy="866880"/>
          </a:xfrm>
          <a:prstGeom prst="rightArrow">
            <a:avLst>
              <a:gd name="adj1" fmla="val 67481"/>
              <a:gd name="adj2" fmla="val 93636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Object Modeling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aradig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57200" y="4038480"/>
            <a:ext cx="83808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447920" y="4038480"/>
            <a:ext cx="121896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DP-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362320" y="4495680"/>
            <a:ext cx="20574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Lisp Mach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95680" y="441972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Unix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400800" y="4184640"/>
            <a:ext cx="2514600" cy="313200"/>
          </a:xfrm>
          <a:prstGeom prst="rect">
            <a:avLst/>
          </a:prstGeom>
          <a:solidFill>
            <a:srgbClr val="9933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b2b2b2"/>
                </a:solidFill>
                <a:latin typeface="Tahoma"/>
              </a:rPr>
              <a:t>PC Platform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Why Common Environments? (Mund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ccumulation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asic librarie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seful algorithms endu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pplication delive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irect from research to applic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lab not vi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haring of eff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de/algorithm exchange between projec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Toolki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argetJr: Computer Vi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TK: Visualiz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K: Image Segmentation and Regi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tivation for VX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place TargetJr and IU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ulky, inconsistent interfaces, slow due to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ean, lightweigh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t interface to class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ding standard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rt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Portabilit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latforms: Windows, Solaris, IRIX, Linux, FreeBSD, OSF, Cygwin, PlayStation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s: Visual C++, gcc, MipsPro, aC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CL: Interface to “standard” libra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o RTTI, exceptions, nested classes, member templates 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Make: Cross-platform Make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www.cmake.or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shboard: Dart, 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</a:rPr>
              <a:t>public.kitware.com/Dar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hanging code base with fast response to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re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7" name=""/>
          <p:cNvCxnSpPr>
            <a:stCxn id="88" idx="1"/>
            <a:endCxn id="89" idx="0"/>
          </p:cNvCxnSpPr>
          <p:nvPr/>
        </p:nvCxnSpPr>
        <p:spPr>
          <a:xfrm flipH="1">
            <a:off x="840960" y="1009440"/>
            <a:ext cx="3193200" cy="5626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0" name=""/>
          <p:cNvCxnSpPr>
            <a:stCxn id="88" idx="2"/>
            <a:endCxn id="91" idx="0"/>
          </p:cNvCxnSpPr>
          <p:nvPr/>
        </p:nvCxnSpPr>
        <p:spPr>
          <a:xfrm>
            <a:off x="4571640" y="1161720"/>
            <a:ext cx="1220040" cy="7628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2" name=""/>
          <p:cNvCxnSpPr>
            <a:stCxn id="88" idx="3"/>
            <a:endCxn id="93" idx="0"/>
          </p:cNvCxnSpPr>
          <p:nvPr/>
        </p:nvCxnSpPr>
        <p:spPr>
          <a:xfrm>
            <a:off x="5110200" y="1009800"/>
            <a:ext cx="2358000" cy="8388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4" name=""/>
          <p:cNvCxnSpPr>
            <a:stCxn id="95" idx="2"/>
            <a:endCxn id="96" idx="0"/>
          </p:cNvCxnSpPr>
          <p:nvPr/>
        </p:nvCxnSpPr>
        <p:spPr>
          <a:xfrm>
            <a:off x="2971800" y="2000160"/>
            <a:ext cx="534240" cy="153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7" name=""/>
          <p:cNvCxnSpPr>
            <a:stCxn id="88" idx="2"/>
            <a:endCxn id="95" idx="0"/>
          </p:cNvCxnSpPr>
          <p:nvPr/>
        </p:nvCxnSpPr>
        <p:spPr>
          <a:xfrm flipH="1">
            <a:off x="2971080" y="1162080"/>
            <a:ext cx="1600920" cy="5342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98" name=""/>
          <p:cNvCxnSpPr>
            <a:stCxn id="95" idx="2"/>
            <a:endCxn id="99" idx="0"/>
          </p:cNvCxnSpPr>
          <p:nvPr/>
        </p:nvCxnSpPr>
        <p:spPr>
          <a:xfrm flipH="1">
            <a:off x="2107440" y="1999800"/>
            <a:ext cx="864360" cy="1659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0" name=""/>
          <p:cNvCxnSpPr>
            <a:stCxn id="91" idx="2"/>
            <a:endCxn id="101" idx="0"/>
          </p:cNvCxnSpPr>
          <p:nvPr/>
        </p:nvCxnSpPr>
        <p:spPr>
          <a:xfrm>
            <a:off x="5790960" y="2228400"/>
            <a:ext cx="165780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2" name=""/>
          <p:cNvCxnSpPr>
            <a:stCxn id="103" idx="4"/>
            <a:endCxn id="104" idx="0"/>
          </p:cNvCxnSpPr>
          <p:nvPr/>
        </p:nvCxnSpPr>
        <p:spPr>
          <a:xfrm flipH="1">
            <a:off x="4041360" y="2286000"/>
            <a:ext cx="1750320" cy="915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5" name=""/>
          <p:cNvCxnSpPr>
            <a:stCxn id="91" idx="2"/>
            <a:endCxn id="106" idx="0"/>
          </p:cNvCxnSpPr>
          <p:nvPr/>
        </p:nvCxnSpPr>
        <p:spPr>
          <a:xfrm>
            <a:off x="5791320" y="2228400"/>
            <a:ext cx="535680" cy="9723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7" name=""/>
          <p:cNvCxnSpPr>
            <a:stCxn id="91" idx="2"/>
            <a:endCxn id="108" idx="0"/>
          </p:cNvCxnSpPr>
          <p:nvPr/>
        </p:nvCxnSpPr>
        <p:spPr>
          <a:xfrm flipH="1">
            <a:off x="5788800" y="2228760"/>
            <a:ext cx="2520" cy="30823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09" name=""/>
          <p:cNvCxnSpPr>
            <a:stCxn id="91" idx="2"/>
            <a:endCxn id="110" idx="0"/>
          </p:cNvCxnSpPr>
          <p:nvPr/>
        </p:nvCxnSpPr>
        <p:spPr>
          <a:xfrm flipH="1">
            <a:off x="5184000" y="2228760"/>
            <a:ext cx="607320" cy="1070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11" name=""/>
          <p:cNvSpPr/>
          <p:nvPr/>
        </p:nvSpPr>
        <p:spPr>
          <a:xfrm>
            <a:off x="331920" y="2165400"/>
            <a:ext cx="910440" cy="91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c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st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cl_li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vcl_deque.h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2" name=""/>
          <p:cNvCxnSpPr>
            <a:stCxn id="103" idx="4"/>
            <a:endCxn id="113" idx="0"/>
          </p:cNvCxnSpPr>
          <p:nvPr/>
        </p:nvCxnSpPr>
        <p:spPr>
          <a:xfrm flipH="1">
            <a:off x="1755360" y="2285640"/>
            <a:ext cx="4036320" cy="1013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4" name=""/>
          <p:cNvCxnSpPr>
            <a:stCxn id="91" idx="2"/>
            <a:endCxn id="115" idx="0"/>
          </p:cNvCxnSpPr>
          <p:nvPr/>
        </p:nvCxnSpPr>
        <p:spPr>
          <a:xfrm flipH="1">
            <a:off x="612000" y="2228400"/>
            <a:ext cx="5179320" cy="9882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6" name=""/>
          <p:cNvCxnSpPr>
            <a:stCxn id="91" idx="2"/>
            <a:endCxn id="117" idx="0"/>
          </p:cNvCxnSpPr>
          <p:nvPr/>
        </p:nvCxnSpPr>
        <p:spPr>
          <a:xfrm flipH="1">
            <a:off x="2898000" y="2228400"/>
            <a:ext cx="2893320" cy="3180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18" name=""/>
          <p:cNvCxnSpPr>
            <a:stCxn id="91" idx="2"/>
            <a:endCxn id="119" idx="0"/>
          </p:cNvCxnSpPr>
          <p:nvPr/>
        </p:nvCxnSpPr>
        <p:spPr>
          <a:xfrm flipH="1">
            <a:off x="4422240" y="2228760"/>
            <a:ext cx="1369440" cy="309816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9320" y="3809880"/>
            <a:ext cx="660600" cy="5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rmdi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pl_uslee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345680" y="3832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mart point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arse array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4554360" y="3809880"/>
            <a:ext cx="1233720" cy="12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ints, l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ic sec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unding box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olyg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ion scan iterat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mogeneo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7620120" y="838080"/>
            <a:ext cx="1218960" cy="380880"/>
            <a:chOff x="7620120" y="838080"/>
            <a:chExt cx="1218960" cy="380880"/>
          </a:xfrm>
        </p:grpSpPr>
        <p:sp>
          <p:nvSpPr>
            <p:cNvPr id="124" name=""/>
            <p:cNvSpPr/>
            <p:nvPr/>
          </p:nvSpPr>
          <p:spPr>
            <a:xfrm>
              <a:off x="76201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691400" y="887400"/>
              <a:ext cx="107604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imes New Roman"/>
                </a:rPr>
                <a:t>GE Priv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5181480" y="1905120"/>
            <a:ext cx="1219320" cy="380880"/>
            <a:chOff x="5181480" y="1905120"/>
            <a:chExt cx="1219320" cy="380880"/>
          </a:xfrm>
        </p:grpSpPr>
        <p:sp>
          <p:nvSpPr>
            <p:cNvPr id="103" name=""/>
            <p:cNvSpPr/>
            <p:nvPr/>
          </p:nvSpPr>
          <p:spPr>
            <a:xfrm>
              <a:off x="5181480" y="190512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253120" y="19238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r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7" name=""/>
          <p:cNvGrpSpPr/>
          <p:nvPr/>
        </p:nvGrpSpPr>
        <p:grpSpPr>
          <a:xfrm>
            <a:off x="3962520" y="838080"/>
            <a:ext cx="1218960" cy="380880"/>
            <a:chOff x="3962520" y="838080"/>
            <a:chExt cx="1218960" cy="380880"/>
          </a:xfrm>
        </p:grpSpPr>
        <p:sp>
          <p:nvSpPr>
            <p:cNvPr id="128" name=""/>
            <p:cNvSpPr/>
            <p:nvPr/>
          </p:nvSpPr>
          <p:spPr>
            <a:xfrm>
              <a:off x="3962520" y="8380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033800" y="8568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2362320" y="1676520"/>
            <a:ext cx="1218960" cy="380880"/>
            <a:chOff x="2362320" y="1676520"/>
            <a:chExt cx="1218960" cy="380880"/>
          </a:xfrm>
        </p:grpSpPr>
        <p:sp>
          <p:nvSpPr>
            <p:cNvPr id="130" name=""/>
            <p:cNvSpPr/>
            <p:nvPr/>
          </p:nvSpPr>
          <p:spPr>
            <a:xfrm>
              <a:off x="2362320" y="16765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2433600" y="16952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3p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1498680" y="2146320"/>
            <a:ext cx="1218960" cy="380880"/>
            <a:chOff x="1498680" y="2146320"/>
            <a:chExt cx="1218960" cy="380880"/>
          </a:xfrm>
        </p:grpSpPr>
        <p:sp>
          <p:nvSpPr>
            <p:cNvPr id="132" name=""/>
            <p:cNvSpPr/>
            <p:nvPr/>
          </p:nvSpPr>
          <p:spPr>
            <a:xfrm>
              <a:off x="1498680" y="21463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569960" y="21650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png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2895480" y="2133720"/>
            <a:ext cx="1218960" cy="380880"/>
            <a:chOff x="2895480" y="2133720"/>
            <a:chExt cx="1218960" cy="380880"/>
          </a:xfrm>
        </p:grpSpPr>
        <p:sp>
          <p:nvSpPr>
            <p:cNvPr id="134" name=""/>
            <p:cNvSpPr/>
            <p:nvPr/>
          </p:nvSpPr>
          <p:spPr>
            <a:xfrm>
              <a:off x="2895480" y="2133720"/>
              <a:ext cx="1218960" cy="380880"/>
            </a:xfrm>
            <a:prstGeom prst="ellips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2966760" y="215244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netl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6858000" y="1828800"/>
            <a:ext cx="1219320" cy="380880"/>
            <a:chOff x="6858000" y="1828800"/>
            <a:chExt cx="1219320" cy="380880"/>
          </a:xfrm>
        </p:grpSpPr>
        <p:sp>
          <p:nvSpPr>
            <p:cNvPr id="136" name=""/>
            <p:cNvSpPr/>
            <p:nvPr/>
          </p:nvSpPr>
          <p:spPr>
            <a:xfrm>
              <a:off x="6858000" y="182880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6929640" y="184752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7" name=""/>
          <p:cNvGrpSpPr/>
          <p:nvPr/>
        </p:nvGrpSpPr>
        <p:grpSpPr>
          <a:xfrm>
            <a:off x="228600" y="1555920"/>
            <a:ext cx="1224000" cy="609480"/>
            <a:chOff x="228600" y="1555920"/>
            <a:chExt cx="1224000" cy="609480"/>
          </a:xfrm>
        </p:grpSpPr>
        <p:sp>
          <p:nvSpPr>
            <p:cNvPr id="138" name=""/>
            <p:cNvSpPr/>
            <p:nvPr/>
          </p:nvSpPr>
          <p:spPr>
            <a:xfrm>
              <a:off x="231840" y="155592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" y="157248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0" y="3200400"/>
            <a:ext cx="1224000" cy="609480"/>
            <a:chOff x="0" y="3200400"/>
            <a:chExt cx="1224000" cy="609480"/>
          </a:xfrm>
        </p:grpSpPr>
        <p:sp>
          <p:nvSpPr>
            <p:cNvPr id="140" name=""/>
            <p:cNvSpPr/>
            <p:nvPr/>
          </p:nvSpPr>
          <p:spPr>
            <a:xfrm>
              <a:off x="3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0" y="321696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p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POSIX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mpatibilit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1" name=""/>
          <p:cNvGrpSpPr/>
          <p:nvPr/>
        </p:nvGrpSpPr>
        <p:grpSpPr>
          <a:xfrm>
            <a:off x="1143000" y="3200400"/>
            <a:ext cx="1224000" cy="609480"/>
            <a:chOff x="1143000" y="3200400"/>
            <a:chExt cx="1224000" cy="609480"/>
          </a:xfrm>
        </p:grpSpPr>
        <p:sp>
          <p:nvSpPr>
            <p:cNvPr id="142" name=""/>
            <p:cNvSpPr/>
            <p:nvPr/>
          </p:nvSpPr>
          <p:spPr>
            <a:xfrm>
              <a:off x="1146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1143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b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bas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2286000" y="5310360"/>
            <a:ext cx="1224000" cy="609480"/>
            <a:chOff x="2286000" y="5310360"/>
            <a:chExt cx="1224000" cy="609480"/>
          </a:xfrm>
        </p:grpSpPr>
        <p:sp>
          <p:nvSpPr>
            <p:cNvPr id="144" name=""/>
            <p:cNvSpPr/>
            <p:nvPr/>
          </p:nvSpPr>
          <p:spPr>
            <a:xfrm>
              <a:off x="22892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22860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d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vide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3809880" y="5310360"/>
            <a:ext cx="1224000" cy="609480"/>
            <a:chOff x="3809880" y="5310360"/>
            <a:chExt cx="1224000" cy="609480"/>
          </a:xfrm>
        </p:grpSpPr>
        <p:sp>
          <p:nvSpPr>
            <p:cNvPr id="146" name=""/>
            <p:cNvSpPr/>
            <p:nvPr/>
          </p:nvSpPr>
          <p:spPr>
            <a:xfrm>
              <a:off x="381312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09880" y="5326920"/>
              <a:ext cx="1224000" cy="57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c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coordinat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ystem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5176800" y="5310360"/>
            <a:ext cx="1224000" cy="609480"/>
            <a:chOff x="5176800" y="5310360"/>
            <a:chExt cx="1224000" cy="609480"/>
          </a:xfrm>
        </p:grpSpPr>
        <p:sp>
          <p:nvSpPr>
            <p:cNvPr id="108" name=""/>
            <p:cNvSpPr/>
            <p:nvPr/>
          </p:nvSpPr>
          <p:spPr>
            <a:xfrm>
              <a:off x="5180040" y="531036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5176800" y="540900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ui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U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49" name=""/>
          <p:cNvSpPr/>
          <p:nvPr/>
        </p:nvSpPr>
        <p:spPr>
          <a:xfrm>
            <a:off x="2457720" y="5942160"/>
            <a:ext cx="83124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VI, mpeg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rame iterat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746880" y="5942160"/>
            <a:ext cx="13021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artesian, cylindric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eographic, geodet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ipul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168160" y="5942160"/>
            <a:ext cx="1201680" cy="84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ableau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ple and por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se of native GU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153280" y="5181480"/>
            <a:ext cx="228600" cy="144792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920"/>
              <a:gd name="textAreaBottom" fmla="*/ 1410480 h 1447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rot="16200000">
            <a:off x="8017200" y="5666760"/>
            <a:ext cx="12016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all Anyth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 rot="16200000">
            <a:off x="7907760" y="3532320"/>
            <a:ext cx="14684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Core Level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Each Independe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2438640" y="3886200"/>
            <a:ext cx="867960" cy="514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mmand li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rectori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ege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2286000" y="3200400"/>
            <a:ext cx="1224000" cy="609480"/>
            <a:chOff x="2286000" y="3200400"/>
            <a:chExt cx="1224000" cy="609480"/>
          </a:xfrm>
        </p:grpSpPr>
        <p:sp>
          <p:nvSpPr>
            <p:cNvPr id="157" name=""/>
            <p:cNvSpPr/>
            <p:nvPr/>
          </p:nvSpPr>
          <p:spPr>
            <a:xfrm>
              <a:off x="2289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2286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u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ut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9" name=""/>
          <p:cNvSpPr/>
          <p:nvPr/>
        </p:nvSpPr>
        <p:spPr>
          <a:xfrm>
            <a:off x="5914080" y="3809880"/>
            <a:ext cx="777960" cy="109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m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ag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ile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volu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yrami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rp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496320" y="3886200"/>
            <a:ext cx="1040040" cy="146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inary object I/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1" name=""/>
          <p:cNvGrpSpPr/>
          <p:nvPr/>
        </p:nvGrpSpPr>
        <p:grpSpPr>
          <a:xfrm>
            <a:off x="3429000" y="3200400"/>
            <a:ext cx="1224000" cy="609480"/>
            <a:chOff x="3429000" y="3200400"/>
            <a:chExt cx="1224000" cy="609480"/>
          </a:xfrm>
        </p:grpSpPr>
        <p:sp>
          <p:nvSpPr>
            <p:cNvPr id="104" name=""/>
            <p:cNvSpPr/>
            <p:nvPr/>
          </p:nvSpPr>
          <p:spPr>
            <a:xfrm>
              <a:off x="3432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3429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s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stream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4572000" y="3200400"/>
            <a:ext cx="1224000" cy="609480"/>
            <a:chOff x="4572000" y="3200400"/>
            <a:chExt cx="1224000" cy="609480"/>
          </a:xfrm>
        </p:grpSpPr>
        <p:sp>
          <p:nvSpPr>
            <p:cNvPr id="164" name=""/>
            <p:cNvSpPr/>
            <p:nvPr/>
          </p:nvSpPr>
          <p:spPr>
            <a:xfrm>
              <a:off x="457524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57200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g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geometr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5713560" y="3200400"/>
            <a:ext cx="1223640" cy="609480"/>
            <a:chOff x="5713560" y="3200400"/>
            <a:chExt cx="1223640" cy="609480"/>
          </a:xfrm>
        </p:grpSpPr>
        <p:sp>
          <p:nvSpPr>
            <p:cNvPr id="106" name=""/>
            <p:cNvSpPr/>
            <p:nvPr/>
          </p:nvSpPr>
          <p:spPr>
            <a:xfrm>
              <a:off x="5716440" y="3200400"/>
              <a:ext cx="121860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5713560" y="3299040"/>
              <a:ext cx="122364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i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ima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7" name=""/>
          <p:cNvSpPr/>
          <p:nvPr/>
        </p:nvSpPr>
        <p:spPr>
          <a:xfrm>
            <a:off x="6785280" y="3809880"/>
            <a:ext cx="1265760" cy="912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ectors, matric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VD, QR, eig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onjugate gradi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evenberg-Marqu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F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" name=""/>
          <p:cNvGrpSpPr/>
          <p:nvPr/>
        </p:nvGrpSpPr>
        <p:grpSpPr>
          <a:xfrm>
            <a:off x="6835680" y="3200400"/>
            <a:ext cx="1224000" cy="609480"/>
            <a:chOff x="6835680" y="3200400"/>
            <a:chExt cx="1224000" cy="609480"/>
          </a:xfrm>
        </p:grpSpPr>
        <p:sp>
          <p:nvSpPr>
            <p:cNvPr id="101" name=""/>
            <p:cNvSpPr/>
            <p:nvPr/>
          </p:nvSpPr>
          <p:spPr>
            <a:xfrm>
              <a:off x="6838920" y="3200400"/>
              <a:ext cx="1218960" cy="609480"/>
            </a:xfrm>
            <a:prstGeom prst="roundRect">
              <a:avLst>
                <a:gd name="adj" fmla="val 50000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835680" y="3299040"/>
              <a:ext cx="1224000" cy="41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Times New Roman"/>
                </a:rPr>
                <a:t>vn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numeric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8136000" y="3048120"/>
            <a:ext cx="228600" cy="1447560"/>
          </a:xfrm>
          <a:custGeom>
            <a:avLst/>
            <a:gdLst>
              <a:gd name="textAreaLeft" fmla="*/ 0 w 228600"/>
              <a:gd name="textAreaRight" fmla="*/ 82440 w 228600"/>
              <a:gd name="textAreaTop" fmla="*/ 37440 h 1447560"/>
              <a:gd name="textAreaBottom" fmla="*/ 1410120 h 14475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XL contrib hierarc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>
            <a:stCxn id="173" idx="3"/>
            <a:endCxn id="174" idx="1"/>
          </p:cNvCxnSpPr>
          <p:nvPr/>
        </p:nvCxnSpPr>
        <p:spPr>
          <a:xfrm>
            <a:off x="1147680" y="3409560"/>
            <a:ext cx="372240" cy="1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5" name=""/>
          <p:cNvCxnSpPr>
            <a:stCxn id="174" idx="3"/>
            <a:endCxn id="176" idx="1"/>
          </p:cNvCxnSpPr>
          <p:nvPr/>
        </p:nvCxnSpPr>
        <p:spPr>
          <a:xfrm flipV="1">
            <a:off x="2595600" y="1238400"/>
            <a:ext cx="753120" cy="21718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7" name=""/>
          <p:cNvCxnSpPr>
            <a:stCxn id="174" idx="3"/>
            <a:endCxn id="178" idx="1"/>
          </p:cNvCxnSpPr>
          <p:nvPr/>
        </p:nvCxnSpPr>
        <p:spPr>
          <a:xfrm flipV="1">
            <a:off x="2595600" y="2063520"/>
            <a:ext cx="753120" cy="13464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79" name=""/>
          <p:cNvCxnSpPr>
            <a:stCxn id="174" idx="3"/>
            <a:endCxn id="180" idx="1"/>
          </p:cNvCxnSpPr>
          <p:nvPr/>
        </p:nvCxnSpPr>
        <p:spPr>
          <a:xfrm flipV="1">
            <a:off x="2595600" y="2889000"/>
            <a:ext cx="753120" cy="5212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1" name=""/>
          <p:cNvCxnSpPr>
            <a:stCxn id="174" idx="3"/>
            <a:endCxn id="182" idx="1"/>
          </p:cNvCxnSpPr>
          <p:nvPr/>
        </p:nvCxnSpPr>
        <p:spPr>
          <a:xfrm>
            <a:off x="2595600" y="3409920"/>
            <a:ext cx="753120" cy="113112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3" name=""/>
          <p:cNvCxnSpPr>
            <a:stCxn id="174" idx="3"/>
            <a:endCxn id="184" idx="1"/>
          </p:cNvCxnSpPr>
          <p:nvPr/>
        </p:nvCxnSpPr>
        <p:spPr>
          <a:xfrm>
            <a:off x="2595600" y="3409560"/>
            <a:ext cx="753120" cy="195660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5" name=""/>
          <p:cNvCxnSpPr>
            <a:stCxn id="174" idx="3"/>
            <a:endCxn id="186" idx="1"/>
          </p:cNvCxnSpPr>
          <p:nvPr/>
        </p:nvCxnSpPr>
        <p:spPr>
          <a:xfrm>
            <a:off x="2595600" y="3409920"/>
            <a:ext cx="753120" cy="278208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cxnSp>
        <p:nvCxnSpPr>
          <p:cNvPr id="187" name=""/>
          <p:cNvCxnSpPr>
            <a:stCxn id="174" idx="3"/>
            <a:endCxn id="188" idx="1"/>
          </p:cNvCxnSpPr>
          <p:nvPr/>
        </p:nvCxnSpPr>
        <p:spPr>
          <a:xfrm>
            <a:off x="2595600" y="3409560"/>
            <a:ext cx="753120" cy="305640"/>
          </a:xfrm>
          <a:prstGeom prst="straightConnector1">
            <a:avLst/>
          </a:prstGeom>
          <a:ln w="38160">
            <a:solidFill>
              <a:srgbClr val="00cc99"/>
            </a:solidFill>
            <a:miter/>
          </a:ln>
        </p:spPr>
      </p:cxnSp>
      <p:grpSp>
        <p:nvGrpSpPr>
          <p:cNvPr id="189" name=""/>
          <p:cNvGrpSpPr/>
          <p:nvPr/>
        </p:nvGrpSpPr>
        <p:grpSpPr>
          <a:xfrm>
            <a:off x="0" y="3238560"/>
            <a:ext cx="1219320" cy="380880"/>
            <a:chOff x="0" y="3238560"/>
            <a:chExt cx="1219320" cy="380880"/>
          </a:xfrm>
        </p:grpSpPr>
        <p:sp>
          <p:nvSpPr>
            <p:cNvPr id="190" name=""/>
            <p:cNvSpPr/>
            <p:nvPr/>
          </p:nvSpPr>
          <p:spPr>
            <a:xfrm>
              <a:off x="0" y="3238560"/>
              <a:ext cx="121932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71640" y="3257280"/>
              <a:ext cx="107640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v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1447920" y="3238560"/>
            <a:ext cx="1218960" cy="380880"/>
            <a:chOff x="1447920" y="3238560"/>
            <a:chExt cx="1218960" cy="380880"/>
          </a:xfrm>
        </p:grpSpPr>
        <p:sp>
          <p:nvSpPr>
            <p:cNvPr id="192" name=""/>
            <p:cNvSpPr/>
            <p:nvPr/>
          </p:nvSpPr>
          <p:spPr>
            <a:xfrm>
              <a:off x="1447920" y="32385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1519200" y="32572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contrib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276720" y="6019920"/>
            <a:ext cx="1218960" cy="380880"/>
            <a:chOff x="3276720" y="6019920"/>
            <a:chExt cx="1218960" cy="380880"/>
          </a:xfrm>
        </p:grpSpPr>
        <p:sp>
          <p:nvSpPr>
            <p:cNvPr id="194" name=""/>
            <p:cNvSpPr/>
            <p:nvPr/>
          </p:nvSpPr>
          <p:spPr>
            <a:xfrm>
              <a:off x="3276720" y="601992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3348000" y="603864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tb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5" name=""/>
          <p:cNvGrpSpPr/>
          <p:nvPr/>
        </p:nvGrpSpPr>
        <p:grpSpPr>
          <a:xfrm>
            <a:off x="3276720" y="1066680"/>
            <a:ext cx="1218960" cy="380880"/>
            <a:chOff x="3276720" y="1066680"/>
            <a:chExt cx="1218960" cy="380880"/>
          </a:xfrm>
        </p:grpSpPr>
        <p:sp>
          <p:nvSpPr>
            <p:cNvPr id="196" name=""/>
            <p:cNvSpPr/>
            <p:nvPr/>
          </p:nvSpPr>
          <p:spPr>
            <a:xfrm>
              <a:off x="3276720" y="10666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348000" y="10854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br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276720" y="5194440"/>
            <a:ext cx="1218960" cy="380880"/>
            <a:chOff x="3276720" y="5194440"/>
            <a:chExt cx="1218960" cy="380880"/>
          </a:xfrm>
        </p:grpSpPr>
        <p:sp>
          <p:nvSpPr>
            <p:cNvPr id="198" name=""/>
            <p:cNvSpPr/>
            <p:nvPr/>
          </p:nvSpPr>
          <p:spPr>
            <a:xfrm>
              <a:off x="3276720" y="51944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348000" y="52131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rp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276720" y="2717640"/>
            <a:ext cx="1218960" cy="380880"/>
            <a:chOff x="3276720" y="2717640"/>
            <a:chExt cx="1218960" cy="380880"/>
          </a:xfrm>
        </p:grpSpPr>
        <p:sp>
          <p:nvSpPr>
            <p:cNvPr id="200" name=""/>
            <p:cNvSpPr/>
            <p:nvPr/>
          </p:nvSpPr>
          <p:spPr>
            <a:xfrm>
              <a:off x="3276720" y="271764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348000" y="273636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m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1" name=""/>
          <p:cNvGrpSpPr/>
          <p:nvPr/>
        </p:nvGrpSpPr>
        <p:grpSpPr>
          <a:xfrm>
            <a:off x="3276720" y="4368960"/>
            <a:ext cx="1218960" cy="380880"/>
            <a:chOff x="3276720" y="4368960"/>
            <a:chExt cx="1218960" cy="380880"/>
          </a:xfrm>
        </p:grpSpPr>
        <p:sp>
          <p:nvSpPr>
            <p:cNvPr id="202" name=""/>
            <p:cNvSpPr/>
            <p:nvPr/>
          </p:nvSpPr>
          <p:spPr>
            <a:xfrm>
              <a:off x="3276720" y="43689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3348000" y="43876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x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3" name=""/>
          <p:cNvGrpSpPr/>
          <p:nvPr/>
        </p:nvGrpSpPr>
        <p:grpSpPr>
          <a:xfrm>
            <a:off x="3276720" y="1892160"/>
            <a:ext cx="1218960" cy="380880"/>
            <a:chOff x="3276720" y="1892160"/>
            <a:chExt cx="1218960" cy="380880"/>
          </a:xfrm>
        </p:grpSpPr>
        <p:sp>
          <p:nvSpPr>
            <p:cNvPr id="204" name=""/>
            <p:cNvSpPr/>
            <p:nvPr/>
          </p:nvSpPr>
          <p:spPr>
            <a:xfrm>
              <a:off x="3276720" y="189216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3348000" y="191088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ge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3276720" y="3543480"/>
            <a:ext cx="1218960" cy="380880"/>
            <a:chOff x="3276720" y="3543480"/>
            <a:chExt cx="1218960" cy="380880"/>
          </a:xfrm>
        </p:grpSpPr>
        <p:sp>
          <p:nvSpPr>
            <p:cNvPr id="206" name=""/>
            <p:cNvSpPr/>
            <p:nvPr/>
          </p:nvSpPr>
          <p:spPr>
            <a:xfrm>
              <a:off x="3276720" y="3543480"/>
              <a:ext cx="1218960" cy="380880"/>
            </a:xfrm>
            <a:prstGeom prst="ellipse">
              <a:avLst/>
            </a:prstGeom>
            <a:solidFill>
              <a:srgbClr val="99cc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348000" y="3562200"/>
              <a:ext cx="1076040" cy="30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 anchorCtr="1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Times New Roman"/>
                </a:rPr>
                <a:t>oul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7" name=""/>
          <p:cNvSpPr/>
          <p:nvPr/>
        </p:nvSpPr>
        <p:spPr>
          <a:xfrm>
            <a:off x="3472920" y="1409760"/>
            <a:ext cx="88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Brown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5920" y="2235240"/>
            <a:ext cx="1116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GE Research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99400" y="3060720"/>
            <a:ext cx="1232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Manchester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3498480" y="3886200"/>
            <a:ext cx="834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tago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3457800" y="4711680"/>
            <a:ext cx="913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Oxford U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3435840" y="5537160"/>
            <a:ext cx="956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Renssela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602520" y="6362640"/>
            <a:ext cx="62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KU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532400" y="187632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Dense image matcher, polygon triangulation, connected spatial objects, digital geometry, KL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532400" y="10098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Video processing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532400" y="264168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3D images, PDFs, classific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4532400" y="51372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obust estim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32400" y="43689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Epipolar geometry, segment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32400" y="346716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Dense image matcher, polygon triangul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532400" y="5943600"/>
            <a:ext cx="43862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mage processing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GE Global Research</cp:lastModifiedBy>
  <dcterms:modified xsi:type="dcterms:W3CDTF">2003-02-13T19:56:58Z</dcterms:modified>
  <cp:revision>104</cp:revision>
  <dc:subject/>
  <dc:title>PowerPoint Presentation</dc:title>
</cp:coreProperties>
</file>