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06076"/>
        <c:axId val="98872820"/>
      </c:barChart>
      <c:catAx>
        <c:axId val="28906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2820"/>
        <c:crosses val="autoZero"/>
        <c:auto val="1"/>
        <c:lblAlgn val="ctr"/>
        <c:lblOffset val="100"/>
        <c:noMultiLvlLbl val="0"/>
      </c:catAx>
      <c:valAx>
        <c:axId val="98872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6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18-0B9B-4F68-B97A-DFF53431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ED5-47F4-4584-9F01-FF4A950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533-6201-4E41-BC3E-2DECF39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D8A-5CBB-4D35-B3C0-F076929E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31C-FAE6-4B20-A20C-E838739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EDB-CAFB-41DE-8731-3C8F77B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BEF-7252-42A7-AD7E-071AB9F6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CFB-6914-4CC5-8A24-09B4F0DE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99C-5666-471E-ACCE-EE82CEC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1B8-5C78-4662-BECD-4E992B88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B62-8D4F-49A1-BDEE-2F129A8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78B-49FA-42F5-BAD0-DDF1B86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9FF51-BCC7-4C67-97AB-D8623FAB19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