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23714"/>
        <c:axId val="5282881"/>
      </c:barChart>
      <c:catAx>
        <c:axId val="25823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2881"/>
        <c:crosses val="autoZero"/>
        <c:auto val="1"/>
        <c:lblAlgn val="ctr"/>
        <c:lblOffset val="100"/>
        <c:noMultiLvlLbl val="0"/>
      </c:catAx>
      <c:valAx>
        <c:axId val="5282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3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390-6953-4927-BC73-0EDB01B7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72F-C7CA-4F4F-9E78-295F2ADA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50A-9769-47FE-9A2A-1AA866B1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4DE-A364-43ED-BF1E-661C0F7A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B2A-CAAF-4B22-92E3-216C296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C71-23E3-4FDF-B6A3-C1132DD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1A1-843B-4B7A-B0EA-7724389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702-5C00-41AA-9EC5-80C9605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571-81E2-43D4-B1F5-AD80A9C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F0-5E12-4698-B55E-926405D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F4E-432F-4B31-BF28-ED61ABC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32C-9E0A-4459-B4C6-A7D8DF2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4A3F1-8A81-4583-8F46-82F69A320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