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81271"/>
        <c:axId val="24633087"/>
      </c:barChart>
      <c:catAx>
        <c:axId val="64681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33087"/>
        <c:crosses val="autoZero"/>
        <c:auto val="1"/>
        <c:lblAlgn val="ctr"/>
        <c:lblOffset val="100"/>
        <c:noMultiLvlLbl val="0"/>
      </c:catAx>
      <c:valAx>
        <c:axId val="24633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81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F03-A7A0-473A-98C6-937B0904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F49-09DF-4AED-88E8-5910E95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8CD-2829-4BB4-82A4-0756E73B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B7B-7FF3-41AA-9214-BAE495D1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DF6-590D-44ED-9553-F5ECDD0B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708-D783-47A8-9142-CB67F491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1A1-CF48-444F-9743-CFB45FC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6B7-2A8B-4063-A356-47041B80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8DA-0682-43EE-9356-664921C3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6BF-19DA-4BD0-BD39-A345F71E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084-1169-4191-99D8-BD19E61A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A34-1812-4987-99AA-64F1D752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6EE88-14B9-4D66-B6F9-E47DF3386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