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35873"/>
        <c:axId val="22539203"/>
      </c:barChart>
      <c:catAx>
        <c:axId val="59735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39203"/>
        <c:crosses val="autoZero"/>
        <c:auto val="1"/>
        <c:lblAlgn val="ctr"/>
        <c:lblOffset val="100"/>
        <c:noMultiLvlLbl val="0"/>
      </c:catAx>
      <c:valAx>
        <c:axId val="22539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35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962-31B3-4EEE-ADFD-AA0EF395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25B-DF2C-4B31-8D4B-C096C046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538-A18D-4120-9A43-CBDB5703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008-58BD-4F6F-8AE8-6013F9E0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3F5-A26B-4B6E-88A0-3BA3766A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467-86B0-4FC4-BE85-AC94C087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A9D-2CBC-44A5-B0AD-A9F52DA5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EF6-EECF-4DC6-9C78-5204361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3F8-AF78-4A78-9304-2FB913D2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15C-06E2-4DA0-990E-EA5B529D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75D-27FF-4C1D-9590-EB97C943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AD9-0516-403C-8F86-13D26B03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4E1C2-ABCE-4BF9-8C5E-DF4DDE62E2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