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5017"/>
        <c:axId val="12353124"/>
      </c:barChart>
      <c:catAx>
        <c:axId val="72885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3124"/>
        <c:crosses val="autoZero"/>
        <c:auto val="1"/>
        <c:lblAlgn val="ctr"/>
        <c:lblOffset val="100"/>
        <c:noMultiLvlLbl val="0"/>
      </c:catAx>
      <c:valAx>
        <c:axId val="12353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5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1F3-19A6-47EC-9B98-A3F50C55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F6A-F18C-4FA3-9048-9B8F0E8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7D-F813-41F2-B792-A0B6FB88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C81-3138-408D-9439-45F0E75B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E70-E754-4B5C-9D54-A778320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50B-4695-4706-97EF-CF4D6B6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0C3-6A40-40CD-9265-7E635F7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335-F736-4BE4-B4DF-BCAC1A71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BBD-499A-40F6-9F01-7A9D4CFB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309-9947-46B5-B437-9A002A6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073-7C25-4853-A40F-20A851C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B67-BB3C-40FB-AB0C-18CF93D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1C5A3-82FA-4DBC-ACBD-85490EDE6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