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12507"/>
        <c:axId val="85598975"/>
      </c:barChart>
      <c:catAx>
        <c:axId val="84212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8975"/>
        <c:crosses val="autoZero"/>
        <c:auto val="1"/>
        <c:lblAlgn val="ctr"/>
        <c:lblOffset val="100"/>
        <c:noMultiLvlLbl val="0"/>
      </c:catAx>
      <c:valAx>
        <c:axId val="85598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2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A97-B11A-4989-849E-6F1D56DD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62B-E369-4241-B08F-4E49E4C8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F64-A395-4821-9A18-F5C255B2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B66-C119-4866-877C-C0BF64D1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1BF-B049-4212-9C7B-2FBCDEE5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54A-7AFB-4ACD-984F-755200B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483-2FC3-4C6D-8DA9-FE97ED3C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478-A382-4E53-A0C0-A9058BA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2DE-8FF9-4946-B151-A60F149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D2F-88FA-4AA8-9488-4CF2FEE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8C3-41DE-43D4-9683-D0ED4BB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CD0-3087-43C5-A4AB-27B2A42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2574A-2168-4C4C-B5D3-F1DA2FE721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