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099787"/>
        <c:axId val="10231077"/>
      </c:barChart>
      <c:catAx>
        <c:axId val="330997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31077"/>
        <c:crosses val="autoZero"/>
        <c:auto val="1"/>
        <c:lblAlgn val="ctr"/>
        <c:lblOffset val="100"/>
        <c:noMultiLvlLbl val="0"/>
      </c:catAx>
      <c:valAx>
        <c:axId val="102310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997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682B-C3F7-45C0-97CA-4311B9152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194C-A552-40F7-968B-3C1A593C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3A5C-39E4-44CE-9F2F-AE468674A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8599-5516-462A-801A-149BE90AE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7F37-9AC6-4EEA-8C9D-C6ECE4AA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A4DA-95D3-45DB-9905-899D4CF9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2FFA-B9E4-4861-8F47-473FDC7B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615E-BF57-44B7-80C2-3FF4558B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513A-F48C-4B1B-8713-E4B8220E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EBF5-1963-4741-8942-A1099E57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B3F5-298B-43F8-B69C-5426897C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3C0F-E1C5-4320-9700-4D3E94F8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156C2-0A46-4E2F-A30F-110B95E36D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