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82985"/>
        <c:axId val="41086118"/>
      </c:barChart>
      <c:catAx>
        <c:axId val="83282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6118"/>
        <c:crosses val="autoZero"/>
        <c:auto val="1"/>
        <c:lblAlgn val="ctr"/>
        <c:lblOffset val="100"/>
        <c:noMultiLvlLbl val="0"/>
      </c:catAx>
      <c:valAx>
        <c:axId val="41086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2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A59-B2D4-4C2C-8D40-7A33AA41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DC5-22B4-4070-8603-381140F4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266-AB50-4FA6-BB61-7BEF679C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D01-F79F-411F-B359-8C4E9799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815-8F7C-42AF-B147-5D0C1832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639-127C-487E-8076-5038E140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BCC-4101-42D7-85B3-0E481F3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BD0-781E-4848-8CD4-3E630D7D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B38-840E-432A-9B1A-4AA9FAE7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C94-6C4A-4DF1-B90C-D3BBA81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EA3-4F01-4705-BC27-26B2BC18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8C0-5FC7-4412-8D44-C4034323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4F1BD-7223-4B8D-BA78-789D149460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