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1B997-AB34-45D7-8195-5F2CA8A04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4CD3B-F872-4D9F-B757-5EE472CCF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19C19-0626-43B0-B3F2-5829D5505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24CE3-E074-4E25-9A0E-39F5D4885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AE731-67BC-45A4-A0F7-2A5446523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D2FF8-1BC9-487E-B1C6-8C62F2015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661F3-374E-4DD5-A395-01B02B0A9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E458A-1B3E-489D-9DDD-39009F7DF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FD054-D0E3-45D7-A606-D5F580718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AB2BF-7119-48D3-829F-9400E4D45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48D20-8463-41CC-8605-69D008D61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CF2C5-76EC-4FC7-9611-C0D583F31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34239-333E-4ED2-9A24-778024C5B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DBD3B-38FC-4521-AB10-DD2CB57E0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A9703-0094-45F9-9A6B-BAADA5284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EA4CE-884F-4C13-9C15-6F4D60FF9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607C8-C6F7-4130-8CE9-55AB4C169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F5E9E-D608-41FF-83F1-8E1C589CE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6083B-02BF-4C98-B538-CF241FC2D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C53B0-B471-49DE-A2A7-7B832ABB4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AFD9E-0DF5-4EBA-9289-41E33B14D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88823-713E-4A55-B0C8-159F4F7E1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8F84E-D79C-409E-A85D-81F5D099A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C077C-0826-4013-A46D-4A8C88F9C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D2FC0-9984-41AC-BAA0-77EF564EB34A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90480" y="3340080"/>
            <a:ext cx="7653600" cy="48564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D866C-174A-4998-93B7-ED60E30F5AC6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4c2b"/>
                </a:solidFill>
                <a:latin typeface="Times New Roman"/>
              </a:rPr>
              <a:t>Least Square Fitting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33"/>
                </a:solidFill>
                <a:latin typeface="Times New Roman"/>
              </a:rPr>
              <a:t>finding the best fitting curve to a given set of points</a:t>
            </a:r>
            <a:r>
              <a:rPr b="0" lang="de-DE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1763640" y="3429000"/>
            <a:ext cx="4924440" cy="14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4c2b"/>
                </a:solidFill>
                <a:latin typeface="Times New Roman"/>
              </a:rPr>
              <a:t>Least Square Fitting (Linear)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755640" y="1773360"/>
                <a:ext cx="208764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r>
                                  <m:t xml:space="preserve">a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684360" y="2421000"/>
                <a:ext cx="453528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a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a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bx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∧</m:t>
                    </m:r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b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a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bx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725400" y="3244680"/>
                <a:ext cx="4381560" cy="36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b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∧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x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b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755640" y="4005360"/>
                <a:ext cx="4680000" cy="3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an</m:t>
                    </m:r>
                    <m:r>
                      <m:t xml:space="preserve">−</m:t>
                    </m:r>
                    <m:r>
                      <m:t xml:space="preserve">b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∧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a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−</m:t>
                    </m:r>
                    <m:r>
                      <m:t xml:space="preserve">b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700200" y="4797360"/>
                <a:ext cx="2274840" cy="63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r>
                                <m:t xml:space="preserve">n</m:t>
                              </m:r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</m:mr>
                          <m:mr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sSup>
                                        <m:e>
                                          <m:r>
                                            <m:t xml:space="preserve">i</m:t>
                                          </m:r>
                                        </m:e>
                                        <m:sup>
                                          <m:r>
                                            <m:t xml:space="preserve">2</m:t>
                                          </m:r>
                                        </m:sup>
                                      </m:sSup>
                                    </m:sub>
                                  </m:sSub>
                                </m:e>
                              </m:nary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4c2b"/>
                </a:solidFill>
                <a:latin typeface="Times New Roman"/>
              </a:rPr>
              <a:t>Least Square Fitting (3 Dimensions)</a:t>
            </a:r>
            <a:endParaRPr b="0" lang="en-US" sz="4000" spc="-1" strike="noStrike">
              <a:solidFill>
                <a:srgbClr val="004c2b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590400" y="1773360"/>
                <a:ext cx="18288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r>
                                  <m:t xml:space="preserve">a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cz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611280" y="2421000"/>
                <a:ext cx="61722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a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a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bx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cz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∧</m:t>
                    </m:r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b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a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bx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cz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∧</m:t>
                    </m:r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c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a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bx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cz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611280" y="3174840"/>
                <a:ext cx="5702040" cy="25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b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z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∧</m:t>
                    </m:r>
                    <m:r>
                      <m:t xml:space="preserve">−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b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z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∧</m:t>
                    </m:r>
                    <m:r>
                      <m:t xml:space="preserve">−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b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z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684360" y="3933720"/>
                <a:ext cx="7416720" cy="27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an</m:t>
                    </m:r>
                    <m:r>
                      <m:t xml:space="preserve">−</m:t>
                    </m:r>
                    <m:r>
                      <m:t xml:space="preserve">b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−</m:t>
                    </m:r>
                    <m:r>
                      <m:t xml:space="preserve">c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∧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b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−</m:t>
                    </m:r>
                    <m:r>
                      <m:t xml:space="preserve">c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∧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z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b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−</m:t>
                    </m:r>
                    <m:r>
                      <m:t xml:space="preserve">c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533520" y="4797360"/>
                <a:ext cx="3101760" cy="92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r>
                                <m:t xml:space="preserve">n</m:t>
                              </m:r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</m:mr>
                          <m:mr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sSup>
                                        <m:e>
                                          <m:r>
                                            <m:t xml:space="preserve">i</m:t>
                                          </m:r>
                                        </m:e>
                                        <m:sup>
                                          <m:r>
                                            <m:t xml:space="preserve">2</m:t>
                                          </m:r>
                                        </m:sup>
                                      </m:sSup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sSup>
                                        <m:e>
                                          <m:r>
                                            <m:t xml:space="preserve">i</m:t>
                                          </m:r>
                                        </m:e>
                                        <m:sup>
                                          <m:r>
                                            <m:t xml:space="preserve">2</m:t>
                                          </m:r>
                                        </m:sup>
                                      </m:sSup>
                                    </m:sub>
                                  </m:sSub>
                                </m:e>
                              </m:nary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4c2b"/>
                </a:solidFill>
                <a:latin typeface="Times New Roman"/>
              </a:rPr>
              <a:t>Least Square Fitting (4 Dimensions)</a:t>
            </a:r>
            <a:endParaRPr b="0" lang="en-US" sz="4000" spc="-1" strike="noStrike">
              <a:solidFill>
                <a:srgbClr val="004c2b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116000" y="4043520"/>
                <a:ext cx="4392720" cy="13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r>
                                <m:t xml:space="preserve">n</m:t>
                              </m:r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</m:mr>
                          <m:mr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sSup>
                                        <m:e>
                                          <m:r>
                                            <m:t xml:space="preserve">i</m:t>
                                          </m:r>
                                        </m:e>
                                        <m:sup>
                                          <m:r>
                                            <m:t xml:space="preserve">2</m:t>
                                          </m:r>
                                        </m:sup>
                                      </m:sSup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sSup>
                                        <m:e>
                                          <m:r>
                                            <m:t xml:space="preserve">i</m:t>
                                          </m:r>
                                        </m:e>
                                        <m:sup>
                                          <m:r>
                                            <m:t xml:space="preserve">2</m:t>
                                          </m:r>
                                        </m:sup>
                                      </m:sSup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sSup>
                                        <m:e>
                                          <m:r>
                                            <m:t xml:space="preserve">i</m:t>
                                          </m:r>
                                        </m:e>
                                        <m:sup>
                                          <m:r>
                                            <m:t xml:space="preserve">2</m:t>
                                          </m:r>
                                        </m:sup>
                                      </m:sSup>
                                    </m:sub>
                                  </m:sSub>
                                </m:e>
                              </m:nary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1187280" y="2254320"/>
                <a:ext cx="4392720" cy="83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r>
                                  <m:t xml:space="preserve">a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cz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v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09T07:36:10Z</dcterms:created>
  <dc:creator>epsi</dc:creator>
  <dc:description/>
  <dc:language>en-US</dc:language>
  <cp:lastModifiedBy>Customer</cp:lastModifiedBy>
  <dcterms:modified xsi:type="dcterms:W3CDTF">2005-05-07T18:16:01Z</dcterms:modified>
  <cp:revision>13</cp:revision>
  <dc:subject/>
  <dc:title>Trend Cyclic</dc:title>
</cp:coreProperties>
</file>