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8637"/>
        <c:axId val="4430034"/>
      </c:barChart>
      <c:catAx>
        <c:axId val="7158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0034"/>
        <c:crosses val="autoZero"/>
        <c:auto val="1"/>
        <c:lblAlgn val="ctr"/>
        <c:lblOffset val="100"/>
        <c:noMultiLvlLbl val="0"/>
      </c:catAx>
      <c:valAx>
        <c:axId val="4430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8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495-68F4-4C51-8C1D-2422847F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B03-3606-4CF2-AD21-D8B3C240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99D-9441-4581-8DD3-B8D7A6E5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3CF-D7DA-4EA1-B837-C0B7C9FA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B13-94FB-4D10-9571-38C48CF2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84B-E441-4B00-B611-BBEB68FC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13DF-A348-458B-9FE0-62213F84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A58-3442-440C-9B98-59F0DDD0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3F9-4A65-4083-B245-7E7B6C1E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F36-3786-40B5-8C75-0F26A464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C0E-F9F6-4515-A5A6-3C36136B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E8B-329C-4062-939E-12BF89A1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A41DE-6BE5-4B1E-BE44-14CD87DE18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