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39073"/>
        <c:axId val="65954863"/>
      </c:barChart>
      <c:catAx>
        <c:axId val="863390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54863"/>
        <c:crosses val="autoZero"/>
        <c:auto val="1"/>
        <c:lblAlgn val="ctr"/>
        <c:lblOffset val="100"/>
        <c:noMultiLvlLbl val="0"/>
      </c:catAx>
      <c:valAx>
        <c:axId val="65954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390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211-5DE0-4948-A6A7-8845F6D6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3CE-C3C9-4D75-97A6-AE684E22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672-E557-4549-8EC4-2ACB42F7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AAD-F5BA-44EA-9838-8BCA0144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4B8-5B16-4B85-B305-32775A4D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DBF-0E85-4DD2-989C-076DD50E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ACE-ABCA-4165-B844-CCC427C5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4A9-1C37-4257-82B1-059B7988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14DB-B7FC-4D38-B1F5-CB81DFD0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26C-E4C2-4ECE-8713-32257C9D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193-1097-4BC7-B39D-1F1251A2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61C-74E1-49FB-A481-2CD7E3CE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B73EF-2A90-422D-871C-892F4428C7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