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10344"/>
        <c:axId val="73445536"/>
      </c:barChart>
      <c:catAx>
        <c:axId val="39910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45536"/>
        <c:crosses val="autoZero"/>
        <c:auto val="1"/>
        <c:lblAlgn val="ctr"/>
        <c:lblOffset val="100"/>
        <c:noMultiLvlLbl val="0"/>
      </c:catAx>
      <c:valAx>
        <c:axId val="73445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0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D2A-756A-47CD-9AD6-3CF54C5A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A75-5D31-4AD5-9AF3-DA1C87C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8AD-89BD-4D8D-A5F1-6DE314E5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5A4-6245-4119-AEBE-353717BD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FD4-CDED-44A6-9283-87646856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6F8-080E-49ED-8EE6-B1802EF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92D-6684-4AB0-9E1C-A190FE1A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6BE-D237-43E5-AAE1-9E3FD786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0F1-A61E-4CA2-BE10-50A091C7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F81-0B8C-4DEE-9E15-B6A9A13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6A4-CDCD-424E-92A5-B0F196B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9D6-F7CA-4257-A7D0-4000B4A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708F-DB0E-4D1D-8497-80D59053E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