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25962"/>
        <c:axId val="89131262"/>
      </c:barChart>
      <c:catAx>
        <c:axId val="76425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31262"/>
        <c:crosses val="autoZero"/>
        <c:auto val="1"/>
        <c:lblAlgn val="ctr"/>
        <c:lblOffset val="100"/>
        <c:noMultiLvlLbl val="0"/>
      </c:catAx>
      <c:valAx>
        <c:axId val="89131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25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D1E-4C7E-4D93-8973-54465AA4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444-20A0-410A-912F-F7168A3E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BEB-0A2B-48CE-A9F0-FCA8C47C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89E-BC1D-4A15-99E6-897BBEE2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FC9-7E89-4CB4-B3C1-C92E6A99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485-F093-4B8D-979B-DC0ECD30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017-111C-44EA-ABB9-99FCEE36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06B-E262-4329-A9BF-0B55315B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A57-2152-4CBD-8504-CD4032CE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BB2-1D8F-41E0-B326-6CA4EE30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C72-165B-480A-9C87-21DCAF09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F59-479F-4745-BA47-6595AF12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11726-26A3-4BC5-8713-801F13505A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