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49050"/>
        <c:axId val="83376207"/>
      </c:barChart>
      <c:catAx>
        <c:axId val="2644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76207"/>
        <c:crosses val="autoZero"/>
        <c:auto val="1"/>
        <c:lblAlgn val="ctr"/>
        <c:lblOffset val="100"/>
        <c:noMultiLvlLbl val="0"/>
      </c:catAx>
      <c:valAx>
        <c:axId val="83376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4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925-343B-4816-BEDB-18B37503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B97-0A11-4E0F-9575-2CAF774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959-E15C-4D72-B9AB-A580BBD2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F0B-9179-4C79-BB56-504C243C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C93-738E-49E1-83C1-C9E035E6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C3D-8E60-491A-8CF3-58A1F4A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A9C-2ACD-4E45-A667-855DE9B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4A2-A026-4AC0-B9AF-4E370C3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206-9141-42DC-9D1D-12FCBD53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A8C-D103-4E68-84EC-D1A81A3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7FD-5EAE-4F74-861D-B11AD9F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E93-42A0-4678-9084-75ADEF7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554BD-E06B-451D-93B4-76CE88035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