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428816"/>
        <c:axId val="25965911"/>
      </c:barChart>
      <c:catAx>
        <c:axId val="442881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965911"/>
        <c:crosses val="autoZero"/>
        <c:auto val="1"/>
        <c:lblAlgn val="ctr"/>
        <c:lblOffset val="100"/>
        <c:noMultiLvlLbl val="0"/>
      </c:catAx>
      <c:valAx>
        <c:axId val="2596591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2881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74A1B-56C1-4691-8BCF-FCC3E7C63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D0F00-D192-40D6-80DA-AB8CA526A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13E6D-4AFD-41D7-9830-CB0022946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C67F9-8B1A-42EF-BDA3-9BB103BDC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37688-4C9E-4B19-AB1C-863F8D65E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441E2-D69F-4BCC-BDCB-8A3FE623A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E9B09-0D8E-45DC-997C-2105D3BC6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8E402-EE5C-4137-ACE7-F9D9F1CEE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2FD72-90E5-49FA-9F7E-1195D66D4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84A9F-7371-4D2E-9133-36D97A1C5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6D064-E10A-4FCC-BE12-B3E6ECEE7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D7421-AA82-4936-9644-FD28D123B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78932A-52C5-4E63-856A-50096EAD48E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