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887684"/>
        <c:axId val="53019639"/>
      </c:barChart>
      <c:catAx>
        <c:axId val="378876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19639"/>
        <c:crosses val="autoZero"/>
        <c:auto val="1"/>
        <c:lblAlgn val="ctr"/>
        <c:lblOffset val="100"/>
        <c:noMultiLvlLbl val="0"/>
      </c:catAx>
      <c:valAx>
        <c:axId val="530196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876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55C3-E6A8-4404-99A8-513039B0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8E06-415F-4F10-AE0A-569ABC7C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5DC-9786-4CF5-BB00-A410FE3EB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63F-A23E-4D31-B01D-162E7D52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120-9121-41BE-B289-8841194E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E5F-D262-45E8-8B08-66CE0E56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D761-9D17-4008-B08B-31E8B7AF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6A2-FB91-423E-80B0-D817AE15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102-BEC7-4553-9BD6-7D503423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5F1B-9448-409B-BACA-BB6CA78A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DAD-36B6-47B2-ACA7-4A39347B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2098-2B5D-4645-94BC-39242C59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DB073-7F58-4A38-A3E8-985B77002B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