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30977"/>
        <c:axId val="17445287"/>
      </c:barChart>
      <c:catAx>
        <c:axId val="51430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45287"/>
        <c:crosses val="autoZero"/>
        <c:auto val="1"/>
        <c:lblAlgn val="ctr"/>
        <c:lblOffset val="100"/>
        <c:noMultiLvlLbl val="0"/>
      </c:catAx>
      <c:valAx>
        <c:axId val="174452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30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6ED-80C3-43C0-BADE-A40B1623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0179-4ED7-4F5C-9312-29FC0322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44B-7175-47EC-BF61-61DC6554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149-A124-427D-A745-320E3DBF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1D0-8904-482A-8C9F-E0B9BA22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D60-635E-4A78-AE92-C5D8B486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4FA-1A14-4599-A763-C92F8E60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1D8-25EF-4C76-A227-25981C1F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CD0-8300-47ED-B9F8-B6887D1A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0007-ABA8-4042-B695-D6A13E37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435-C382-421B-B615-4605EDB2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F958-0C91-4DB6-BD30-0AA35819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FCA87-AB35-40B8-B4F4-75F3B763EA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