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9DD1DF42-266A-4EA4-81B3-011297F74D29}"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D336667-7FDD-46AA-939C-008C6EE0A2D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2F219D25-0555-4571-A392-4698B37DC3E4}"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8ACC2F6-4474-46A4-82AC-4D8922713E68}"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B83B61-F6BD-4DCC-B438-871372EC066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EC072A6-70BF-4DEC-B05E-7DF9C34F658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615D62D-CF7B-47DC-B2D5-7A5733BD5DB4}"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1854318-828D-46C9-BF3B-165FB16BFC0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1C701F38-F1A3-4D80-B221-44E9DECA546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4717F23-5070-4B53-A0D6-9B548002D44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82450182-D8D8-4B43-AE91-1B5B8F73AAF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85F5473-60FB-4421-BC53-99AE89C9694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79DEB19-B353-470F-9D87-9398D8DBA001}"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D31FC271-BFF6-47CD-BD9F-5E51218D85C7}"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E9DF6342-6A04-4113-A13A-F56C623A8DD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126F8811-7337-49BB-979F-66CD330D0E91}"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3A6C4DC-FB90-4845-A4D2-64474041B2C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F48C70A6-233F-4E76-A73E-C0AC0092044A}"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795FE61E-FCC2-4E86-9EDE-AD8F4B02794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409AE87D-9E36-46F9-AAC6-5723EA1236B8}"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683D9E63-6E28-4C95-9B3F-5920522291E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947C5C9A-4536-45D5-A974-D9FFBA798359}"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EA6D4B0-4291-4F9B-950E-2028A4C46CB8}"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D90AA5F-2CFD-438A-BF29-77E4D3A2BA5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73FE184F-5067-4035-966D-F9737E86D5FB}"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23BA015-B8DF-465D-B3C0-824758A5C4EF}"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8374A348-F6A3-4996-ADD7-E515B56B5D8C}"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ED3A03-D236-44DE-B454-DE821A87CD6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D1AC2267-4CA5-43FD-B345-EE249D16789F}"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DB2BB60-7B10-42CE-808A-C561FDE693A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64072E2-5117-4D75-8912-CA9AD326823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1FE8DA-C144-4C79-839B-5B8A2C5BF16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298841AF-AC94-407A-9690-F78538B925DB}"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9F8735E-134D-48F4-91D7-4F80DAB19630}"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AE749CEC-B6DB-44DE-AC18-B7FDF90A061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560DEE7-2935-4D08-B78A-DDA6EEC3984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85B920-EA62-4FA4-A37C-E7D7CD751653}"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2C0FE04F-EFC7-4033-A0AC-1D512CEBCC6A}"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7D60F3B5-3BF5-4DCE-A3F6-C028B694FDF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240453DB-2C5F-4885-9088-26FB4EF8CE8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7BFC0F8-CC87-4A0B-B353-A05CE11F8A52}"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490903B-7176-4182-B4DD-551DBE29C41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0C80C6FF-FCFF-434B-AB0E-B0F0FDFD082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B4FA3AB1-431E-47ED-9B93-2B558E89B02D}"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190A1453-1C39-4476-9F26-20B76CF90E52}"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7534B257-1B73-48F9-984D-2E5EFBB4C231}"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F206FA-E5C2-4EBA-84FC-3FC5954813E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40733B19-7C11-4472-9871-2DE074C9F4DF}"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63FB235-6DF7-4340-AB45-6688AF0DDC4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C3348920-C7F5-4551-A939-9089B17F203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B4D6A9DF-0B13-4DE2-B589-3D1F9A8F9FB5}"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1F9214A6-6601-43DA-AEC5-E0EA1EECE7A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6C341E38-66C0-48AF-8186-A84E55E6A48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B9563F4-59E5-4015-A037-0942D66E6E3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741FE4C-CF1A-49D1-BE05-C3CC95E03E85}"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DA4CF8E-16F1-45D6-A4E9-504358D0BFC2}"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F079AD0E-3EF4-4056-876C-72A02DEDB839}"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26BC590-BE22-4C12-97F8-D411420A19F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FA745E0C-6718-41C6-A139-9DF3E17A592E}"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B5C7B93-D850-4A5E-953E-E6A41F815DA3}"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C7F1D412-5045-4271-B854-0ED8E9FF1C13}"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244700D-28AC-4DF7-95B8-5320EEBBD05D}"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FC6381B-51F7-4AF6-9D7C-D8154174086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8AA69C9E-6748-4553-9D36-5F7108DF949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CFDC63F-E6CE-485F-BD42-02E5207C174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1DB4E73-53E8-47EC-B1C5-A4E39FA5693B}"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904DCE91-AC2B-4222-866A-715C10832F2E}"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611DD85-8264-42D3-9740-09CAAE5F640C}"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63CC51E-9816-46E0-9D64-B7CDA1B2A27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BBF3F270-237A-4982-BBE5-FAAB4191684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40875461-E93E-4AA4-88F2-FAC080A8D3ED}"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FB44EF2D-470F-488D-AF6D-50BBCFBAC1D3}"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6B2ED37A-6F0B-400C-B37E-8E23ABCF9766}"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B2E3E7-C965-4E99-ACDF-4AF0A394CE72}"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40556E09-4F4C-4F61-9E54-A18EBD7ED3D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952F9125-7FE5-4421-9E3D-C68DE8BDA78B}"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91D69F8F-62EC-42F5-B7A5-93555EB0A193}"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B7C7A9BE-C8DC-42D8-B88D-F70C212C2C45}"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D20B6BE5-7930-42D9-AC23-F682F5CA8B0B}"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28D6CEE-C120-4E1B-89BC-21B8299CA1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F517B92-F369-44C4-A6F7-6DF22B56FCBB}"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94A526C-0243-489F-9B93-354873765827}"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20CBEC77-F99C-4D59-B843-E47B0BBFDAFA}"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907FC3F-6A6C-401F-A323-8A702FC683E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C04F4029-5A2D-446A-A6B3-ECE76AFE5085}"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3F1F74B-52B2-4666-B7BD-06C2D63D3F60}"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3E6F6459-7A6C-4A82-BADF-C593AD4CC8AA}"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3D415913-35F9-4530-B44A-1EB3A5CC796F}"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0B8DD9D3-02E1-4DF5-B477-B0348281DACC}"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5A52DE5C-A8F5-4C82-B9FC-0C162D9CE5B5}"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0C8F6C78-CA6B-45A3-BD1E-EE34ADD56B5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6489018-4D4E-456C-A806-2E8ED77A8A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B22FDBC5-1B1F-4D89-95D7-F563E50F1F19}"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C15A244-64B1-4B3D-B2E3-CFA1BD564F7D}"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29B7D25-B8BC-4EA8-9833-D9AD500ACFCE}"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F67A138E-7CD5-47AA-AAD1-B811D60CD79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8790BCA7-217B-4C91-B680-DCCA0049030A}"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B9C73352-E563-42A3-86A5-8E87D6559F22}"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2027E400-DC31-4BE0-A0EC-2681F011E5C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16153A85-3F9B-4772-8DA3-1FBA3F7AA6F9}"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2566B79-1F4C-48C1-8402-2C5D95084566}"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AE275FFF-9D5C-4BAB-8B32-A7FC28851D0A}"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5727ED1E-1A2F-4025-8D9C-AC53D3D967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D4E479A-D913-4FE4-BB4D-69B400C32DC9}"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41FBF3CC-F084-4A77-8825-073C1C4E34A4}"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6E2E38C7-7510-4E28-8268-78524033A627}"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AB3E2A6D-3A02-484B-8D34-D0878D3B4C09}"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25C7A69C-1073-49DD-AD18-3F3B8A0FCF15}"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9978F289-6028-4941-A592-C67CD68D2F9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99E033E3-1FB5-4D89-BED2-43E4175F89F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D16CB517-C9CD-4C7D-899F-DBE8B60BDC1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05DF38F-4DEB-442B-9F14-931581E8ABD6}"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119F697C-3D06-4CF2-A544-C7A7D5A42BC4}"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91458CC2-4791-464D-A81A-BCDF5B48FDB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35D20A5-1400-4FF1-89AC-98C8E2439808}"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BE705E4D-DE11-4EDC-AB3E-F69632CBA6C6}"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AA4F294-94E9-4C8C-BB29-C8D8E6D7FE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F2235285-6488-4690-A055-0EC9D8172F6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69982CD-A610-487E-A967-5B81C61AA612}"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58E9710-4CF1-457C-ADE2-E4FA8C4E7DA4}"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ABA611C-0294-403B-A586-1F0D8BC162E7}"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BDC94642-46B5-483F-9801-B0FB890D59C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4BB2662-F0EF-4935-98BD-888AC65137D4}"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CEE7C267-EC99-4051-8CF5-4FDF552A52C8}"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1C540604-E397-4B24-BF34-8371666C65DE}"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F697919C-841F-4CAA-B44D-B91BFE99308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C5F0CCA-5F4C-4931-AA7B-A712F131022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798443F-DE6F-4686-8623-672016A964D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5FB2E6B-15C0-4E25-A547-7A82F1E6983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CFE7280-B367-4EEF-A7C5-DBD4B399F905}"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2D5FB0-0D10-41A7-8569-0F71BC063ED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24FA5DE-E65F-4295-B199-60217929891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1D5D547-0AB9-477D-95CE-334EE07B2EAA}"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DAC2207-DCA6-4DA2-872B-9914B392AEA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2A8E877-58F3-4CAD-AFA8-30B031B809D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4CF8A97-947F-4E42-AA1A-272F65DA455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C56F045-E208-4403-B6DF-13738278A57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F65A9C2-3F50-45FD-AB89-726979EF8A2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D7D6A4BE-F902-48BB-8D5C-CC0550FBBC1C}"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EEF1CC26-3078-4579-98CF-331EAC90F592}"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685918C-C56D-41AD-A257-39741067D5B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B01836-EA1D-4400-83D9-7BF01940BC3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26ABB20-215A-4F2B-8A5A-BDADB2F8497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A6F39A6-254B-40D3-9B51-7372964DAED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E1C91540-AE49-4449-8567-C4D1EEFCA68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E60098B1-ED4C-49FA-97BC-1DC92B10B93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145DE1C-2208-4EE8-B210-07C494A8C6D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9B0B61A-CBC3-4AEC-8797-B3A47771EC6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F35E26D1-9A28-4659-B65A-0F380D25BF8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12D015F-1036-4AA0-AAB6-6A404DF1126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386FB042-3F32-412B-9F44-634857483D2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62ADF414-591F-4FC2-BE8E-62268EAD92C2}"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25D96A8-DF3E-444B-9101-6DB28104504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7E8C4F3-F424-4CB0-A7CD-E09CA1299029}"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3C1F3198-D50D-4385-B04C-EA0837838AE3}"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2097436-2BC1-4366-B87C-CE39615858D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FFE1390-ED25-41DA-A22B-058793FAE2BD}"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CADCCE-47C4-4AFA-9838-490CD9918E6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4DE2905-4610-4587-BA86-DC8B5D247DB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8D0E8682-0E5E-4A16-9CEA-FBD38EB81FCD}"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9EC0826-A154-4F3D-A5C2-FBE45DE2FA9C}"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D78D653-7F82-43FB-B1D3-EA6E4A44C1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A3C7A61-ED73-4048-A779-C5A70B660A86}"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69446A-8858-4A94-B9CA-696E0A4FBB3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229AF5A-7CCD-4C59-97D1-ADE738D508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582B516B-D818-4BD5-98F4-982D2B9560C5}"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1E554664-03F4-48EC-A829-00BD9CD2AF12}"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C16F2C2-1AC0-472A-8277-4E9FAEE96633}"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40A7869-DD68-4CB9-B76E-091172436C85}"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684EF061-138E-4725-8013-69CAF4631BC2}"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32F57DA0-1F45-49A0-9DE9-6F79F3A763A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F13AD5A-0F82-416F-B9EC-F480972D140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423411B-DD0F-4E2C-AD85-E2AAC215CB4D}"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1695299B-A285-4238-A02B-F5097FAE547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8B5E45A-1353-47DE-AFDB-3EF68C2DF77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B9C1C54-BEC5-4830-B6D9-EB49ADEBDC30}"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79D6609C-5789-42A5-A2D7-80C355D6AE8C}"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DA6E22-CD78-4422-BA5A-607786EDEE1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73C24EBB-8B72-429C-8A2C-BD43B063A6D7}"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9E0423AD-D673-4CC7-A264-4E0335A6143F}"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72B330C6-83B2-4E43-83B0-0717B6F1B9A9}"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2FCEC531-5063-4DFC-BD25-A4AB7CAF528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8BE1D60-77B7-4271-9F5A-3263BAF7AE98}"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1ADB258F-7FB8-4B04-9C62-51B60BB5B5B5}"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DB0DC2D-2853-40E6-876F-BB27D4AAE2D9}"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31CC59-9611-4C38-88D7-3A82C0EDD06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0C3E706E-9D45-4636-B8DD-8E8AD54EE176}"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8884F37-20EB-4C9A-8D99-9CDD0C06159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765F3C8-6C12-47AC-BE7D-213F3D6620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1E77177-8997-4827-92ED-25E258C8C47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A957105A-3778-4494-89A2-20313D6643A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742DB606-96E7-4DF0-9C64-8783C51624A6}"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C66E3B84-9BAD-4C0E-875F-89EC5D3AD00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719F6E3A-C036-4208-8B5E-51A9BCA256C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66655A3E-60FE-49E7-B297-16218BD13522}"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05751886-F715-4407-962F-204327D1F897}"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17774B96-1EF7-4DEE-97C3-45DC455089FB}"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1C5E197-5372-4402-9DD3-FE83A78D22D4}"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F2856A9-BB7E-4049-8633-C43CC6B0562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9F2D2E6-17B7-4544-B875-CB5BF7294EF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81736F2-9C89-47E9-8797-D512175DD33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0B4EB598-983F-4F94-813E-B4AC8D7FEC7B}"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E073552-AACC-441D-9C4F-5512B632EA2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D2DC0E46-088D-43E9-8185-8C564FFCF867}"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ABAA484-FF04-4D3F-B844-6F8AD7CF495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CA119C8-9741-4DEE-A499-F1258EB5D455}"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7011CEC-9112-4746-9B99-021D43B96603}"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1475CBF5-91D3-4290-8123-4858F4F9EB8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A93FE0E-BD0C-4F15-B129-1C762E1EB96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DD6D0F4-8A72-4B81-AF38-A5BA99D8D5C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71FED1D9-82C3-4131-AACF-D2DB8CC2C91C}"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91D5F1-835B-419B-BED8-AD9D9D67E41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