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24116"/>
        <c:axId val="221869"/>
      </c:barChart>
      <c:catAx>
        <c:axId val="40724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869"/>
        <c:crosses val="autoZero"/>
        <c:auto val="1"/>
        <c:lblAlgn val="ctr"/>
        <c:lblOffset val="100"/>
        <c:noMultiLvlLbl val="0"/>
      </c:catAx>
      <c:valAx>
        <c:axId val="221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4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7F1-2AC0-4BCA-B90A-88ED8F45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A4D-858F-494B-8AED-983B8482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261-91AC-4E06-A3A3-AD99559B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73E-1186-456E-8E88-82115A5E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7B8-13EC-4B35-9969-1B365FD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B4A-D64D-4CE2-96D2-CC34386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93C-6BA8-45C9-BB7A-7B01ABD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18C-9A0D-4BE2-9597-7BAA0CF9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9A6-4172-4EEF-B659-D7C3637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824-F54C-4EEC-8B6C-A801C20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DC7-CA9D-475B-909C-B05176D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CA1-0B63-4404-9EE0-2E878C3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077D-F522-4723-82E8-AC868D54C6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