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97210"/>
        <c:axId val="29291292"/>
      </c:barChart>
      <c:catAx>
        <c:axId val="79097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91292"/>
        <c:crosses val="autoZero"/>
        <c:auto val="1"/>
        <c:lblAlgn val="ctr"/>
        <c:lblOffset val="100"/>
        <c:noMultiLvlLbl val="0"/>
      </c:catAx>
      <c:valAx>
        <c:axId val="29291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97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8D8-DB65-4A8C-A815-5EA8B72F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B19-7080-42A4-AF48-D88C8703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A0E-27F3-4610-8624-6D366F8D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F0A-136D-4279-9BD8-DC79622E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E6C-0853-405D-AB5D-59692B2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A95-FE84-44BC-AF61-E47DEE2F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4C2-8100-4A4B-98E1-FBF95279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117-069E-44AE-B13F-B5662DC8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8E0-C3D2-468E-B853-9BC7BEAD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C2B-859E-4857-9ADC-9531F44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E2F-0D1D-4B7A-80E4-01D3E0B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BB3-9E03-4CA8-BA61-8570CCC8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83C66-7969-41A4-9E32-7F822DFEC6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